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8FB2-8803-4E92-91BE-6C88CC6A4B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D16-5F33-4319-AA5D-740CF680D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BA8-6305-4248-B57A-2F8C9C20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BC0-AC1D-4A64-946A-F8D7489C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67ACD-FCBB-4FBC-BA84-C0DAB4B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6ADA3-5F30-4CA7-8C87-637DA400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BD81D-8EFA-4D4B-B3EB-E1B5C9AF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E77E8-3237-429A-ACEE-22F6E3BD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4F058-4697-4CE0-8BF4-DA83FA0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ECD4E-753D-4A38-8FB8-D2A9D9F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442B3-F372-4C9B-B6ED-FE1674B4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901C7-B934-4DF2-A902-E06CF574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1D383-0ED5-4BB9-95D5-2CC5241D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470E2-E128-46E6-9AC4-EEDEFC54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55D-8B20-493D-9FEB-41CC3531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E135B-A193-4B91-AD81-C5C6D3F0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F5220-EB48-4F4D-AEF0-900B7A00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EA5BF-8D8E-4A08-AA0E-9F99B7B4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FB049-9EF3-4FE3-98F5-86F53477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8D6B7-CDD5-4F5F-9BBF-B51C176F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6D823-696D-43EA-9E02-46137027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EF5BA-CDBE-4117-9EBA-68CD31F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4E0A3-419B-4A0B-8260-6B3DFDF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9A57A-DD31-4CFD-8904-41D44115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9BE32-E034-4730-AEAE-BB4571A5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2F4-BFA4-4A14-A959-49B6EEBA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01BE4-BC5A-410D-88A5-18942074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7BC8F-DDD7-4F20-B915-D7FF2472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66C5E-5449-4556-9672-B860A43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7944A-064A-4A64-A150-CA584E7C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6E766-EE2C-4FB1-8D20-F4E564B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1052F-5AEE-4739-A1AE-C909A410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E203B-F581-4ADF-BBE4-7704E848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4BAB0-3DAD-4A49-A0A2-AD44F5A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68F33-C9D3-48E2-A58C-0715342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EBFAF-B699-4721-BBD6-8134CB7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94DB-6C5B-4876-9EF2-EBA8512D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E6A82-6B96-4D44-BAAF-73615F80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E6E93-B0ED-4FB5-BF47-228852E6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5C51C-3BB1-4134-88DC-826C1510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3EB70-B5C1-45D0-B45F-8912A86C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96925-D0A5-42B0-8AF5-74019FBB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5554E-8DE7-4C18-923E-5DAD29D1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163B1-D256-4E36-983D-D9E19B33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2F1A1-A5D9-4946-9B45-427CEE5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F75D7-6CD6-46B1-9536-DC04C5F4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2AC8E-E113-401A-9AAE-9CE5713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1F52-C90B-46CD-B06E-D25755AC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96A92-CA7E-4124-B766-7F89A54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D4D5A-D86E-4AD0-9841-FDF7F1E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11BDB-1FFF-4A68-8CE3-FA8F8D61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B01F3-C3F2-4CAB-A437-13BD450F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81B87-6F9E-4060-BF8E-46EFEC02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26310-1F8F-431E-8F9B-814A632B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99F2C-2B90-436F-9849-A415C10B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9F293-1AD3-4EDA-9126-A85E2BCB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166C7-83FE-4B89-B650-4AD1F82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6FFB3-AE32-440E-B034-AD762833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D542-90C2-4EEE-ACCD-2B615A30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2C539-652A-4B50-A9B8-D853B2C8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1E166-A588-4ACC-BE0E-CC2357B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FADB1-3BED-49E0-A2DA-0CDE3D4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BD28C-A546-4533-9630-23340FC7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FC381-73F9-419B-9EDB-13165490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8A24F-690E-45B1-8FF3-CC8523B1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DD94D-AD7A-486E-A2FF-19A7862F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30612-839A-4800-B77B-6D929708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289BD-17EE-4D26-80DE-64D55BF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445BE-F781-42F7-A9B3-093B8549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A8A6-5346-45DC-9CF0-C3EF6AC2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D62CD-55BE-49EA-9612-61D5D597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26363-A2D2-4171-9ECC-07BFE049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1A96B-6FE1-4AAF-9E4E-DF83885C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29D60-6964-4440-983C-6386815D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D428D-94FB-4B4E-BA8B-7DBCCE0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586F7-5B0D-4D1C-9B18-C41D0B5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73267-C999-4A5A-A782-B6F2A44C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86103-7B09-4113-B295-076D79DB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F3FFF-9881-481F-B3E0-CB509A4C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429B3-2558-416E-971F-DF96E1E5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F870-664C-4AA5-B8F7-23180A2F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482C0-9481-4596-AD9D-2B8A30B3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EC7BB-C91F-4A52-89CA-5EEA319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6B6CC-1703-4026-A647-2EC39C10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780A4-F1C2-4B0B-9180-1523FE00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FF17D-E888-40C4-BA3F-3E659F6F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E92D5-429A-402A-96D9-46860EE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9882B-835C-4466-A7B2-CABFE58C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FBCD3-736E-494A-96C2-698CB1F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D9B2E-BA7A-4D4A-A0AE-1E100333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B7180-9DC2-4114-B695-B9F97A06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29D8-4380-4787-A622-B040F1EB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1ACBB-13DC-4330-B868-55F4D278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A801A-2A11-4D54-A5E1-C7E15EF6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C262F-B937-4E6F-9765-90F9D4F6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6E790-90C0-43E0-AE56-C3709609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595C5-168A-4789-8108-926E88E1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06725-57A5-49D9-BBA4-322CC71E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F941B-FCA3-4E90-B59A-577CB313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23073-A841-4BAB-919B-19FF3D8F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8D264-007C-408E-B8A5-5682C322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E9258-9FD0-4945-A383-B19D11BF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0C6E-882A-45C3-9754-A355634B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274EC-3579-41A9-829F-E6695540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3EBF9-38BB-482A-9806-5BDF6412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E467B-DD9E-4F53-9F2F-06828F9E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39768-7921-4423-B3C9-C5B34F63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1599F-8642-4456-B616-9EBB4F25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4BA0A-CB9D-4F0F-AF4F-E648E8AE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F74FE-6B27-44B4-8E1F-3AF3816F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767B2-5557-4457-B47B-1C23741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FDE21-55D7-401E-9730-062B1543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B9358-3909-4CCE-B42F-8B96A2F3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075-B687-4388-9DDF-EE3A98D0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41CE-565B-4B6A-A191-E51BA26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60B1C-FE08-4056-9624-2CB59E0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9D5D2-D637-45E5-85D0-EEDD1CEE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D61DB-5F38-48B3-B4BC-2575F6EB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D2F17-0C36-4B61-88DB-E47CEDBE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67010-525D-430A-944E-8D914871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0E362-5A98-4B73-BD4D-C945D401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0537A-F528-45E7-9634-0604D9FE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4CD0C-8616-4EA2-A76D-2F2A73A7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388EE-8630-44C9-95F8-35C1A7F9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05D93-BE33-46B7-86B4-480D1FA7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158C-511D-425A-9F96-11CFB11B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B41241-26F6-40D9-BAA3-39659393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7B942-D60B-4205-B6BF-4DC48AF8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5EABD-75E5-4DFC-AB98-C78DAF7A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EE9AF-485C-447E-8225-4D394381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CB3B1-FA83-4781-B4FE-F62D168A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C89F5-EF84-4713-9B7F-8FA5155E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AD2B2-32AE-4100-BB1E-0DD09A26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BBD91-97E8-403C-A28B-D248866A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ADFE4-A625-4297-BC30-F96C641B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19D34-5167-4DA4-9018-006B4420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0745-C993-4F5B-B514-F3942731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6DAAA-045A-48B6-BA03-932D7631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E337A-8C2D-4704-8830-FF829FA8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951C5-933D-4056-B424-652EDBD3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341DD-AF3D-4428-BB14-91632F34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591F8-8B10-40FA-B757-21E4108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6130AA-B514-4179-BFDB-016F9600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982C9-26BB-4E9C-9CD5-E95815B6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71370-79FC-48CC-87E6-18D1C90E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0865B-9F22-42A4-8DFD-AF073072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BEA58-38C1-47C1-8D83-C19BC327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D383-1CE0-4D5D-885B-0D261EE6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0645F-2135-478B-B44B-E59114FF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E52392-6BCD-4F76-B056-DB823726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2CDC1-E0CF-4E47-B49F-8FB68979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27529-14CA-4AEC-98F6-028561AA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189B3-D3A4-41C3-BAF4-9FC3237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6383C-2187-4D9A-B24C-15D2A14A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4F9EC4-6AA6-4D31-980C-F4D93FA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8E74FB-554D-4DF2-9E71-05F233E2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1D8A9-9E28-4B9D-83D1-0D64E246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BA61E6-E47B-4016-A1B3-6CC906C1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76F4-EAF5-4ED4-AD3C-E6813329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C4885-A612-45A9-AE02-CDCDA706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BC644-1AD7-439B-BC7C-74D4E253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0248F-FC2E-4FB4-A28E-ED19418F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8C459D-D39D-4FF2-A40B-392100CC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395D6D-0B30-43EF-839C-DFF1F8D4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8384D-6781-4A3A-B0FC-F170512B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5972E4-EC99-40D4-9556-649C1446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9965F3-3AC2-4EAE-8B58-4789581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5DA32-8BF1-40E5-B263-5206C5B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B93194-7E3C-454C-89B3-F7944C66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D092-F296-4025-B2A0-5C96E2E5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9F290-0698-489B-B48C-B902E835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D8387B-88D0-4192-8538-0B269812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DD7C6C-27F5-4832-A444-71CD50AC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8B7216-0A9A-4E1B-BAA9-C5DDB87A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63919-D86B-4DA8-8079-DB9DB0E4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3274FE-ACBA-45CC-9A1B-E58129D4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9E2915-4CF9-402F-BE9A-0269FABB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F1DC4-80A4-4931-8639-4FC8A7A7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03AF4F-70DF-4446-93D7-9A48C90A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DB164-5D3D-4152-ADE0-CDD5703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947D-ABB7-451A-9B9C-3E156DBA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C075D-E19C-4F64-8289-D4F69E1C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9FB312-2F7B-42F9-993C-B2F719F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868020-85DC-4BDC-80AD-F8E692E4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C6114-9A50-40ED-8440-2A63031D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48D403-EBEA-4FA0-9E0A-0F626DD7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7D97AF-11B5-4340-9D9B-BACD3295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9FE149-2FA3-4B53-BFF3-2376D6EC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774E9B-A45E-47C6-B1D8-D30B4680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4FAC78-1B35-456B-85F6-45C86E5C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8A2468-E8D9-44F4-9D1C-3E81C012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86DE-843F-4D5B-BFC3-3170F531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4D62A7-596A-4A6B-99D7-FC1940DC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D00FD1-5EA1-46A2-9823-F56D0A64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DE8A3A-0936-4CD0-8F13-0DD028D4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E05852-562D-4DD6-80F1-75B8CCFA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38AD57-61BD-4869-B364-DF840E2E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1CFA4E-26A5-4C8B-A5B0-208BBD4A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C086EC-8CDF-4FA6-A6A7-A03BF8B1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735B21-84A9-4721-A80D-17B6B245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361DDB-1DC3-4A1B-8790-92AC1EE6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B69E82-1631-4AC6-9464-1E045D93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8D686-470F-4EDD-844D-A874639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F47CE7-58E4-4217-A80E-4149E9A4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A548F2-5266-4AE9-87EC-B98312C3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49CA7A-638B-4A1F-992C-828613DC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EC48D6-1DE7-4F0C-A0E9-CDCF5D7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789B29-C2E6-4DCD-90FB-90F6092B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9D6AA5-75D3-4FD2-B7B0-8E6219F6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8829FF-989D-4BF7-9080-A9978D30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47A131-964F-4F3F-B35C-23DBCFFB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B89F1F-4AD5-463F-88E6-ABDDF14D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4535-D990-428D-93D0-72BA826D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41B-7D1E-41F7-8F9A-01898BE0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DE49-F5C3-4D93-BB19-C6E96868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15C7-605D-4BA0-A3AE-7999E83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007B-C0B3-4769-A05F-D73524FA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6649-EEB0-4601-9814-D6840886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73F4-3E17-4C1D-8A3E-81AB8E7C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7097-51E8-4FE4-B138-1748F0B6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2BB4-ACE2-406F-9036-5FAAFA3E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7697C-58F3-405F-BCA1-FC75D745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0F52-51E8-42E0-A125-EC3D16D2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55FC-9034-4BCB-9EF3-92A4096A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F33-9A59-4BD2-87CB-F312C9E0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7CD1-7B19-4568-8760-33511243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CA4F-6C06-42D3-9C6C-3E7DB090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C726-80DA-4147-A63C-0FFD8EDF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341D-1992-47F5-AE4B-A930FE1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21D60-C12B-492A-ACFB-F227FB3C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6013F-0E34-4869-B772-D4B01E1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F4333-DF7C-4F35-B503-D8E270EA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A925A-12E2-436E-820A-E632014F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9580C-F07A-4E60-88A7-F73DF968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E3C15-4D60-4E70-92DD-FD9C28C1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3D9-D495-47F8-94C3-26D62A5D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CFEA-A22C-45E0-91D7-BE6544C4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E62DD-DB19-4EB7-ACD0-1C9F56E8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3330-CB6A-4189-986B-61787E40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8715B-B384-41E2-8015-730ADFA8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3FC55-3713-4DB9-BF01-76F39215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8495-9A59-4E19-9EE0-BB8EDBE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D1BC9-3EA4-499D-A05F-263A659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D0D1-C152-4708-8C74-76B3F6F0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65253-D4E9-42EF-ACDF-5346D3A7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05D0-C9F6-4E55-B7AA-03A79182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C3D-09E0-41F3-A1AE-9C4059D1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3DD23-CD69-475E-B16D-421CA053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E937C-7C0F-43CA-9170-D828987A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34302-BDE4-471E-ACAA-9DDE485F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78ACB-D2C9-4174-AB4A-4ECF2012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7381-03A9-4CA3-BB5C-4138B21B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DFF58-B346-45F7-86AB-BCC3F102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2431F-2C2A-451B-9693-D6AAEAD0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4E032-C565-4BAC-86F1-6E09E2E9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B6722-1931-43AB-B36D-464ECFA8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8EA91-8DED-4D50-B684-7AB0B1E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67E-2757-4E0E-BDE4-3C71E20F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E668B-48ED-41D9-B2EE-9A509914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CBDE0-1784-42F8-9C62-FEF1A77D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39550-A950-43B0-8BCC-5E3060FB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55A6C-60C9-4DCA-A35A-789749E7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A46E9-2D11-47C8-923F-87520DEA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B68A-45E8-4250-BD1E-35FAB68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2E453-3D3C-4C0C-BD57-F0B16C48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12A4-8043-4857-8CED-9DE6ED8E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AA3F4-653F-4056-9BEF-8677CBE6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3A61-94A1-4250-8891-4CAAE3EA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521-BCF5-4491-AD4C-FBBCF62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283A0-366B-4B3D-B14C-8B77798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2449-FEBC-4F88-A782-F385EF67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675A2-7BAC-476A-A4F3-ABB39275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0CFAE-BC50-4B8D-B6AC-033E1561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CB5F5-B7AC-4927-AEE1-42CFA1C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77B9-D3E7-4622-B2C1-BF96DAD1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59741-B1ED-4318-96D9-5FA59979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CA273-4443-4251-8132-E0B09669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0A6E2-CE84-4CD7-8E16-E416B991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050B7-FA75-429A-A458-C04F2CBE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91C-87F5-45B9-9895-30A8EC6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96566-C6F6-402A-8DAA-4E1AD157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B4FBA-4938-4184-93A6-BE8FA998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9DA0B-99E6-46F1-8DA7-D25FBA53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F331-7E1F-46AB-BF29-D4F8BD14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649A3-50A0-40DA-8BDC-32CB8F7D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F5D60-B677-4183-8007-69132696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00F37-9D65-42E8-9242-550EE46D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F09F7-1C50-481B-AC57-4CF1F383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983FD-E071-46BE-8C13-710CF2E2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EB747-A773-43E0-9649-FFB8203E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689B-D0DB-4D5A-A6DF-2AF38C3B923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C207-518E-491C-B553-9E0AE14949D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2643-8A00-4E8F-B4FA-FAF44B433B8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BF5B-D7E0-4C5E-8F86-0453EE08DC4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6E8F-F090-467A-9F59-29E9616F00D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4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4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05A4-6BDA-4C1D-BFC7-EE71230AF2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45CB-DA2A-42CB-A024-69AD737961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17DE-8CBF-4A40-96DA-907C8092D3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7C48-886B-4800-92EE-8682E36392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6F97-1C8C-4E38-812F-1713B2BCAE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C202-1037-422E-8D76-8FDA3B20CD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08A-C57D-4B6E-87F6-44F44D7E80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5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5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5EFE-50C3-4977-9FB9-E489CCAB12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121A-5DF2-4B00-9393-400C42FBEA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6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6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3DDE-A534-471E-8F06-0CB3A7C94F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6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6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0E0A-0A4B-40FD-918C-044DCDE415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7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7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C577-19D7-4346-A7AE-0533B8C52B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3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6A90-C44D-4EE3-A2A8-561BD4A898D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565D-BA9E-4DBC-A27A-BF2AC11BEC4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B6F3-9161-4F0E-9B6A-1C9266EFE55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59B3-E50B-4333-B6B7-541363C24B1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6D88-9E75-4CA8-B14F-1089CE858DB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D1B5-0ABA-4A9C-ACF2-9B039EE35EC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65F3-F0D8-4005-A523-CF6A4050FCE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643960" cy="20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Презентация по экономике </a:t>
            </a:r>
            <a:br>
              <a:rPr sz="3200"/>
            </a:b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на тему:</a:t>
            </a:r>
            <a:br>
              <a:rPr sz="4000"/>
            </a:b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 «История возникновения денег»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5" name="TextBox 2"/>
          <p:cNvSpPr/>
          <p:nvPr/>
        </p:nvSpPr>
        <p:spPr>
          <a:xfrm>
            <a:off x="142920" y="4214880"/>
            <a:ext cx="4643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Учитель эконом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МБОУ СШ № 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г.Пав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Логинова О.Р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16" descr="00007264"/>
          <p:cNvPicPr/>
          <p:nvPr/>
        </p:nvPicPr>
        <p:blipFill>
          <a:blip r:embed="rId1"/>
          <a:stretch/>
        </p:blipFill>
        <p:spPr>
          <a:xfrm>
            <a:off x="5072040" y="2643120"/>
            <a:ext cx="3887640" cy="3600360"/>
          </a:xfrm>
          <a:prstGeom prst="rect">
            <a:avLst/>
          </a:prstGeom>
          <a:ln w="0">
            <a:noFill/>
          </a:ln>
        </p:spPr>
      </p:pic>
      <p:sp>
        <p:nvSpPr>
          <p:cNvPr id="1017" name="TextBox 4"/>
          <p:cNvSpPr/>
          <p:nvPr/>
        </p:nvSpPr>
        <p:spPr>
          <a:xfrm>
            <a:off x="4344840" y="6488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Почему металлические деньги назвали монетами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Почему металлические деньги назвали монетами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95280" y="2138400"/>
            <a:ext cx="41767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Древней Греции в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веке до н.э. в храме богини Юноны-Монеты был первый монетный дво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честь богини Юноны-Монеты куски золота и серебра с чеканкой стали называть монет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7" name="Picture 7" descr="C:\Users\Сталкер\Desktop\храм в греции.jpg"/>
          <p:cNvPicPr/>
          <p:nvPr/>
        </p:nvPicPr>
        <p:blipFill>
          <a:blip r:embed="rId1"/>
          <a:stretch/>
        </p:blipFill>
        <p:spPr>
          <a:xfrm>
            <a:off x="5357880" y="2071800"/>
            <a:ext cx="2857320" cy="19191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8" descr="C:\Users\Сталкер\Desktop\монеты.jpg"/>
          <p:cNvPicPr/>
          <p:nvPr/>
        </p:nvPicPr>
        <p:blipFill>
          <a:blip r:embed="rId2"/>
          <a:stretch/>
        </p:blipFill>
        <p:spPr>
          <a:xfrm>
            <a:off x="5286240" y="4643280"/>
            <a:ext cx="2981520" cy="153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Что такое монета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Что такое монета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571680" y="1071720"/>
            <a:ext cx="51861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нета – это денежный знак из металла на котором методом чеканки изображён рисуно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ерс – лицевая сторона моне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верс – оборотная сторона моне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урт – ребро моне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Picture 2" descr="C:\Users\Сталкер\Desktop\220px-Russian_Empire-1899-Coin-5-Obverse.jpg"/>
          <p:cNvPicPr/>
          <p:nvPr/>
        </p:nvPicPr>
        <p:blipFill>
          <a:blip r:embed="rId1"/>
          <a:stretch/>
        </p:blipFill>
        <p:spPr>
          <a:xfrm>
            <a:off x="6286680" y="1071720"/>
            <a:ext cx="2225520" cy="22255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C:\Users\Сталкер\Desktop\Russian_Empire-1899-Coin-5-Reverse.jpg"/>
          <p:cNvPicPr/>
          <p:nvPr/>
        </p:nvPicPr>
        <p:blipFill>
          <a:blip r:embed="rId2"/>
          <a:stretch/>
        </p:blipFill>
        <p:spPr>
          <a:xfrm>
            <a:off x="6286680" y="4000680"/>
            <a:ext cx="2118960" cy="2118960"/>
          </a:xfrm>
          <a:prstGeom prst="rect">
            <a:avLst/>
          </a:prstGeom>
          <a:ln w="0">
            <a:noFill/>
          </a:ln>
        </p:spPr>
      </p:pic>
      <p:sp>
        <p:nvSpPr>
          <p:cNvPr id="1064" name="TextBox 6"/>
          <p:cNvSpPr/>
          <p:nvPr/>
        </p:nvSpPr>
        <p:spPr>
          <a:xfrm>
            <a:off x="5786280" y="335772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Золотые 5 рублей 1899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вер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7"/>
          <p:cNvSpPr/>
          <p:nvPr/>
        </p:nvSpPr>
        <p:spPr>
          <a:xfrm>
            <a:off x="6000840" y="607212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Золотые 5 рублей 1899 г. ревер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505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Какую форму имели монеты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505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Какую форму имели монеты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6840" y="1600200"/>
            <a:ext cx="81154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Древнем Китае были монеты разной формы  до 60 см в длин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9" name="Picture 5" descr="C:\Users\Сталкер\Desktop\монеты китая.jpg"/>
          <p:cNvPicPr/>
          <p:nvPr/>
        </p:nvPicPr>
        <p:blipFill>
          <a:blip r:embed="rId1"/>
          <a:stretch/>
        </p:blipFill>
        <p:spPr>
          <a:xfrm>
            <a:off x="1000080" y="5429160"/>
            <a:ext cx="1011240" cy="10112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6" descr="C:\Users\Сталкер\Desktop\деньги ключи.jpg"/>
          <p:cNvPicPr/>
          <p:nvPr/>
        </p:nvPicPr>
        <p:blipFill>
          <a:blip r:embed="rId2"/>
          <a:stretch/>
        </p:blipFill>
        <p:spPr>
          <a:xfrm>
            <a:off x="642960" y="2786040"/>
            <a:ext cx="1941480" cy="2224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7" descr="C:\Users\Сталкер\Desktop\деньги-рыбы.jpg"/>
          <p:cNvPicPr/>
          <p:nvPr/>
        </p:nvPicPr>
        <p:blipFill>
          <a:blip r:embed="rId3"/>
          <a:stretch/>
        </p:blipFill>
        <p:spPr>
          <a:xfrm>
            <a:off x="4500720" y="4572000"/>
            <a:ext cx="2525400" cy="13352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8" descr="C:\Users\Сталкер\Desktop\деньги колокольчики.jpg"/>
          <p:cNvPicPr/>
          <p:nvPr/>
        </p:nvPicPr>
        <p:blipFill>
          <a:blip r:embed="rId4"/>
          <a:stretch/>
        </p:blipFill>
        <p:spPr>
          <a:xfrm>
            <a:off x="4429080" y="2786040"/>
            <a:ext cx="2762280" cy="12715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9" descr="C:\Users\Сталкер\Desktop\деньги-мечи.jpg"/>
          <p:cNvPicPr/>
          <p:nvPr/>
        </p:nvPicPr>
        <p:blipFill>
          <a:blip r:embed="rId5"/>
          <a:stretch/>
        </p:blipFill>
        <p:spPr>
          <a:xfrm>
            <a:off x="7715160" y="2786040"/>
            <a:ext cx="819360" cy="23241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0" descr="C:\Users\Сталкер\Desktop\деньга-рубашка.jpg"/>
          <p:cNvPicPr/>
          <p:nvPr/>
        </p:nvPicPr>
        <p:blipFill>
          <a:blip r:embed="rId6"/>
          <a:stretch/>
        </p:blipFill>
        <p:spPr>
          <a:xfrm>
            <a:off x="2928960" y="2786040"/>
            <a:ext cx="1162080" cy="2295720"/>
          </a:xfrm>
          <a:prstGeom prst="rect">
            <a:avLst/>
          </a:prstGeom>
          <a:ln w="0">
            <a:noFill/>
          </a:ln>
        </p:spPr>
      </p:pic>
      <p:sp>
        <p:nvSpPr>
          <p:cNvPr id="1075" name="TextBox 13"/>
          <p:cNvSpPr/>
          <p:nvPr/>
        </p:nvSpPr>
        <p:spPr>
          <a:xfrm>
            <a:off x="4429080" y="4071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ньги-колоколь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14"/>
          <p:cNvSpPr/>
          <p:nvPr/>
        </p:nvSpPr>
        <p:spPr>
          <a:xfrm>
            <a:off x="4357800" y="60721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ньги-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15"/>
          <p:cNvSpPr/>
          <p:nvPr/>
        </p:nvSpPr>
        <p:spPr>
          <a:xfrm>
            <a:off x="7286760" y="5286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ньги-м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6"/>
          <p:cNvSpPr/>
          <p:nvPr/>
        </p:nvSpPr>
        <p:spPr>
          <a:xfrm>
            <a:off x="2643120" y="5143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ньги-руба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17"/>
          <p:cNvSpPr/>
          <p:nvPr/>
        </p:nvSpPr>
        <p:spPr>
          <a:xfrm>
            <a:off x="571680" y="50720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ньги-клю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357120" y="6488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ньги-амул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Что такое гривна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</a:t>
            </a: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Что такое гривна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42560" y="1499760"/>
            <a:ext cx="500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ривна – первая денежная единица на Руси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I-XIII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орма Гривны – серебряная полоса или украшение до 200 г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4" name="Picture 6" descr="C:\Users\Сталкер\Desktop\гривна.jpg"/>
          <p:cNvPicPr/>
          <p:nvPr/>
        </p:nvPicPr>
        <p:blipFill>
          <a:blip r:embed="rId1"/>
          <a:stretch/>
        </p:blipFill>
        <p:spPr>
          <a:xfrm>
            <a:off x="5786280" y="3929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7" descr="C:\Users\Сталкер\Desktop\гривна-украшение.jpg"/>
          <p:cNvPicPr/>
          <p:nvPr/>
        </p:nvPicPr>
        <p:blipFill>
          <a:blip r:embed="rId2"/>
          <a:stretch/>
        </p:blipFill>
        <p:spPr>
          <a:xfrm>
            <a:off x="5786280" y="1428840"/>
            <a:ext cx="2467080" cy="209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85480" y="277560"/>
            <a:ext cx="864396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Откуда появилось слово рубль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2560" y="277920"/>
            <a:ext cx="8543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Откуда появилось слово рубль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46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слова рубец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 отливке рублей на слитке металла оставался шов от литейной формы. Этот шов назывался «руб» или «рубец». «Рубль» — это слиток со шв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9" name="Picture 5" descr="C:\Users\Сталкер\Desktop\гривна.jpg"/>
          <p:cNvPicPr/>
          <p:nvPr/>
        </p:nvPicPr>
        <p:blipFill>
          <a:blip r:embed="rId1"/>
          <a:stretch/>
        </p:blipFill>
        <p:spPr>
          <a:xfrm>
            <a:off x="5786280" y="2143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e0e38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Какими были первые деньги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9" name="Picture 6" descr="C:\Users\Сталкер\Desktop\images.jpg"/>
          <p:cNvPicPr/>
          <p:nvPr/>
        </p:nvPicPr>
        <p:blipFill>
          <a:blip r:embed="rId1"/>
          <a:stretch/>
        </p:blipFill>
        <p:spPr>
          <a:xfrm>
            <a:off x="3571920" y="342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7" descr="C:\Users\Сталкер\Desktop\images.jpg"/>
          <p:cNvPicPr/>
          <p:nvPr/>
        </p:nvPicPr>
        <p:blipFill>
          <a:blip r:embed="rId2"/>
          <a:stretch/>
        </p:blipFill>
        <p:spPr>
          <a:xfrm>
            <a:off x="785880" y="178596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8" descr="C:\Users\Сталкер\Desktop\images.jpg"/>
          <p:cNvPicPr/>
          <p:nvPr/>
        </p:nvPicPr>
        <p:blipFill>
          <a:blip r:embed="rId3"/>
          <a:stretch/>
        </p:blipFill>
        <p:spPr>
          <a:xfrm>
            <a:off x="6357960" y="17146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9900"/>
                </a:solidFill>
                <a:latin typeface="Monotype Corsiva"/>
              </a:rPr>
              <a:t>              </a:t>
            </a:r>
            <a:r>
              <a:rPr b="1" lang="en-US" sz="4800" spc="-1" strike="noStrike">
                <a:solidFill>
                  <a:srgbClr val="5e0e38"/>
                </a:solidFill>
                <a:latin typeface="Comic Sans MS"/>
              </a:rPr>
              <a:t>XIV</a:t>
            </a:r>
            <a:r>
              <a:rPr b="1" lang="ru-RU" sz="4800" spc="-1" strike="noStrike">
                <a:solidFill>
                  <a:srgbClr val="5e0e38"/>
                </a:solidFill>
                <a:latin typeface="Comic Sans MS"/>
              </a:rPr>
              <a:t> век на Руси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1" name="TextBox 9"/>
          <p:cNvSpPr/>
          <p:nvPr/>
        </p:nvSpPr>
        <p:spPr>
          <a:xfrm>
            <a:off x="428760" y="164304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ли чеканить мелкую монету, которая называлас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н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10" descr="C:\Users\Сталкер\Desktop\деньги удельных княжеств.jpg"/>
          <p:cNvPicPr/>
          <p:nvPr/>
        </p:nvPicPr>
        <p:blipFill>
          <a:blip r:embed="rId1"/>
          <a:stretch/>
        </p:blipFill>
        <p:spPr>
          <a:xfrm>
            <a:off x="3286080" y="3154320"/>
            <a:ext cx="1857600" cy="170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Откуда появилось слово копейка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В</a:t>
            </a:r>
            <a:r>
              <a:rPr b="1" lang="en-US" sz="2400" spc="-1" strike="noStrike">
                <a:solidFill>
                  <a:srgbClr val="5e0e38"/>
                </a:solidFill>
                <a:latin typeface="Comic Sans MS"/>
              </a:rPr>
              <a:t>XIV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веке при Ивана </a:t>
            </a:r>
            <a:r>
              <a:rPr b="1" lang="en-US" sz="2400" spc="-1" strike="noStrike">
                <a:solidFill>
                  <a:srgbClr val="5e0e38"/>
                </a:solidFill>
                <a:latin typeface="Comic Sans MS"/>
              </a:rPr>
              <a:t>III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на монете из серебра чеканили рисунок всадника с копьём и всадника с саблей. Отсюда пошли названия копейка и саблянниц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5" name="Picture 4" descr="C:\Users\Сталкер\Desktop\деньги руси.jpg"/>
          <p:cNvPicPr/>
          <p:nvPr/>
        </p:nvPicPr>
        <p:blipFill>
          <a:blip r:embed="rId1"/>
          <a:stretch/>
        </p:blipFill>
        <p:spPr>
          <a:xfrm>
            <a:off x="1357200" y="3357720"/>
            <a:ext cx="1524240" cy="300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5" descr="C:\Users\Сталкер\Desktop\копейка.jpg"/>
          <p:cNvPicPr/>
          <p:nvPr/>
        </p:nvPicPr>
        <p:blipFill>
          <a:blip r:embed="rId2"/>
          <a:stretch/>
        </p:blipFill>
        <p:spPr>
          <a:xfrm>
            <a:off x="4214880" y="3749760"/>
            <a:ext cx="3500280" cy="175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Денежная реформа Петра </a:t>
            </a:r>
            <a:r>
              <a:rPr b="1" lang="en-US" sz="4000" spc="-1" strike="noStrike">
                <a:solidFill>
                  <a:srgbClr val="5e0e38"/>
                </a:solidFill>
                <a:latin typeface="Comic Sans MS"/>
              </a:rPr>
              <a:t>I</a:t>
            </a: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 1704 год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42960" y="3357720"/>
            <a:ext cx="822960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нета обрела вид правильного круг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ведена десятичная денежная система, т.е в 1 рубле 100 копе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ущены деньги разного достоинства от рубля до копей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9" name="Picture 4" descr="C:\Users\Сталкер\Desktop\Пётр 1.jpg"/>
          <p:cNvPicPr/>
          <p:nvPr/>
        </p:nvPicPr>
        <p:blipFill>
          <a:blip r:embed="rId1"/>
          <a:stretch/>
        </p:blipFill>
        <p:spPr>
          <a:xfrm>
            <a:off x="6357960" y="8571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e0e38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Где и когда появились первые бумажные деньги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e0e38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Где и когда появились первые бумажные деньги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20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итай – родина бумажных дене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812 г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3" name="Picture 4" descr="C:\Users\Сталкер\Desktop\китайские деньги.jpg"/>
          <p:cNvPicPr/>
          <p:nvPr/>
        </p:nvPicPr>
        <p:blipFill>
          <a:blip r:embed="rId1"/>
          <a:stretch/>
        </p:blipFill>
        <p:spPr>
          <a:xfrm>
            <a:off x="6072120" y="2214720"/>
            <a:ext cx="1752840" cy="25905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5" descr="C:\Users\Сталкер\Desktop\китайская стена.jpg"/>
          <p:cNvPicPr/>
          <p:nvPr/>
        </p:nvPicPr>
        <p:blipFill>
          <a:blip r:embed="rId2"/>
          <a:stretch/>
        </p:blipFill>
        <p:spPr>
          <a:xfrm>
            <a:off x="857160" y="2857680"/>
            <a:ext cx="3732480" cy="18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Когда появились первые бумажные деньги в России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Когда появились первые бумажные деньги в России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ка при Екатерин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8" name="Picture 3" descr="C:\Users\Сталкер\Desktop\первая в россии бумажная деньга.jpg"/>
          <p:cNvPicPr/>
          <p:nvPr/>
        </p:nvPicPr>
        <p:blipFill>
          <a:blip r:embed="rId1"/>
          <a:stretch/>
        </p:blipFill>
        <p:spPr>
          <a:xfrm>
            <a:off x="1214280" y="2428920"/>
            <a:ext cx="2581560" cy="33544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C:\Users\Сталкер\Desktop\Екатерина 2.jpg"/>
          <p:cNvPicPr/>
          <p:nvPr/>
        </p:nvPicPr>
        <p:blipFill>
          <a:blip r:embed="rId2"/>
          <a:stretch/>
        </p:blipFill>
        <p:spPr>
          <a:xfrm>
            <a:off x="5214960" y="2316240"/>
            <a:ext cx="2571840" cy="340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Где и когда появились пластиковые деньги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5e0e38"/>
                </a:solidFill>
                <a:latin typeface="Times New Roman"/>
              </a:rPr>
              <a:t> </a:t>
            </a:r>
            <a:r>
              <a:rPr b="1" lang="ru-RU" sz="4200" spc="-1" strike="noStrike">
                <a:solidFill>
                  <a:srgbClr val="5e0e38"/>
                </a:solidFill>
                <a:latin typeface="Comic Sans MS"/>
              </a:rPr>
              <a:t>Где и когда появились пластиковые деньги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42560" y="2060280"/>
            <a:ext cx="9001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Первые пластиковые день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появились во Фр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в 1974 году их изобрел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запатентовал францу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Ролан Море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Прародителем пластик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денег были картонны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металлические карто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330000"/>
                </a:solidFill>
                <a:latin typeface="Comic Sans MS"/>
              </a:rPr>
              <a:t>в США начала ХХ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5" descr="C:\Users\Сталкер\Desktop\банкомат.jpg"/>
          <p:cNvPicPr/>
          <p:nvPr/>
        </p:nvPicPr>
        <p:blipFill>
          <a:blip r:embed="rId1"/>
          <a:stretch/>
        </p:blipFill>
        <p:spPr>
          <a:xfrm>
            <a:off x="5500800" y="2357280"/>
            <a:ext cx="2643120" cy="17589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6" descr="C:\Users\Сталкер\Desktop\карты пластиковые.jpg"/>
          <p:cNvPicPr/>
          <p:nvPr/>
        </p:nvPicPr>
        <p:blipFill>
          <a:blip r:embed="rId2"/>
          <a:stretch/>
        </p:blipFill>
        <p:spPr>
          <a:xfrm>
            <a:off x="5429160" y="4786200"/>
            <a:ext cx="2610000" cy="175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00"/>
                </a:solidFill>
                <a:latin typeface="Monotype Corsiva"/>
              </a:rPr>
              <a:t>               </a:t>
            </a: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Виды денег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250560" y="242064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товарные</a:t>
            </a:r>
            <a:r>
              <a:rPr b="1" lang="ru-RU" sz="2800" spc="-1" strike="noStrike">
                <a:solidFill>
                  <a:srgbClr val="5e0e38"/>
                </a:solidFill>
                <a:latin typeface="Verdana"/>
              </a:rPr>
              <a:t>       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символические    кредит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олото и серебро в        медные и никелевые       чеки и кредит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итках и монетах,         монеты и бумажные                карточ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также любой                           деньг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вар пр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ртерных сделк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Line 4"/>
          <p:cNvSpPr/>
          <p:nvPr/>
        </p:nvSpPr>
        <p:spPr>
          <a:xfrm>
            <a:off x="442764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5"/>
          <p:cNvSpPr/>
          <p:nvPr/>
        </p:nvSpPr>
        <p:spPr>
          <a:xfrm flipH="1">
            <a:off x="1547640" y="1700280"/>
            <a:ext cx="288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6"/>
          <p:cNvSpPr/>
          <p:nvPr/>
        </p:nvSpPr>
        <p:spPr>
          <a:xfrm>
            <a:off x="4427640" y="1700280"/>
            <a:ext cx="29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7"/>
          <p:cNvSpPr/>
          <p:nvPr/>
        </p:nvSpPr>
        <p:spPr>
          <a:xfrm>
            <a:off x="133200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8"/>
          <p:cNvSpPr/>
          <p:nvPr/>
        </p:nvSpPr>
        <p:spPr>
          <a:xfrm>
            <a:off x="450072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9"/>
          <p:cNvSpPr/>
          <p:nvPr/>
        </p:nvSpPr>
        <p:spPr>
          <a:xfrm>
            <a:off x="7740720" y="2924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Первые деньги на Земл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178920" y="2785680"/>
            <a:ext cx="8535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шёная рыба             Буйвол              Раковины Кау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Исландия)               (Индия)                 (Приморь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ь (Африка)        Перья (Океания)     Чай (Китай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4" name="Picture 5" descr="C:\Users\Сталкер\Desktop\images (1).jpg"/>
          <p:cNvPicPr/>
          <p:nvPr/>
        </p:nvPicPr>
        <p:blipFill>
          <a:blip r:embed="rId1"/>
          <a:stretch/>
        </p:blipFill>
        <p:spPr>
          <a:xfrm>
            <a:off x="3429000" y="1143000"/>
            <a:ext cx="2070000" cy="1643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7" descr="C:\Users\Сталкер\Desktop\раковины.jpg"/>
          <p:cNvPicPr/>
          <p:nvPr/>
        </p:nvPicPr>
        <p:blipFill>
          <a:blip r:embed="rId2"/>
          <a:stretch/>
        </p:blipFill>
        <p:spPr>
          <a:xfrm>
            <a:off x="6500880" y="1071720"/>
            <a:ext cx="2104920" cy="1685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9" descr="C:\Users\Сталкер\Desktop\images (2).jpg"/>
          <p:cNvPicPr/>
          <p:nvPr/>
        </p:nvPicPr>
        <p:blipFill>
          <a:blip r:embed="rId3"/>
          <a:stretch/>
        </p:blipFill>
        <p:spPr>
          <a:xfrm>
            <a:off x="642960" y="1285920"/>
            <a:ext cx="1790640" cy="1514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1" descr="C:\Users\Сталкер\Desktop\images (3) - копия.jpg"/>
          <p:cNvPicPr/>
          <p:nvPr/>
        </p:nvPicPr>
        <p:blipFill>
          <a:blip r:embed="rId4"/>
          <a:stretch/>
        </p:blipFill>
        <p:spPr>
          <a:xfrm>
            <a:off x="571680" y="400068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2" descr="C:\Users\Сталкер\Desktop\images (4).jpg"/>
          <p:cNvPicPr/>
          <p:nvPr/>
        </p:nvPicPr>
        <p:blipFill>
          <a:blip r:embed="rId5"/>
          <a:stretch/>
        </p:blipFill>
        <p:spPr>
          <a:xfrm>
            <a:off x="6572160" y="4214880"/>
            <a:ext cx="1927440" cy="18572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3" descr="C:\Users\Сталкер\Desktop\images (5) - копия.jpg"/>
          <p:cNvPicPr/>
          <p:nvPr/>
        </p:nvPicPr>
        <p:blipFill>
          <a:blip r:embed="rId6"/>
          <a:stretch/>
        </p:blipFill>
        <p:spPr>
          <a:xfrm>
            <a:off x="3643200" y="4000680"/>
            <a:ext cx="2086200" cy="21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Comic Sans MS"/>
              </a:rPr>
              <a:t>      </a:t>
            </a: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Этапы развития денег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вление денег с выполнением их функций случайными товар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епление за золотом роли всеобщего эквивал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ап перехода к бумажным или кредитным деньг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тепенное вытеснение наличных денег из оборота, вследствие чего появились электронные виды платеж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Что такое нумизматика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57200" y="1600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умизматика – это наука, изучающая деньг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7" name="Picture 3" descr="C:\Users\Сталкер\Desktop\images.jpg"/>
          <p:cNvPicPr/>
          <p:nvPr/>
        </p:nvPicPr>
        <p:blipFill>
          <a:blip r:embed="rId1"/>
          <a:stretch/>
        </p:blipFill>
        <p:spPr>
          <a:xfrm>
            <a:off x="714240" y="3000240"/>
            <a:ext cx="2667240" cy="200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C:\Users\Сталкер\Desktop\images (1).jpg"/>
          <p:cNvPicPr/>
          <p:nvPr/>
        </p:nvPicPr>
        <p:blipFill>
          <a:blip r:embed="rId2"/>
          <a:stretch/>
        </p:blipFill>
        <p:spPr>
          <a:xfrm>
            <a:off x="5143680" y="2571840"/>
            <a:ext cx="2261880" cy="319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Деньги – это добро или зло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0" name="Picture 3" descr="C:\Users\Сталкер\Desktop\images (2).jpg"/>
          <p:cNvPicPr/>
          <p:nvPr/>
        </p:nvPicPr>
        <p:blipFill>
          <a:blip r:embed="rId1"/>
          <a:stretch/>
        </p:blipFill>
        <p:spPr>
          <a:xfrm>
            <a:off x="3571920" y="1500120"/>
            <a:ext cx="2857320" cy="12924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C:\Users\Сталкер\Desktop\парк1.jpg"/>
          <p:cNvPicPr/>
          <p:nvPr/>
        </p:nvPicPr>
        <p:blipFill>
          <a:blip r:embed="rId2"/>
          <a:stretch/>
        </p:blipFill>
        <p:spPr>
          <a:xfrm>
            <a:off x="3571920" y="2928960"/>
            <a:ext cx="2609640" cy="19540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5" descr="C:\Users\Сталкер\Desktop\парк.jpg"/>
          <p:cNvPicPr/>
          <p:nvPr/>
        </p:nvPicPr>
        <p:blipFill>
          <a:blip r:embed="rId3"/>
          <a:stretch/>
        </p:blipFill>
        <p:spPr>
          <a:xfrm>
            <a:off x="214200" y="3929040"/>
            <a:ext cx="2860920" cy="21430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6" descr="C:\Users\Сталкер\Desktop\images (4).jpg"/>
          <p:cNvPicPr/>
          <p:nvPr/>
        </p:nvPicPr>
        <p:blipFill>
          <a:blip r:embed="rId4"/>
          <a:stretch/>
        </p:blipFill>
        <p:spPr>
          <a:xfrm>
            <a:off x="3571920" y="5030640"/>
            <a:ext cx="2643120" cy="17431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7" descr="C:\Users\Сталкер\Desktop\images (5).jpg"/>
          <p:cNvPicPr/>
          <p:nvPr/>
        </p:nvPicPr>
        <p:blipFill>
          <a:blip r:embed="rId5"/>
          <a:stretch/>
        </p:blipFill>
        <p:spPr>
          <a:xfrm>
            <a:off x="65721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8" descr="C:\Users\Сталкер\Desktop\images (6).jpg"/>
          <p:cNvPicPr/>
          <p:nvPr/>
        </p:nvPicPr>
        <p:blipFill>
          <a:blip r:embed="rId6"/>
          <a:stretch/>
        </p:blipFill>
        <p:spPr>
          <a:xfrm>
            <a:off x="428760" y="17859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9" descr="C:\Users\Сталкер\Desktop\images (7).jpg"/>
          <p:cNvPicPr/>
          <p:nvPr/>
        </p:nvPicPr>
        <p:blipFill>
          <a:blip r:embed="rId7"/>
          <a:stretch/>
        </p:blipFill>
        <p:spPr>
          <a:xfrm>
            <a:off x="6858000" y="1643040"/>
            <a:ext cx="1838160" cy="249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Деньги – это добро или зло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8" name="Picture 2" descr="C:\Users\Сталкер\Desktop\images (9).jpg"/>
          <p:cNvPicPr/>
          <p:nvPr/>
        </p:nvPicPr>
        <p:blipFill>
          <a:blip r:embed="rId1"/>
          <a:stretch/>
        </p:blipFill>
        <p:spPr>
          <a:xfrm>
            <a:off x="3071880" y="3143160"/>
            <a:ext cx="2990880" cy="1857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3" descr="C:\Users\Сталкер\Desktop\images (8).jpg"/>
          <p:cNvPicPr/>
          <p:nvPr/>
        </p:nvPicPr>
        <p:blipFill>
          <a:blip r:embed="rId2"/>
          <a:stretch/>
        </p:blipFill>
        <p:spPr>
          <a:xfrm>
            <a:off x="500040" y="1428840"/>
            <a:ext cx="2562120" cy="17906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" descr="C:\Users\Сталкер\Desktop\images (10).jpg"/>
          <p:cNvPicPr/>
          <p:nvPr/>
        </p:nvPicPr>
        <p:blipFill>
          <a:blip r:embed="rId3"/>
          <a:stretch/>
        </p:blipFill>
        <p:spPr>
          <a:xfrm>
            <a:off x="785880" y="4000680"/>
            <a:ext cx="1838160" cy="2495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5" descr="C:\Users\Сталкер\Desktop\images (11).jpg"/>
          <p:cNvPicPr/>
          <p:nvPr/>
        </p:nvPicPr>
        <p:blipFill>
          <a:blip r:embed="rId4"/>
          <a:stretch/>
        </p:blipFill>
        <p:spPr>
          <a:xfrm>
            <a:off x="6143760" y="4572000"/>
            <a:ext cx="2428920" cy="18907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7" descr="C:\Users\Сталкер\Desktop\images (13).jpg"/>
          <p:cNvPicPr/>
          <p:nvPr/>
        </p:nvPicPr>
        <p:blipFill>
          <a:blip r:embed="rId5"/>
          <a:stretch/>
        </p:blipFill>
        <p:spPr>
          <a:xfrm>
            <a:off x="6072120" y="14288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Какие были первые деньги в русском государстве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    </a:t>
            </a: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Какие были первые деньги в русском государстве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456840" y="1356840"/>
            <a:ext cx="8472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ньгами служили шкуры животных – песца, белки, соболя, куницы, которые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назывались кун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3384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57184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C:\D&amp;S\ЮРА\Мои документы\МАРИНА\КАРТИНКИ\животные\песец2.jpg"/>
          <p:cNvPicPr/>
          <p:nvPr/>
        </p:nvPicPr>
        <p:blipFill>
          <a:blip r:embed="rId3"/>
          <a:stretch/>
        </p:blipFill>
        <p:spPr>
          <a:xfrm>
            <a:off x="6715080" y="2428920"/>
            <a:ext cx="2314800" cy="2057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" descr="C:\D&amp;S\ЮРА\Мои документы\МАРИНА\КАРТИНКИ\животные\белкаE.jpg"/>
          <p:cNvPicPr/>
          <p:nvPr/>
        </p:nvPicPr>
        <p:blipFill>
          <a:blip r:embed="rId4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C:\D&amp;S\ЮРА\Мои документы\МАРИНА\КАРТИНКИ\животные\куницаE.jpg"/>
          <p:cNvPicPr/>
          <p:nvPr/>
        </p:nvPicPr>
        <p:blipFill>
          <a:blip r:embed="rId6"/>
          <a:stretch/>
        </p:blipFill>
        <p:spPr>
          <a:xfrm>
            <a:off x="6286680" y="4572000"/>
            <a:ext cx="2657160" cy="21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Почему люди перешли к    </a:t>
            </a:r>
            <a:br>
              <a:rPr sz="4400"/>
            </a:b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 деньгам из золота и </a:t>
            </a:r>
            <a:br>
              <a:rPr sz="4400"/>
            </a:b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 серебра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628668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Почему люди перешли к    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 деньгам из золота и 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 серебра?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1" name="Picture 4" descr="C:\Users\Сталкер\Desktop\images (8).jpg"/>
          <p:cNvPicPr/>
          <p:nvPr/>
        </p:nvPicPr>
        <p:blipFill>
          <a:blip r:embed="rId1"/>
          <a:stretch/>
        </p:blipFill>
        <p:spPr>
          <a:xfrm>
            <a:off x="6500880" y="357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6" descr="C:\Users\Сталкер\Desktop\images (7).jpg"/>
          <p:cNvPicPr/>
          <p:nvPr/>
        </p:nvPicPr>
        <p:blipFill>
          <a:blip r:embed="rId2"/>
          <a:stretch/>
        </p:blipFill>
        <p:spPr>
          <a:xfrm>
            <a:off x="3714840" y="25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C:\Users\Сталкер\Desktop\images (9).jpg"/>
          <p:cNvPicPr/>
          <p:nvPr/>
        </p:nvPicPr>
        <p:blipFill>
          <a:blip r:embed="rId3"/>
          <a:stretch/>
        </p:blipFill>
        <p:spPr>
          <a:xfrm>
            <a:off x="285840" y="4500720"/>
            <a:ext cx="3012840" cy="1919160"/>
          </a:xfrm>
          <a:prstGeom prst="rect">
            <a:avLst/>
          </a:prstGeom>
          <a:ln w="0">
            <a:noFill/>
          </a:ln>
        </p:spPr>
      </p:pic>
      <p:cxnSp>
        <p:nvCxnSpPr>
          <p:cNvPr id="1044" name="Прямая со стрелкой 10"/>
          <p:cNvCxnSpPr/>
          <p:nvPr/>
        </p:nvCxnSpPr>
        <p:spPr>
          <a:xfrm flipH="1">
            <a:off x="6214680" y="2214360"/>
            <a:ext cx="2865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5" name="Прямая со стрелкой 11"/>
          <p:cNvCxnSpPr/>
          <p:nvPr/>
        </p:nvCxnSpPr>
        <p:spPr>
          <a:xfrm flipH="1">
            <a:off x="3357000" y="4286160"/>
            <a:ext cx="2862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6" name="TextBox 12"/>
          <p:cNvSpPr/>
          <p:nvPr/>
        </p:nvSpPr>
        <p:spPr>
          <a:xfrm>
            <a:off x="6786720" y="24289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уски зо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3714840" y="47149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олотые сли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14"/>
          <p:cNvSpPr/>
          <p:nvPr/>
        </p:nvSpPr>
        <p:spPr>
          <a:xfrm>
            <a:off x="428760" y="6488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олотые 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Где и когда появились первые монеты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92343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Где и когда появились первые монеты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3883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древнем государстве Лидия (располагалось на территории современной Ту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7 веке до н.э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еродот упоминает в своих рукописях о первых лидийских монетах 687 года до нашей эры. Они изготавливались из кусков электры (естественный сплав серебра и золота). Электра была найдена в горных ручьях Лидии. Этот сплав нагревали, чтобы смягчить, помещали на пластине и обрабатывали молотом. Изображение выбитое на одной стороне заготовки и определяет их как моне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2" name="Picture 4" descr="C:\Users\Сталкер\Desktop\4stater.jpg"/>
          <p:cNvPicPr/>
          <p:nvPr/>
        </p:nvPicPr>
        <p:blipFill>
          <a:blip r:embed="rId1"/>
          <a:stretch/>
        </p:blipFill>
        <p:spPr>
          <a:xfrm>
            <a:off x="2928960" y="5000760"/>
            <a:ext cx="1666800" cy="1643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C:\Users\Сталкер\Desktop\3stater.jpg"/>
          <p:cNvPicPr/>
          <p:nvPr/>
        </p:nvPicPr>
        <p:blipFill>
          <a:blip r:embed="rId2"/>
          <a:stretch/>
        </p:blipFill>
        <p:spPr>
          <a:xfrm>
            <a:off x="6286680" y="5000760"/>
            <a:ext cx="1726920" cy="1600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55:28Z</dcterms:created>
  <dc:creator>SiBeRiA</dc:creator>
  <dc:description/>
  <dc:language>en-US</dc:language>
  <cp:lastModifiedBy>User</cp:lastModifiedBy>
  <dcterms:modified xsi:type="dcterms:W3CDTF">2016-05-16T17:53:21Z</dcterms:modified>
  <cp:revision>127</cp:revision>
  <dc:subject/>
  <dc:title>Презентация по экономике на тему: «Деньги. История возникновения денег».</dc:title>
</cp:coreProperties>
</file>