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2C6F-B404-40B3-8A8B-A1546BB0B9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9F65-14BF-479D-80F6-A9728AB700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06BD-0072-45F3-87C5-B7847F3C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32B-DB7B-42B3-9675-69FAB1B5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634-5F5F-4B53-881E-1D4BD7B3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405-DF8A-4894-A15B-692ADA1A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A7CB-34F7-4F3C-81AC-2FBAF1CA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F676-8EEA-4C14-B1B1-A9DF92EB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C388-BA3F-495A-AD93-C4C36EF7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91A0-0CBB-4387-91BF-C195333B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3FAF-B5D0-45F0-8CFE-B4D603E0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587C-663E-48B3-9FF5-8018BDD8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C426-FC7D-494D-8030-A947E70E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6D7-DE28-49BA-894F-257E8F19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FBAF-3B92-46F6-93AF-1970044E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8A04-0F12-4A00-B25E-5C6A6151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BD3C-1EDB-4A27-9FD5-C0F3CACF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F845-F4F9-4161-9371-C9E23710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B796-B538-4251-8776-7E673A74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3C5-3111-4058-9546-4D082CEC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0CB-9FAC-42F2-A6C3-3EC8129D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E2C-87D9-41DE-9F1F-FEFCD68E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CE5-81D7-497D-A318-8FC95F14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88D-F8A0-41DE-9729-761B6BBA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1DA-A0B6-4397-A6D9-87686F10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BE9-09E2-483D-B054-5BBE3046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00EF-DAA3-4255-834D-A7B685C5F1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D9BC-6C93-437C-BF2A-344E0E2FF6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72;&#1073;&#1083;&#1086;&#1085;&#1099;%20&#1082;&#1072;&#1088;&#1090;&#1080;&#1085;&#1086;&#1082;%20&#1087;&#1086;%20&#1079;&#1080;&#1084;&#1085;&#1080;&#1084;%20%20&#1074;&#1080;&#1076;&#1072;&#1084;%20&#1089;&#1087;&#1086;&#1088;&#1090;&#1072;&amp;noreask=1&amp;img_url=http%3A%2F%2Fwww.turoboz.ru%2Fcmsdb%2Farticle_images%2Fimages%2Fpoiana-deti.jpg&amp;pos=18&amp;rpt=simage&amp;lr=1131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96;&#1072;&#1073;&#1083;&#1086;&#1085;&#1099;%20&#1082;&#1072;&#1088;&#1090;&#1080;&#1085;&#1086;&#1082;%20&#1087;&#1086;%20&#1079;&#1080;&#1084;&#1085;&#1080;&#1084;%20%20&#1074;&#1080;&#1076;&#1072;&#1084;%20&#1089;&#1087;&#1086;&#1088;&#1090;&#1072;&amp;noreask=1&amp;img_url=http%3A%2F%2Fs004.radikal.ru%2Fi206%2F1002%2F52%2F62fd02dba707.jpg&amp;pos=17&amp;rpt=simage&amp;lr=11311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text=&#1096;&#1072;&#1073;&#1083;&#1086;&#1085;&#1099;%20&#1082;&#1072;&#1088;&#1090;&#1080;&#1085;&#1086;&#1082;%20&#1087;&#1086;%20&#1079;&#1080;&#1084;&#1085;&#1080;&#1084;%20%20&#1074;&#1080;&#1076;&#1072;&#1084;%20&#1089;&#1087;&#1086;&#1088;&#1090;&#1072;&amp;noreask=1&amp;img_url=http%3A%2F%2Fs004.radikal.ru%2Fi206%2F1002%2F52%2F62fd02dba707.jpg&amp;pos=17&amp;rpt=simage&amp;lr=1131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text=&#1096;&#1072;&#1073;&#1083;&#1086;&#1085;&#1099;%20&#1082;&#1072;&#1088;&#1090;&#1080;&#1085;&#1086;&#1082;%20&#1087;&#1086;%20&#1079;&#1080;&#1084;&#1085;&#1080;&#1084;%20%20&#1074;&#1080;&#1076;&#1072;&#1084;%20&#1089;&#1087;&#1086;&#1088;&#1090;&#1072;&amp;noreask=1&amp;img_url=http%3A%2F%2Fwww.turoboz.ru%2Fcmsdb%2Farticle_images%2Fimages%2Fpoiana-deti.jpg&amp;pos=18&amp;rpt=simage&amp;lr=11311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8;&#1086;&#1089;&#1089;&#1080;&#1081;&#1089;&#1082;&#1080;&#1093;%20&#1073;&#1080;&#1072;&#1090;&#1083;&#1086;&#1085;&#1080;&#1089;&#1090;&#1086;&#1074;&amp;img_url=http%3A%2F%2Fcontent.foto.mail.ru%2Fmail%2Fdedmorozfilm%2F_blogs%2Fi-808.jpg&amp;pos=27&amp;rpt=simage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8;&#1086;&#1089;&#1089;&#1080;&#1081;&#1089;&#1082;&#1080;&#1093;%20&#1073;&#1080;&#1072;&#1090;&#1083;&#1086;&#1085;&#1080;&#1089;&#1090;&#1086;&#1074;&amp;img_url=http%3A%2F%2Fimg.gazeta.ru%2Ffiles2%2F2650655%2F60.jpg&amp;pos=56&amp;rpt=simage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8;&#1086;&#1089;&#1089;&#1080;&#1081;&#1089;&#1082;&#1080;&#1093;%20&#1073;&#1080;&#1072;&#1090;&#1083;&#1086;&#1085;&#1080;&#1089;&#1090;&#1086;&#1074;&amp;img_url=http%3A%2F%2Fimg.gazeta.ru%2Ffiles2%2F2650655%2F60.jpg&amp;pos=56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yandsearch?p=1&amp;text=&#1092;&#1086;&#1090;&#1086;%20&#1088;&#1086;&#1089;&#1089;&#1080;&#1081;&#1089;&#1082;&#1080;&#1093;%20&#1073;&#1080;&#1072;&#1090;&#1083;&#1086;&#1085;&#1080;&#1089;&#1090;&#1086;&#1074;&amp;img_url=http%3A%2F%2Fimg.lenta.ru%2Fnews%2F2010%2F02%2F14%2Fbiathlon%2Fpicture.jpg&amp;pos=59&amp;rpt=simage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6;&#1073;&#1098;&#1077;&#1082;&#1090;&#1086;&#1074;%20&#1086;&#1083;&#1080;&#1084;&#1087;&#1080;&#1072;&#1076;&#1099;%20&#1074;%20&#1089;&#1086;&#1095;&#1080;&amp;img_url=http%3A%2F%2Fkp.ru%2Ff%2F12%2Fimage%2F21%2F43%2F674321.jpg&amp;pos=16&amp;rpt=simage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&amp;text=&#1092;&#1086;&#1090;&#1086;%20&#1086;&#1073;&#1098;&#1077;&#1082;&#1090;&#1086;&#1074;%20&#1086;&#1083;&#1080;&#1084;&#1087;&#1080;&#1072;&#1076;&#1099;%20&#1074;%20&#1089;&#1086;&#1095;&#1080;&amp;img_url=http%3A%2F%2Ficube.ru%2Ffiles%2Fworks%2Fimages%2Fb_tsentralnyij_olimpijskij_stadion_sochi_21412494843527.jpg&amp;pos=103&amp;rpt=simage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yandex.ru/yandsearch?p=2&amp;text=&#1092;&#1086;&#1090;&#1086;%20&#1086;&#1073;&#1098;&#1077;&#1082;&#1090;&#1086;&#1074;%20&#1086;&#1083;&#1080;&#1084;&#1087;&#1080;&#1072;&#1076;&#1099;%20&#1074;%20&#1089;&#1086;&#1095;&#1080;&amp;img_url=http%3A%2F%2Fest.ua%2Ff%2F_articles%2Fmarket%2F27393.jpg&amp;pos=85&amp;rpt=simage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6;&#1083;&#1080;&#1084;&#1087;&#1080;&#1072;&#1076;&#1072;%20&#1074;%20&#1089;&#1086;&#1095;&#1080;&amp;noreask=1&amp;img_url=http%3A%2F%2Fwww.sc-os.ru%2Fcommon%2Fupload%2FOS_m3_b.jpg&amp;pos=6&amp;rpt=simage&amp;lr=11311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6;&#1083;&#1080;&#1084;&#1087;&#1080;&#1072;&#1076;&#1072;%20&#1074;%20&#1089;&#1086;&#1095;&#1080;&amp;noreask=1&amp;img_url=http%3A%2F%2Fimg0.liveinternet.ru%2Fimages%2Fattach%2Fc%2F2%2F71%2F304%2F71304392_835553_400_300_source.jpg&amp;pos=30&amp;rpt=simage&amp;lr=11311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6;&#1083;&#1080;&#1084;&#1087;&#1080;&#1072;&#1076;&#1072;%20&#1074;%20&#1089;&#1086;&#1095;&#1080;&amp;noreask=1&amp;img_url=http%3A%2F%2Fimg0.liveinternet.ru%2Fimages%2Fattach%2Fc%2F2%2F71%2F304%2F71304392_835553_400_300_source.jpg&amp;pos=30&amp;rpt=simage&amp;lr=11311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2;&#1077;&#1088;&#1083;&#1080;&#1085;&#1075;%20&#1089;&#1082;&#1077;&#1083;&#1077;&#1090;&#1086;&#1085;%20&#1073;&#1086;&#1073;&#1089;&#1083;&#1077;&#1081;%20&amp;img_url=http%3A%2F%2Fnews.mail.ru%2Fmainimage%2Fpic%2Fc9%2F86%2F489232_source.jpg&amp;pos=0&amp;rpt=simage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yandex.ru/yandsearch?text=&#1092;&#1086;&#1090;&#1086;%20&#1082;&#1077;&#1088;&#1083;&#1080;&#1085;&#1075;%20&#1089;&#1082;&#1077;&#1083;&#1077;&#1090;&#1086;&#1085;%20&#1073;&#1086;&#1073;&#1089;&#1083;&#1077;&#1081;%20&amp;img_url=http%3A%2F%2Fwww.epochtimes.ru%2Fimages%2Fstories%2F04%2Fsport%2F115_1143629ss.jpg&amp;pos=13&amp;rpt=simage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yandex.ru/yandsearch?p=2&amp;text=&#1092;&#1086;&#1090;&#1086;%20&#1082;&#1077;&#1088;&#1083;&#1080;&#1085;&#1075;%20&#1089;&#1082;&#1077;&#1083;&#1077;&#1090;&#1086;&#1085;%20&#1073;&#1086;&#1073;&#1089;&#1083;&#1077;&#1081;&amp;img_url=http%3A%2F%2Fwww.olimp-2014.com%2Fuploads%2Ftemplates%2Fru%2Fimages%2Fmainpage-images%2F5.jpg&amp;pos=64&amp;rpt=simage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6;&#1083;&#1080;&#1084;&#1087;&#1080;&#1072;&#1076;&#1072;%20&#1074;%20&#1089;&#1086;&#1095;&#1080;&amp;noreask=1&amp;img_url=http%3A%2F%2Fimg.dni.ru%2Fbinaries%2Fv2_articlepic%2F520491.jpg&amp;pos=3&amp;rpt=simage&amp;lr=1131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6;&#1083;&#1080;&#1084;&#1087;&#1080;&#1072;&#1076;&#1072;%20&#1074;%20&#1089;&#1086;&#1095;&#1080;&amp;noreask=1&amp;img_url=http%3A%2F%2Fimg.nr2.ru%2Fpict%2Farts1%2F17%2F20%2F172042.jpg&amp;pos=24&amp;rpt=simage&amp;lr=1131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yandsearch?text=&#1092;&#1086;&#1090;&#1086;%20&#1086;&#1083;&#1080;&#1084;&#1087;&#1080;&#1072;&#1076;&#1072;%20&#1074;%20&#1089;&#1086;&#1095;&#1080;&amp;noreask=1&amp;img_url=http%3A%2F%2Fsochi-24.ru%2Fimages%2Fm11687.jpg&amp;pos=20&amp;rpt=simage&amp;lr=11311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&amp;text=&#1092;&#1086;&#1090;&#1086;%20&#1086;&#1083;&#1080;&#1084;&#1087;&#1080;&#1072;&#1076;&#1072;%20&#1074;%20&#1089;&#1086;&#1095;&#1080;&amp;noreask=1&amp;img_url=http%3A%2F%2Fstat16.privet.ru%2Flr%2F090eb3303e77edcf810a0fb6f19bf32a&amp;pos=142&amp;rpt=simage&amp;lr=1131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yandex.ru/yandsearch?text=&#1092;&#1086;&#1090;&#1086;%20&#1086;&#1083;&#1080;&#1084;&#1087;&#1080;&#1072;&#1076;&#1072;%20&#1074;%20&#1089;&#1086;&#1095;&#1080;&amp;noreask=1&amp;img_url=http%3A%2F%2Fkp.ru%2Ff%2F12%2Fimage%2F35%2F29%2F1882935.jpg&amp;pos=23&amp;rpt=simage&amp;lr=11311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6;&#1083;&#1080;&#1084;&#1087;&#1080;&#1072;&#1076;&#1072;%20&#1074;%20&#1089;&#1086;&#1095;&#1080;&amp;noreask=1&amp;img_url=http%3A%2F%2Fimg-fotki.yandex.ru%2Fget%2F6100%2F105510289.0%2F0_7fca1_7efcb649_XL&amp;pos=25&amp;rpt=simage&amp;lr=1131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2013840"/>
            <a:ext cx="5486400" cy="18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68544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900" spc="-1" strike="noStrike">
                <a:solidFill>
                  <a:srgbClr val="000000"/>
                </a:solidFill>
                <a:latin typeface="Verdana"/>
              </a:rPr>
              <a:t>Олимпия уеннары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Verdana"/>
              </a:rPr>
              <a:t>Сочи-2014                                     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457200" y="3886200"/>
          <a:ext cx="37339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86200"/>
                    <a:ext cx="37339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6"/>
          <p:cNvGraphicFramePr/>
          <p:nvPr/>
        </p:nvGraphicFramePr>
        <p:xfrm>
          <a:off x="4495680" y="3886200"/>
          <a:ext cx="4343400" cy="25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886200"/>
                    <a:ext cx="434340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4648320" y="4038480"/>
          <a:ext cx="4343400" cy="258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038480"/>
                    <a:ext cx="4343400" cy="25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Тимераякта шуу</a:t>
            </a:r>
            <a:br>
              <a:rPr sz="28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4952520"/>
            <a:ext cx="8610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tt-RU" sz="2800" spc="-1" strike="noStrike">
                <a:solidFill>
                  <a:srgbClr val="000000"/>
                </a:solidFill>
                <a:latin typeface="Verdana"/>
              </a:rPr>
              <a:t>Тимераякта шуу ярышында 12 хатын-кыз,18 ир-ат катнашкан. Аларны 6 командага тигез итеп бүлгәннәр.Һәр командада  ничә кеше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i?id=62649840-45-72&amp;n=17"/>
          <p:cNvPicPr/>
          <p:nvPr/>
        </p:nvPicPr>
        <p:blipFill>
          <a:blip r:embed="rId1"/>
          <a:stretch/>
        </p:blipFill>
        <p:spPr>
          <a:xfrm>
            <a:off x="380880" y="16765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i?id=428692948-39-72&amp;n=17"/>
          <p:cNvPicPr/>
          <p:nvPr/>
        </p:nvPicPr>
        <p:blipFill>
          <a:blip r:embed="rId2"/>
          <a:stretch/>
        </p:blipFill>
        <p:spPr>
          <a:xfrm>
            <a:off x="4952880" y="1600200"/>
            <a:ext cx="419112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838080" y="208080"/>
            <a:ext cx="656748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0000"/>
                </a:solidFill>
                <a:latin typeface="Arial"/>
              </a:rPr>
              <a:t>1 нче ысу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0000"/>
                </a:solidFill>
                <a:latin typeface="Arial"/>
              </a:rPr>
              <a:t>12+18 =30 (с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0000"/>
                </a:solidFill>
                <a:latin typeface="Arial"/>
              </a:rPr>
              <a:t>30:6=5 (с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0000"/>
                </a:solidFill>
                <a:latin typeface="Arial"/>
              </a:rPr>
              <a:t>2 нче ысу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0000"/>
                </a:solidFill>
                <a:latin typeface="Arial"/>
              </a:rPr>
              <a:t>12:6=2(с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0000"/>
                </a:solidFill>
                <a:latin typeface="Arial"/>
              </a:rPr>
              <a:t>18:6=3(с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0000"/>
                </a:solidFill>
                <a:latin typeface="Arial"/>
              </a:rPr>
              <a:t>2+3=5(с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7" descr="i?id=18081210-6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429000"/>
            <a:ext cx="3809880" cy="2552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i?id=72737331-45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751200"/>
            <a:ext cx="2629080" cy="2421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i?id=72737331-4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3733920"/>
            <a:ext cx="2629080" cy="2420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i?id=18081210-61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00600" y="358128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өрес чиштеңме тикшер!!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Verdana"/>
              </a:rPr>
              <a:t>(12+18):6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  12:6+18: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tt-RU" sz="4000" spc="-1" strike="noStrike">
                <a:solidFill>
                  <a:srgbClr val="ff0000"/>
                </a:solidFill>
                <a:latin typeface="Verdana"/>
              </a:rPr>
              <a:t>Кем дөрес чишкән и           хәрефен ала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Аңлатманы төрле ысул белән</a:t>
            </a:r>
            <a:r>
              <a:rPr b="0" lang="tt-RU" sz="4000" spc="-1" strike="noStrike">
                <a:solidFill>
                  <a:srgbClr val="999900"/>
                </a:solidFill>
                <a:latin typeface="Garamond"/>
              </a:rPr>
              <a:t> чиш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000000"/>
                </a:solidFill>
                <a:latin typeface="Verdana"/>
              </a:rPr>
              <a:t>6 Х (2+3)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өреслеген тикшер!!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Verdana"/>
              </a:rPr>
              <a:t>6х(2+3)=6х5=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Verdana"/>
              </a:rPr>
              <a:t>6х(2+3)=6х2+6х3=12+18=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tt-RU" sz="3200" spc="-1" strike="noStrike">
                <a:solidFill>
                  <a:srgbClr val="ff0000"/>
                </a:solidFill>
                <a:latin typeface="Verdana"/>
              </a:rPr>
              <a:t>Кем дөрес чишкән м хәрефен ала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Мәсь</a:t>
            </a:r>
            <a:r>
              <a:rPr b="0" lang="tt-RU" sz="4400" spc="-1" strike="noStrike">
                <a:solidFill>
                  <a:srgbClr val="999900"/>
                </a:solidFill>
                <a:latin typeface="Garamond"/>
              </a:rPr>
              <a:t>әләне чиш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Verdana"/>
              </a:rPr>
              <a:t>Җиңүчеләргә бирү өчен25 кызыл 10 ак канәфер (гвоздика) чәчәгеннән 5 бертөрле букет ясаганнар.Бер букетта ничә канәфер чәчәге булыр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tt-RU" sz="2800" spc="-1" strike="noStrike">
                <a:solidFill>
                  <a:srgbClr val="000000"/>
                </a:solidFill>
                <a:latin typeface="Verdana"/>
              </a:rPr>
              <a:t>152,33 нче б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Чишелешне тикшер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) (25+10):5= 35:5=7(канәфер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Verdana"/>
              </a:rPr>
              <a:t>2)52х(5+4)=468(кг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tt-RU" sz="3600" spc="-1" strike="noStrike">
                <a:solidFill>
                  <a:srgbClr val="ff0000"/>
                </a:solidFill>
                <a:latin typeface="Verdana"/>
              </a:rPr>
              <a:t>Кем дөрес чиште п хәрефен ала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зкультминут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0000"/>
                </a:solidFill>
                <a:latin typeface="Verdana"/>
              </a:rPr>
              <a:t>Әйдәгез,биатлонистлар    булып алыйк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7" descr="i?id=406694717-5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3962520"/>
            <a:ext cx="297180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304920" y="1230480"/>
            <a:ext cx="850896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усс методы белән исәпләү!!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+2+3+4+5+6+7+8+9+10=11*5=5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Freeform 10"/>
          <p:cNvSpPr/>
          <p:nvPr/>
        </p:nvSpPr>
        <p:spPr>
          <a:xfrm>
            <a:off x="1371600" y="4191120"/>
            <a:ext cx="4648320" cy="1218960"/>
          </a:xfrm>
          <a:custGeom>
            <a:avLst/>
            <a:gdLst>
              <a:gd name="textAreaLeft" fmla="*/ 0 w 4648320"/>
              <a:gd name="textAreaRight" fmla="*/ 4648680 w 46483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928" h="768">
                <a:moveTo>
                  <a:pt x="0" y="768"/>
                </a:moveTo>
                <a:cubicBezTo>
                  <a:pt x="500" y="384"/>
                  <a:pt x="1000" y="0"/>
                  <a:pt x="1488" y="0"/>
                </a:cubicBezTo>
                <a:cubicBezTo>
                  <a:pt x="1976" y="0"/>
                  <a:pt x="2688" y="640"/>
                  <a:pt x="2928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reeform 11"/>
          <p:cNvSpPr/>
          <p:nvPr/>
        </p:nvSpPr>
        <p:spPr>
          <a:xfrm>
            <a:off x="1981080" y="4495680"/>
            <a:ext cx="3200400" cy="8384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016" h="528">
                <a:moveTo>
                  <a:pt x="0" y="528"/>
                </a:moveTo>
                <a:cubicBezTo>
                  <a:pt x="312" y="264"/>
                  <a:pt x="624" y="0"/>
                  <a:pt x="960" y="0"/>
                </a:cubicBezTo>
                <a:cubicBezTo>
                  <a:pt x="1296" y="0"/>
                  <a:pt x="1656" y="264"/>
                  <a:pt x="2016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2438280" y="4724280"/>
            <a:ext cx="2210040" cy="60984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392" h="384">
                <a:moveTo>
                  <a:pt x="0" y="384"/>
                </a:moveTo>
                <a:cubicBezTo>
                  <a:pt x="172" y="192"/>
                  <a:pt x="344" y="0"/>
                  <a:pt x="576" y="0"/>
                </a:cubicBezTo>
                <a:cubicBezTo>
                  <a:pt x="808" y="0"/>
                  <a:pt x="1100" y="192"/>
                  <a:pt x="1392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3"/>
          <p:cNvSpPr/>
          <p:nvPr/>
        </p:nvSpPr>
        <p:spPr>
          <a:xfrm>
            <a:off x="2895480" y="4876920"/>
            <a:ext cx="1295640" cy="54612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16" h="344">
                <a:moveTo>
                  <a:pt x="0" y="344"/>
                </a:moveTo>
                <a:cubicBezTo>
                  <a:pt x="76" y="180"/>
                  <a:pt x="152" y="16"/>
                  <a:pt x="288" y="8"/>
                </a:cubicBezTo>
                <a:cubicBezTo>
                  <a:pt x="424" y="0"/>
                  <a:pt x="620" y="148"/>
                  <a:pt x="816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Freeform 15"/>
          <p:cNvSpPr/>
          <p:nvPr/>
        </p:nvSpPr>
        <p:spPr>
          <a:xfrm>
            <a:off x="3276720" y="5029200"/>
            <a:ext cx="533160" cy="393840"/>
          </a:xfrm>
          <a:custGeom>
            <a:avLst/>
            <a:gdLst>
              <a:gd name="textAreaLeft" fmla="*/ 0 w 533160"/>
              <a:gd name="textAreaRight" fmla="*/ 533520 w 53316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336" h="248">
                <a:moveTo>
                  <a:pt x="0" y="200"/>
                </a:moveTo>
                <a:cubicBezTo>
                  <a:pt x="20" y="100"/>
                  <a:pt x="40" y="0"/>
                  <a:pt x="96" y="8"/>
                </a:cubicBezTo>
                <a:cubicBezTo>
                  <a:pt x="152" y="16"/>
                  <a:pt x="244" y="132"/>
                  <a:pt x="336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7" descr="i?id=481837849-2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342900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Гаусс методы белән исәплә!!!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3911760" cy="30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ң чаңг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1+22+23+24+25+26+27+28+29+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87520" y="1599840"/>
            <a:ext cx="4498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л чаңг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3+83+73+63+53+43+33+23+13+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7" descr="i?id=481837849-2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05740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i?id=551683550-33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380988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</a:t>
            </a:r>
            <a:r>
              <a:rPr b="0" lang="tt-RU" sz="4400" spc="-1" strike="noStrike">
                <a:solidFill>
                  <a:srgbClr val="999900"/>
                </a:solidFill>
                <a:latin typeface="Garamond"/>
              </a:rPr>
              <a:t>әрес девизы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!!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2960"/>
            <a:ext cx="82296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тематика кирәк 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тематика зирәк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рмышта кирәк булы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лкауланмаска кирәк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дән сезгә шул теләк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               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өреслеген тикшер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403704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Уң чаңг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51*5=25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ул чаңг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96*5=48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Verdana"/>
              </a:rPr>
              <a:t>Дөрес чишсәң и хәрефен ал 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i?id=190676444-5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28600" y="152280"/>
            <a:ext cx="2971800" cy="18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әреслек белән эшлибез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Уң чаңг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ңайлы ысул белән исәпл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67,31 нче би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23920" y="1523880"/>
            <a:ext cx="40388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Сул чаңг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Уңайлы ысул белән исәпл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50,33 нче бит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7" descr="i?id=32276834-2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4876920"/>
            <a:ext cx="2543040" cy="142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i?id=516382098-27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4876920"/>
            <a:ext cx="243828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66"/>
                </a:solidFill>
                <a:latin typeface="Garamond"/>
              </a:rPr>
              <a:t>    </a:t>
            </a:r>
            <a:r>
              <a:rPr b="0" lang="tt-RU" sz="4000" spc="-1" strike="noStrike">
                <a:solidFill>
                  <a:srgbClr val="ff0066"/>
                </a:solidFill>
                <a:latin typeface="Garamond"/>
              </a:rPr>
              <a:t>Дөрес чишсәң “ и” хәрефен ал!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5" descr="i?id=169084687-2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536840"/>
            <a:ext cx="7772400" cy="43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999900"/>
                </a:solidFill>
                <a:latin typeface="Garamond"/>
              </a:rPr>
              <a:t>Табли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ц</a:t>
            </a:r>
            <a:r>
              <a:rPr b="0" lang="tt-RU" sz="4400" spc="-1" strike="noStrike">
                <a:solidFill>
                  <a:srgbClr val="999900"/>
                </a:solidFill>
                <a:latin typeface="Garamond"/>
              </a:rPr>
              <a:t>аны тутыр!!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1600200"/>
          <a:ext cx="4114800" cy="2209680"/>
        </p:xfrm>
        <a:graphic>
          <a:graphicData uri="http://schemas.openxmlformats.org/drawingml/2006/table">
            <a:tbl>
              <a:tblPr/>
              <a:tblGrid>
                <a:gridCol w="457200"/>
                <a:gridCol w="719280"/>
                <a:gridCol w="585720"/>
                <a:gridCol w="590400"/>
                <a:gridCol w="585720"/>
                <a:gridCol w="587520"/>
                <a:gridCol w="588960"/>
              </a:tblGrid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267080" y="1600200"/>
          <a:ext cx="4876920" cy="21859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286000" y="4495680"/>
          <a:ext cx="6629400" cy="1706760"/>
        </p:xfrm>
        <a:graphic>
          <a:graphicData uri="http://schemas.openxmlformats.org/drawingml/2006/table">
            <a:tbl>
              <a:tblPr/>
              <a:tblGrid>
                <a:gridCol w="949320"/>
                <a:gridCol w="944640"/>
                <a:gridCol w="946080"/>
                <a:gridCol w="949320"/>
                <a:gridCol w="946080"/>
                <a:gridCol w="944640"/>
                <a:gridCol w="9493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Picture 84" descr="i?id=387968952-3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191120"/>
            <a:ext cx="182880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Тикшерәбез?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1600200"/>
          <a:ext cx="4114800" cy="2209680"/>
        </p:xfrm>
        <a:graphic>
          <a:graphicData uri="http://schemas.openxmlformats.org/drawingml/2006/table">
            <a:tbl>
              <a:tblPr/>
              <a:tblGrid>
                <a:gridCol w="457200"/>
                <a:gridCol w="719280"/>
                <a:gridCol w="585720"/>
                <a:gridCol w="590400"/>
                <a:gridCol w="585720"/>
                <a:gridCol w="587520"/>
                <a:gridCol w="588960"/>
              </a:tblGrid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267080" y="1600200"/>
          <a:ext cx="4876920" cy="21859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286000" y="4495680"/>
          <a:ext cx="6629400" cy="1706760"/>
        </p:xfrm>
        <a:graphic>
          <a:graphicData uri="http://schemas.openxmlformats.org/drawingml/2006/table">
            <a:tbl>
              <a:tblPr/>
              <a:tblGrid>
                <a:gridCol w="949320"/>
                <a:gridCol w="944640"/>
                <a:gridCol w="946080"/>
                <a:gridCol w="949320"/>
                <a:gridCol w="946080"/>
                <a:gridCol w="944640"/>
                <a:gridCol w="9493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Picture 84" descr="i?id=387968952-3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191120"/>
            <a:ext cx="182880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380880" y="75888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илеп чыккан сүзлә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бс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келет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ерлин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295280" y="3278160"/>
            <a:ext cx="692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өрес чишсәң «д» хәрефен а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7" descr="i?id=47113526-3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648320"/>
            <a:ext cx="2343240" cy="1428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i?id=118555128-5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4724280"/>
            <a:ext cx="1971720" cy="1428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i?id=224863776-58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4876920"/>
            <a:ext cx="216216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3789360"/>
            <a:ext cx="9144000" cy="1752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0" y="5064120"/>
            <a:ext cx="914400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4716360"/>
            <a:ext cx="9144000" cy="360360"/>
          </a:xfrm>
          <a:prstGeom prst="rect">
            <a:avLst/>
          </a:prstGeom>
          <a:gradFill rotWithShape="0">
            <a:gsLst>
              <a:gs pos="0">
                <a:srgbClr val="37ffff"/>
              </a:gs>
              <a:gs pos="100000">
                <a:srgbClr val="93d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619280" y="2708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4 м/с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0" y="66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303120" y="5661000"/>
            <a:ext cx="8718480" cy="1198080"/>
            <a:chOff x="303120" y="5661000"/>
            <a:chExt cx="8718480" cy="1198080"/>
          </a:xfrm>
        </p:grpSpPr>
        <p:sp>
          <p:nvSpPr>
            <p:cNvPr id="194" name="Rectangle 9"/>
            <p:cNvSpPr/>
            <p:nvPr/>
          </p:nvSpPr>
          <p:spPr>
            <a:xfrm>
              <a:off x="3564000" y="6033960"/>
              <a:ext cx="252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21 </a:t>
              </a: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м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303120" y="5661000"/>
              <a:ext cx="8718480" cy="666720"/>
            </a:xfrm>
            <a:custGeom>
              <a:avLst/>
              <a:gdLst>
                <a:gd name="textAreaLeft" fmla="*/ 0 w 8718480"/>
                <a:gd name="textAreaRight" fmla="*/ 8718480 w 87184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5492" h="420">
                  <a:moveTo>
                    <a:pt x="13" y="15"/>
                  </a:moveTo>
                  <a:cubicBezTo>
                    <a:pt x="87" y="71"/>
                    <a:pt x="0" y="301"/>
                    <a:pt x="459" y="351"/>
                  </a:cubicBezTo>
                  <a:cubicBezTo>
                    <a:pt x="918" y="401"/>
                    <a:pt x="2000" y="313"/>
                    <a:pt x="2767" y="316"/>
                  </a:cubicBezTo>
                  <a:cubicBezTo>
                    <a:pt x="3534" y="319"/>
                    <a:pt x="4626" y="420"/>
                    <a:pt x="5059" y="367"/>
                  </a:cubicBezTo>
                  <a:cubicBezTo>
                    <a:pt x="5492" y="314"/>
                    <a:pt x="5301" y="76"/>
                    <a:pt x="5365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96" name="Picture 11" descr="083"/>
          <p:cNvPicPr/>
          <p:nvPr/>
        </p:nvPicPr>
        <p:blipFill>
          <a:blip r:embed="rId1"/>
          <a:stretch/>
        </p:blipFill>
        <p:spPr>
          <a:xfrm>
            <a:off x="3962520" y="1600200"/>
            <a:ext cx="1164960" cy="2133720"/>
          </a:xfrm>
          <a:prstGeom prst="rect">
            <a:avLst/>
          </a:prstGeom>
          <a:ln w="0">
            <a:noFill/>
          </a:ln>
        </p:spPr>
      </p:pic>
      <p:sp>
        <p:nvSpPr>
          <p:cNvPr id="197" name="Freeform 12"/>
          <p:cNvSpPr/>
          <p:nvPr/>
        </p:nvSpPr>
        <p:spPr>
          <a:xfrm>
            <a:off x="395280" y="5013360"/>
            <a:ext cx="360360" cy="504720"/>
          </a:xfrm>
          <a:custGeom>
            <a:avLst/>
            <a:gdLst>
              <a:gd name="textAreaLeft" fmla="*/ 0 w 360360"/>
              <a:gd name="textAreaRight" fmla="*/ 360720 w 360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454" h="544">
                <a:moveTo>
                  <a:pt x="0" y="318"/>
                </a:moveTo>
                <a:lnTo>
                  <a:pt x="454" y="318"/>
                </a:lnTo>
                <a:lnTo>
                  <a:pt x="0" y="0"/>
                </a:lnTo>
                <a:lnTo>
                  <a:pt x="0" y="544"/>
                </a:lnTo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Freeform 13"/>
          <p:cNvSpPr/>
          <p:nvPr/>
        </p:nvSpPr>
        <p:spPr>
          <a:xfrm>
            <a:off x="8604360" y="5013360"/>
            <a:ext cx="360360" cy="504720"/>
          </a:xfrm>
          <a:custGeom>
            <a:avLst/>
            <a:gdLst>
              <a:gd name="textAreaLeft" fmla="*/ 0 w 360360"/>
              <a:gd name="textAreaRight" fmla="*/ 360720 w 360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454" h="544">
                <a:moveTo>
                  <a:pt x="0" y="318"/>
                </a:moveTo>
                <a:lnTo>
                  <a:pt x="454" y="318"/>
                </a:lnTo>
                <a:lnTo>
                  <a:pt x="0" y="0"/>
                </a:lnTo>
                <a:lnTo>
                  <a:pt x="0" y="544"/>
                </a:lnTo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1619280" y="603396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Times New Roman"/>
              </a:rPr>
              <a:t>3с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292720" y="285264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? м/с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5148360" y="3573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19"/>
          <p:cNvSpPr/>
          <p:nvPr/>
        </p:nvSpPr>
        <p:spPr>
          <a:xfrm flipH="1">
            <a:off x="2195640" y="350028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21" descr="i?id=465632045-43-72&amp;n=21"/>
          <p:cNvPicPr/>
          <p:nvPr/>
        </p:nvPicPr>
        <p:blipFill>
          <a:blip r:embed="rId2"/>
          <a:stretch/>
        </p:blipFill>
        <p:spPr>
          <a:xfrm>
            <a:off x="3124080" y="380988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3" descr="i?id=68506852-68-72&amp;n=21"/>
          <p:cNvPicPr/>
          <p:nvPr/>
        </p:nvPicPr>
        <p:blipFill>
          <a:blip r:embed="rId3"/>
          <a:stretch/>
        </p:blipFill>
        <p:spPr>
          <a:xfrm>
            <a:off x="5105520" y="3809880"/>
            <a:ext cx="15904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228600" y="460440"/>
            <a:ext cx="8153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Молодцы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57200" y="40510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Өй эше         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ң чаңгы №12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    Сул чаңгы№15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7" descr="i?id=56837348-43-72&amp;n=21"/>
          <p:cNvPicPr/>
          <p:nvPr/>
        </p:nvPicPr>
        <p:blipFill>
          <a:blip r:embed="rId1"/>
          <a:stretch/>
        </p:blipFill>
        <p:spPr>
          <a:xfrm>
            <a:off x="6095880" y="26668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i?id=685060611-47-72&amp;n=21"/>
          <p:cNvPicPr/>
          <p:nvPr/>
        </p:nvPicPr>
        <p:blipFill>
          <a:blip r:embed="rId2"/>
          <a:stretch/>
        </p:blipFill>
        <p:spPr>
          <a:xfrm>
            <a:off x="304920" y="2514600"/>
            <a:ext cx="22669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28600" y="321192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-23 нче февраль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көннәрендә Россия Фед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иясенең Краснодар крае Сочи шәһәрендә 22 нче кышкы Олимпия уеннары үтә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Безнең дәрес шуңа багышлан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Җиңүләр сезгә!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1219320" y="228600"/>
          <a:ext cx="6840360" cy="25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"/>
                    <a:ext cx="684036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838080" y="3514320"/>
            <a:ext cx="723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дән исәплә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Җавапларны баганалап язабыз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ң чаңгы – уң кулын күтәрә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л чаңгы – сул кулын күтәрә! 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7" descr="i?id=306389062-4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04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Телдән исәпләү </a:t>
            </a:r>
            <a:br>
              <a:rPr sz="4400"/>
            </a:b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У</a:t>
            </a:r>
            <a:r>
              <a:rPr b="0" lang="tt-RU" sz="4400" spc="-1" strike="noStrike">
                <a:solidFill>
                  <a:srgbClr val="999900"/>
                </a:solidFill>
                <a:latin typeface="Garamond"/>
              </a:rPr>
              <a:t>ң чаңгы                 Сул чаңг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үленүче 60, Бүлүче 6.Өлешне яз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илеп чыккан санны 7 тапкыр зурай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нны 40 ка киме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нны 15 кә ким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нны 3 тапкыр кимет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нны20 гә зурай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10 тапкыр зурай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нны 600 гә зурай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40388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үленүче 630 ,бүлүче 21 өлешне тап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4 тапкыр зурай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8 гә киме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нны 18 тапкыр киме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50 гә тапкырл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0 га бү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4 тапкыр зурай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96 ны куш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7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00"/>
                </a:solidFill>
                <a:latin typeface="Garamond"/>
              </a:rPr>
              <a:t>- </a:t>
            </a:r>
            <a:r>
              <a:rPr b="0" lang="tt-RU" sz="2400" spc="-1" strike="noStrike">
                <a:solidFill>
                  <a:srgbClr val="999900"/>
                </a:solidFill>
                <a:latin typeface="Garamond"/>
              </a:rPr>
              <a:t>Дөрес чиштеңме икән?</a:t>
            </a: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-Сул чаңгы тикшерә.</a:t>
            </a:r>
            <a:br>
              <a:rPr sz="2400"/>
            </a:br>
            <a:r>
              <a:rPr b="1" lang="ru-RU" sz="2400" spc="-1" strike="noStrike" u="sng">
                <a:solidFill>
                  <a:srgbClr val="999900"/>
                </a:solidFill>
                <a:uFillTx/>
                <a:latin typeface="Garamond"/>
              </a:rPr>
              <a:t>-Уң чаңгы тикшерә</a:t>
            </a: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Garamond"/>
              </a:rPr>
              <a:t>«Кем дөрес чишкән о хәрефен ала</a:t>
            </a:r>
            <a:r>
              <a:rPr b="0" lang="ru-RU" sz="2400" spc="-1" strike="noStrike">
                <a:solidFill>
                  <a:srgbClr val="ff0066"/>
                </a:solidFill>
                <a:latin typeface="Garamond"/>
              </a:rPr>
              <a:t>».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370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0:6=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х7=7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0-40=3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0-15=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5:3=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х20=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5х10=2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00+250=8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9760" y="2290320"/>
            <a:ext cx="40370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30:30=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1*4=8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4-48=3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6:18=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*450=9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00:30=3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0*14=4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20+296=7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8" descr="i?id=255470393-5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133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i?id=48566316-6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5429160"/>
            <a:ext cx="1914480" cy="12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04920" y="351684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50+716=1566к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6" descr="i?id=621302427-1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2860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i?id=443458916-4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228600"/>
            <a:ext cx="3733920" cy="28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57200" y="1062720"/>
            <a:ext cx="82296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леп чыккан сан турында нәрсә әйтерсез?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156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тәләр сан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Җөпме такм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 санның күршелә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нар суммас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Җавапны тикшерәбез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Җө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565 и 156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лодцы, «Телдән исәпләү» биремнәрен чиште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«Кем дөрес чишкән л хәрефен ала</a:t>
            </a:r>
            <a:r>
              <a:rPr b="0" lang="ru-RU" sz="2000" spc="-1" strike="noStrike">
                <a:solidFill>
                  <a:srgbClr val="ff0066"/>
                </a:solidFill>
                <a:latin typeface="Verdana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5" descr="i?id=535543876-27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762120"/>
            <a:ext cx="251460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5T03:37:51Z</dcterms:created>
  <dc:creator>Марина</dc:creator>
  <dc:description/>
  <dc:language>en-US</dc:language>
  <cp:lastModifiedBy>Admin</cp:lastModifiedBy>
  <dcterms:modified xsi:type="dcterms:W3CDTF">2016-11-23T15:07:09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