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2ED-6318-4A9E-9FAD-57ED6FB8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99B-7CE5-4C5E-909C-A9EF33A4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8B8-1801-4A80-80C8-EAE3F103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2DE-1719-4C42-8EF8-CA0573F9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08A9-6060-48D7-8332-D9E4C601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F87-22D4-45FD-97DA-0E9C16E1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A86-646A-48F4-915C-2EFBC00A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D3A-E5DC-4AD5-82BC-59B44B80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AE2-A63F-4175-96CE-960E3D09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545-0D15-4C5D-AFF5-8CF0795B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73EC-6FC4-40AC-A1ED-9E4409AE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AB4-D262-4577-BFCF-30816714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587F-D534-40C3-8118-D0632FC450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любовь\Documents\126 фоны для презентаций\фон рябина.jpg"/>
          <p:cNvPicPr/>
          <p:nvPr/>
        </p:nvPicPr>
        <p:blipFill>
          <a:blip r:embed="rId1"/>
          <a:stretch/>
        </p:blipFill>
        <p:spPr>
          <a:xfrm>
            <a:off x="12600" y="-9360"/>
            <a:ext cx="91314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5000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Урок окружающего мира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во 2 классе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9720" y="3500280"/>
            <a:ext cx="72867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Будь природе другом!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G:\ПЕЧАТАТЬ к уроку\не разводи костры не бери жив домой.jpg"/>
          <p:cNvPicPr/>
          <p:nvPr/>
        </p:nvPicPr>
        <p:blipFill>
          <a:blip r:embed="rId1"/>
          <a:srcRect l="0" t="50003" r="0" b="0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G:\ПЕЧАТАТЬ к уроку\не трогай муравейники.jpg"/>
          <p:cNvPicPr/>
          <p:nvPr/>
        </p:nvPicPr>
        <p:blipFill>
          <a:blip r:embed="rId1"/>
          <a:srcRect l="0" t="0" r="0" b="51172"/>
          <a:stretch/>
        </p:blipFill>
        <p:spPr>
          <a:xfrm>
            <a:off x="0" y="0"/>
            <a:ext cx="911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любовь\Documents\126 фоны для презентаций\фон рябина.jpg"/>
          <p:cNvPicPr/>
          <p:nvPr/>
        </p:nvPicPr>
        <p:blipFill>
          <a:blip r:embed="rId1"/>
          <a:stretch/>
        </p:blipFill>
        <p:spPr>
          <a:xfrm>
            <a:off x="12600" y="-9360"/>
            <a:ext cx="9131400" cy="6867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856800" y="1143000"/>
            <a:ext cx="72867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РАБОТА В ГРУПП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1357200" y="3643200"/>
            <a:ext cx="557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ГРУППА №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G:\ПЕЧАТАТЬ к уроку\правила пов в лесу (2).png"/>
          <p:cNvPicPr/>
          <p:nvPr/>
        </p:nvPicPr>
        <p:blipFill>
          <a:blip r:embed="rId1"/>
          <a:srcRect l="0" t="51514" r="0" b="0"/>
          <a:stretch/>
        </p:blipFill>
        <p:spPr>
          <a:xfrm>
            <a:off x="0" y="0"/>
            <a:ext cx="91803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G:\ПЕЧАТАТЬ к уроку\правила пов в лесу (2).png"/>
          <p:cNvPicPr/>
          <p:nvPr/>
        </p:nvPicPr>
        <p:blipFill>
          <a:blip r:embed="rId1"/>
          <a:srcRect l="0" t="0" r="0" b="53019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Users\любовь\Documents\126 фоны для презентаций\фон рябина.jpg"/>
          <p:cNvPicPr/>
          <p:nvPr/>
        </p:nvPicPr>
        <p:blipFill>
          <a:blip r:embed="rId1"/>
          <a:stretch/>
        </p:blipFill>
        <p:spPr>
          <a:xfrm>
            <a:off x="12600" y="-9360"/>
            <a:ext cx="9131400" cy="6867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856800" y="1143000"/>
            <a:ext cx="72867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РАБОТА В ГРУПП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1357200" y="3643200"/>
            <a:ext cx="557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ГРУППА №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любовь\Documents\126 фоны для презентаций\фон рябина.jpg"/>
          <p:cNvPicPr/>
          <p:nvPr/>
        </p:nvPicPr>
        <p:blipFill>
          <a:blip r:embed="rId1"/>
          <a:stretch/>
        </p:blipFill>
        <p:spPr>
          <a:xfrm>
            <a:off x="12600" y="-9360"/>
            <a:ext cx="9131400" cy="686736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7" descr="дети в лесу.jpg"/>
          <p:cNvPicPr/>
          <p:nvPr/>
        </p:nvPicPr>
        <p:blipFill>
          <a:blip r:embed="rId2"/>
          <a:stretch/>
        </p:blipFill>
        <p:spPr>
          <a:xfrm>
            <a:off x="452520" y="369720"/>
            <a:ext cx="804852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G:\ПЕЧАТАТЬ к уроку\не разводи костры не бери жив домой.jpg"/>
          <p:cNvPicPr/>
          <p:nvPr/>
        </p:nvPicPr>
        <p:blipFill>
          <a:blip r:embed="rId1"/>
          <a:srcRect l="0" t="0" r="0" b="51172"/>
          <a:stretch/>
        </p:blipFill>
        <p:spPr>
          <a:xfrm>
            <a:off x="0" y="0"/>
            <a:ext cx="915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G:\ПЕЧАТАТЬ к уроку\мусор.jpg"/>
          <p:cNvPicPr/>
          <p:nvPr/>
        </p:nvPicPr>
        <p:blipFill>
          <a:blip r:embed="rId1"/>
          <a:stretch/>
        </p:blipFill>
        <p:spPr>
          <a:xfrm>
            <a:off x="-46080" y="0"/>
            <a:ext cx="919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G:\ПЕЧАТАТЬ к уроку\не трогай муравейники.jpg"/>
          <p:cNvPicPr/>
          <p:nvPr/>
        </p:nvPicPr>
        <p:blipFill>
          <a:blip r:embed="rId1"/>
          <a:srcRect l="0" t="50003" r="0" b="0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Calibri"/>
              </a:rPr>
              <a:t>Подумай, почему исчезают многие растения и животны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Экология"/>
          <p:cNvPicPr/>
          <p:nvPr/>
        </p:nvPicPr>
        <p:blipFill>
          <a:blip r:embed="rId1"/>
          <a:srcRect l="10780" t="6871" r="17701" b="0"/>
          <a:stretch/>
        </p:blipFill>
        <p:spPr>
          <a:xfrm>
            <a:off x="4140360" y="1413000"/>
            <a:ext cx="5003640" cy="5184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2693160" y="264312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л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738160" y="592920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пили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789280" y="178596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уби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656800" y="350028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р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838600" y="5072040"/>
            <a:ext cx="21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брас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 flipV="1">
            <a:off x="1835280" y="2924280"/>
            <a:ext cx="720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2014560" y="37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1870200" y="386064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943280" y="4292640"/>
            <a:ext cx="647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1798560" y="4365720"/>
            <a:ext cx="72072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596320" y="4357800"/>
            <a:ext cx="20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загряз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V="1">
            <a:off x="1798560" y="2205000"/>
            <a:ext cx="792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G:\ПЕЧАТАТЬ к уроку\схема человек — копия.jpg"/>
          <p:cNvPicPr/>
          <p:nvPr/>
        </p:nvPicPr>
        <p:blipFill>
          <a:blip r:embed="rId2"/>
          <a:stretch/>
        </p:blipFill>
        <p:spPr>
          <a:xfrm>
            <a:off x="0" y="1785960"/>
            <a:ext cx="1728720" cy="38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любовь\Documents\126 фоны для презентаций\фон рябина.jpg"/>
          <p:cNvPicPr/>
          <p:nvPr/>
        </p:nvPicPr>
        <p:blipFill>
          <a:blip r:embed="rId1"/>
          <a:stretch/>
        </p:blipFill>
        <p:spPr>
          <a:xfrm>
            <a:off x="12600" y="-9360"/>
            <a:ext cx="9131400" cy="6867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1999800" y="2143080"/>
            <a:ext cx="62866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ru-RU" sz="10000" spc="-1" strike="noStrike">
                <a:solidFill>
                  <a:srgbClr val="ff0000"/>
                </a:solidFill>
                <a:latin typeface="Calibri"/>
              </a:rPr>
              <a:t>Будь природе другом</a:t>
            </a:r>
            <a:r>
              <a:rPr b="1" lang="ru-RU" sz="116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Не разоряйте птичьи гнёзд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Не рвите редкие цветы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 Не разоряйте муравейник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 обижайте лесных насекомых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 бейте стекло в лесу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 шумите в лесу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 портите несъедобные гриб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Calibri"/>
              </a:rPr>
              <a:t>Что ещё делает человек в природ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G:\ПЕЧАТАТЬ к уроку\схема человек — копия.jpg"/>
          <p:cNvPicPr/>
          <p:nvPr/>
        </p:nvPicPr>
        <p:blipFill>
          <a:blip r:embed="rId1"/>
          <a:stretch/>
        </p:blipFill>
        <p:spPr>
          <a:xfrm>
            <a:off x="7143840" y="1785960"/>
            <a:ext cx="1728720" cy="381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G:\ПЕЧАТАТЬ к уроку\дети сажают дерево.jpg"/>
          <p:cNvPicPr/>
          <p:nvPr/>
        </p:nvPicPr>
        <p:blipFill>
          <a:blip r:embed="rId2"/>
          <a:stretch/>
        </p:blipFill>
        <p:spPr>
          <a:xfrm>
            <a:off x="-36360" y="2803680"/>
            <a:ext cx="2212920" cy="2805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G:\ПЕЧАТАТЬ к уроку\поливает.jpg"/>
          <p:cNvPicPr/>
          <p:nvPr/>
        </p:nvPicPr>
        <p:blipFill>
          <a:blip r:embed="rId3"/>
          <a:stretch/>
        </p:blipFill>
        <p:spPr>
          <a:xfrm>
            <a:off x="42840" y="4591080"/>
            <a:ext cx="2262240" cy="3009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G:\ПЕЧАТАТЬ к уроку\кормит.jpg"/>
          <p:cNvPicPr/>
          <p:nvPr/>
        </p:nvPicPr>
        <p:blipFill>
          <a:blip r:embed="rId4"/>
          <a:stretch/>
        </p:blipFill>
        <p:spPr>
          <a:xfrm>
            <a:off x="2193840" y="3164040"/>
            <a:ext cx="2408400" cy="313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G:\ПЕЧАТАТЬ к уроку\уборка мусора.jpg"/>
          <p:cNvPicPr/>
          <p:nvPr/>
        </p:nvPicPr>
        <p:blipFill>
          <a:blip r:embed="rId5"/>
          <a:stretch/>
        </p:blipFill>
        <p:spPr>
          <a:xfrm>
            <a:off x="2395440" y="1017720"/>
            <a:ext cx="2298960" cy="2968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G:\ПЕЧАТАТЬ к уроку\корм зимой.jpg"/>
          <p:cNvPicPr/>
          <p:nvPr/>
        </p:nvPicPr>
        <p:blipFill>
          <a:blip r:embed="rId6"/>
          <a:stretch/>
        </p:blipFill>
        <p:spPr>
          <a:xfrm>
            <a:off x="19080" y="1090440"/>
            <a:ext cx="2071800" cy="2554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9"/>
          <p:cNvSpPr/>
          <p:nvPr/>
        </p:nvSpPr>
        <p:spPr>
          <a:xfrm>
            <a:off x="4786200" y="26431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УБИР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4857840" y="350028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ХРАН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4786200" y="435780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АЩИЩ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4786200" y="507204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УХАЖ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4786200" y="18572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САЖ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4786200" y="128592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ЧИЩ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5"/>
          <p:cNvSpPr/>
          <p:nvPr/>
        </p:nvSpPr>
        <p:spPr>
          <a:xfrm>
            <a:off x="4857840" y="58579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ЫРАЩ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17"/>
          <p:cNvCxnSpPr/>
          <p:nvPr/>
        </p:nvCxnSpPr>
        <p:spPr>
          <a:xfrm flipH="1" flipV="1">
            <a:off x="6214320" y="1499400"/>
            <a:ext cx="1143720" cy="8578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4" name="Прямая со стрелкой 18"/>
          <p:cNvCxnSpPr>
            <a:endCxn id="66" idx="3"/>
          </p:cNvCxnSpPr>
          <p:nvPr/>
        </p:nvCxnSpPr>
        <p:spPr>
          <a:xfrm flipH="1" flipV="1">
            <a:off x="6071760" y="2842920"/>
            <a:ext cx="1153440" cy="244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5" name="Прямая со стрелкой 19"/>
          <p:cNvCxnSpPr/>
          <p:nvPr/>
        </p:nvCxnSpPr>
        <p:spPr>
          <a:xfrm flipH="1">
            <a:off x="6143400" y="3286080"/>
            <a:ext cx="1072080" cy="3578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6" name="Прямая со стрелкой 20"/>
          <p:cNvCxnSpPr/>
          <p:nvPr/>
        </p:nvCxnSpPr>
        <p:spPr>
          <a:xfrm flipH="1">
            <a:off x="6357240" y="3692520"/>
            <a:ext cx="786600" cy="7372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7" name="Прямая со стрелкой 21"/>
          <p:cNvCxnSpPr/>
          <p:nvPr/>
        </p:nvCxnSpPr>
        <p:spPr>
          <a:xfrm flipH="1">
            <a:off x="6428520" y="4071600"/>
            <a:ext cx="786600" cy="11437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8" name="Прямая со стрелкой 22"/>
          <p:cNvCxnSpPr>
            <a:endCxn id="72" idx="3"/>
          </p:cNvCxnSpPr>
          <p:nvPr/>
        </p:nvCxnSpPr>
        <p:spPr>
          <a:xfrm flipH="1">
            <a:off x="6786720" y="4357440"/>
            <a:ext cx="643320" cy="17010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79" name="Прямая со стрелкой 32"/>
          <p:cNvCxnSpPr/>
          <p:nvPr/>
        </p:nvCxnSpPr>
        <p:spPr>
          <a:xfrm flipH="1" flipV="1">
            <a:off x="6071760" y="2214000"/>
            <a:ext cx="1215360" cy="5007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Экология"/>
          <p:cNvPicPr/>
          <p:nvPr/>
        </p:nvPicPr>
        <p:blipFill>
          <a:blip r:embed="rId1"/>
          <a:srcRect l="10780" t="6871" r="17701" b="0"/>
          <a:stretch/>
        </p:blipFill>
        <p:spPr>
          <a:xfrm>
            <a:off x="1857240" y="500040"/>
            <a:ext cx="5004000" cy="518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G:\ПЕЧАТАТЬ к уроку\схема человек — копия.jpg"/>
          <p:cNvPicPr/>
          <p:nvPr/>
        </p:nvPicPr>
        <p:blipFill>
          <a:blip r:embed="rId2"/>
          <a:stretch/>
        </p:blipFill>
        <p:spPr>
          <a:xfrm>
            <a:off x="285840" y="1143000"/>
            <a:ext cx="1728720" cy="3814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G:\ПЕЧАТАТЬ к уроку\схема человек — копия.jpg"/>
          <p:cNvPicPr/>
          <p:nvPr/>
        </p:nvPicPr>
        <p:blipFill>
          <a:blip r:embed="rId3"/>
          <a:stretch/>
        </p:blipFill>
        <p:spPr>
          <a:xfrm>
            <a:off x="7143840" y="1071720"/>
            <a:ext cx="1643040" cy="362556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357120" y="542916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РА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7286760" y="557208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У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3500280" y="5749920"/>
            <a:ext cx="292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А ТЫ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G:\ПЕЧАТАТЬ к уроку\корм зимой.jpg"/>
          <p:cNvPicPr/>
          <p:nvPr/>
        </p:nvPicPr>
        <p:blipFill>
          <a:blip r:embed="rId4"/>
          <a:stretch/>
        </p:blipFill>
        <p:spPr>
          <a:xfrm>
            <a:off x="1895400" y="4017960"/>
            <a:ext cx="1695600" cy="2011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G:\ПЕЧАТАТЬ к уроку\дети сажают дерево.jpg"/>
          <p:cNvPicPr/>
          <p:nvPr/>
        </p:nvPicPr>
        <p:blipFill>
          <a:blip r:embed="rId5"/>
          <a:stretch/>
        </p:blipFill>
        <p:spPr>
          <a:xfrm>
            <a:off x="5248440" y="4048200"/>
            <a:ext cx="1639800" cy="192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G:\ПЕЧАТАТЬ к уроку\уборка мусора.jpg"/>
          <p:cNvPicPr/>
          <p:nvPr/>
        </p:nvPicPr>
        <p:blipFill>
          <a:blip r:embed="rId6"/>
          <a:stretch/>
        </p:blipFill>
        <p:spPr>
          <a:xfrm>
            <a:off x="3602160" y="4876920"/>
            <a:ext cx="1628640" cy="196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G:\ПЕЧАТАТЬ к уроку\поливает.jpg"/>
          <p:cNvPicPr/>
          <p:nvPr/>
        </p:nvPicPr>
        <p:blipFill>
          <a:blip r:embed="rId7"/>
          <a:stretch/>
        </p:blipFill>
        <p:spPr>
          <a:xfrm>
            <a:off x="1670040" y="2157480"/>
            <a:ext cx="1573200" cy="1963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G:\ПЕЧАТАТЬ к уроку\кормит.jpg"/>
          <p:cNvPicPr/>
          <p:nvPr/>
        </p:nvPicPr>
        <p:blipFill>
          <a:blip r:embed="rId8"/>
          <a:stretch/>
        </p:blipFill>
        <p:spPr>
          <a:xfrm>
            <a:off x="5456160" y="2090880"/>
            <a:ext cx="1590840" cy="1914480"/>
          </a:xfrm>
          <a:prstGeom prst="rect">
            <a:avLst/>
          </a:prstGeom>
          <a:ln w="0">
            <a:noFill/>
          </a:ln>
        </p:spPr>
      </p:pic>
      <p:sp>
        <p:nvSpPr>
          <p:cNvPr id="91" name="TextBox 17"/>
          <p:cNvSpPr/>
          <p:nvPr/>
        </p:nvSpPr>
        <p:spPr>
          <a:xfrm>
            <a:off x="928800" y="142920"/>
            <a:ext cx="74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ЕЛОВЕК  ПРИРОДЕ    ДРУГ  или   ВРА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любовь\Documents\126 фоны для презентаций\фон рябина.jpg"/>
          <p:cNvPicPr/>
          <p:nvPr/>
        </p:nvPicPr>
        <p:blipFill>
          <a:blip r:embed="rId1"/>
          <a:stretch/>
        </p:blipFill>
        <p:spPr>
          <a:xfrm>
            <a:off x="0" y="-9360"/>
            <a:ext cx="9131400" cy="68673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857160" y="642960"/>
            <a:ext cx="7572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Экология – наука о связи живых существ со средой обит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Экология учит нас, как надо беречь приро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любовь\Documents\126 фоны для презентаций\фон рябина.jpg"/>
          <p:cNvPicPr/>
          <p:nvPr/>
        </p:nvPicPr>
        <p:blipFill>
          <a:blip r:embed="rId1"/>
          <a:stretch/>
        </p:blipFill>
        <p:spPr>
          <a:xfrm>
            <a:off x="12600" y="-9360"/>
            <a:ext cx="9131400" cy="6867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856800" y="1143000"/>
            <a:ext cx="72867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РАБОТА В ГРУПП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357200" y="3643200"/>
            <a:ext cx="557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ГРУППА №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G:\ПЕЧАТАТЬ к уроку\СИТУАЦИЯ 1 громкая музыка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G:\ПЕЧАТАТЬ к уроку\цветы.jpg"/>
          <p:cNvPicPr/>
          <p:nvPr/>
        </p:nvPicPr>
        <p:blipFill>
          <a:blip r:embed="rId1"/>
          <a:srcRect l="0" t="34291" r="0" b="0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любовь\Documents\126 фоны для презентаций\фон рябина.jpg"/>
          <p:cNvPicPr/>
          <p:nvPr/>
        </p:nvPicPr>
        <p:blipFill>
          <a:blip r:embed="rId1"/>
          <a:stretch/>
        </p:blipFill>
        <p:spPr>
          <a:xfrm>
            <a:off x="12600" y="-9360"/>
            <a:ext cx="9131400" cy="6867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856800" y="1143000"/>
            <a:ext cx="72867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РАБОТА В ГРУПП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1357200" y="3643200"/>
            <a:ext cx="557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ГРУППА №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4T19:30:23Z</dcterms:created>
  <dc:creator>любовь макарова</dc:creator>
  <dc:description/>
  <dc:language>en-US</dc:language>
  <cp:lastModifiedBy>Proffessional</cp:lastModifiedBy>
  <dcterms:modified xsi:type="dcterms:W3CDTF">2016-11-23T18:50:23Z</dcterms:modified>
  <cp:revision>29</cp:revision>
  <dc:subject/>
  <dc:title>Урок окружающего мира  во 2б классе  УМК «Школа России»</dc:title>
</cp:coreProperties>
</file>