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5FA-CCE4-4DA7-99FC-960E584E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F9B-CB0A-482E-A344-C157BE03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ACA-D6F7-4DAC-9CD2-35A0F2C8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ABF-0AA5-4429-8171-1497574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CF7-CBE4-4111-912A-55647A7D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F3B-D44F-48AB-A526-1D16EEE0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A9A-19ED-4467-A216-CD6EE1B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BF0-364D-4298-819E-A712F45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BD4-1DF3-40FD-974C-BBA0D287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4DC-B230-4D83-90CE-6ADCB27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27D-6242-4F5F-98A3-2E7434F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4CD-E9B5-4D1A-AA4D-0DDD791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A54D1E-0811-4280-A91E-369641D97B4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ный счёт по теме «Дроб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Выполнила учитель начальных классов Муковнина Алина Вильевн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МБОУ « Гимназия №2», г. Нижневарт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24000" y="189000"/>
            <a:ext cx="8362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d0d0d"/>
                </a:solidFill>
                <a:latin typeface="Arial"/>
              </a:rPr>
              <a:t>9)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квадрата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24 см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ему равна площад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  квадрата?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755640" y="5445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) Сравни: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от 1000 …3 от 100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               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"/>
          <p:cNvSpPr/>
          <p:nvPr/>
        </p:nvSpPr>
        <p:spPr>
          <a:xfrm>
            <a:off x="395280" y="4221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3"/>
          <p:cNvSpPr/>
          <p:nvPr/>
        </p:nvSpPr>
        <p:spPr>
          <a:xfrm>
            <a:off x="4788000" y="422100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68360" y="260280"/>
            <a:ext cx="849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11) Реши задачу :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За два дня турист прошёл 5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                                                8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ути. В первый день он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рошёл  3     пути .  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                8               </a:t>
            </a:r>
            <a:br>
              <a:rPr sz="4400"/>
            </a:b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кую часть пути он прошёл во второй день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7740720" y="170028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2771640" y="364500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) Запиши в порядке уб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        8        8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     60     15        1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684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234000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4140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6372360" y="393372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6640" indent="0"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2) Запиши в порядке возрастания:</a:t>
            </a:r>
            <a:br>
              <a:rPr sz="5400"/>
            </a:br>
            <a:br>
              <a:rPr sz="54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        30       1       15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     30       30     30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"/>
          <p:cNvSpPr/>
          <p:nvPr/>
        </p:nvSpPr>
        <p:spPr>
          <a:xfrm>
            <a:off x="1258920" y="4581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3492360" y="4581360"/>
            <a:ext cx="935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724360" y="4581360"/>
            <a:ext cx="935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7667640" y="4581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3) Срав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…  2              8 …  5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              8      8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        3    … 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5     25       15        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1619280" y="2349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88000" y="227664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6372360" y="227664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50920" y="537372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763640" y="530064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24360" y="522936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6300720" y="5373720"/>
            <a:ext cx="935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564000" y="1628640"/>
            <a:ext cx="1440" cy="482472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24000" y="3573360"/>
            <a:ext cx="7920000" cy="180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4) Вычислите и сравнит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d0d0d"/>
              </a:buClr>
              <a:buFont typeface="Arial"/>
              <a:buAutoNum type="arabicPlain" startAt="3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Arial"/>
              </a:rPr>
              <a:t>+  2   …  15  - 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spcBef>
                <a:spcPts val="15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d0d0d"/>
                </a:solidFill>
                <a:latin typeface="Arial"/>
              </a:rPr>
              <a:t>14     14        20    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9528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34000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788000" y="270828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50920" y="6093000"/>
            <a:ext cx="86407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804000" y="2637000"/>
            <a:ext cx="71928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8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) Чему равно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 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5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центнера?</a:t>
            </a: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"/>
          <p:cNvSpPr/>
          <p:nvPr/>
        </p:nvSpPr>
        <p:spPr>
          <a:xfrm>
            <a:off x="4140360" y="2565360"/>
            <a:ext cx="1008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6) С огорода принесли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42 кг 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огурцов и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всех</a:t>
            </a:r>
            <a:br>
              <a:rPr sz="5400"/>
            </a:b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 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7</a:t>
            </a:r>
            <a:br>
              <a:rPr sz="5400"/>
            </a:br>
            <a:r>
              <a:rPr b="1" lang="ru-RU" sz="5400" spc="-1" strike="noStrike">
                <a:solidFill>
                  <a:srgbClr val="0d0d0d"/>
                </a:solidFill>
                <a:latin typeface="Arial"/>
              </a:rPr>
              <a:t>огурцов засолили. Сколько кг огурцов засоли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"/>
          <p:cNvSpPr/>
          <p:nvPr/>
        </p:nvSpPr>
        <p:spPr>
          <a:xfrm>
            <a:off x="6012000" y="2565360"/>
            <a:ext cx="934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) На приобретение костюма покупатель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израсходова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4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  5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воих денег. Сколько денег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был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у покупателя, если костюм стоил 60 руб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6156360" y="2637000"/>
            <a:ext cx="9349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755640" y="31417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"/>
          <p:cNvSpPr/>
          <p:nvPr/>
        </p:nvSpPr>
        <p:spPr>
          <a:xfrm>
            <a:off x="755640" y="292428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349236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558000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752472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58800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84360" y="2997360"/>
            <a:ext cx="180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57200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860436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1619280" y="2997360"/>
            <a:ext cx="144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 rot="8640000">
            <a:off x="429840" y="603360"/>
            <a:ext cx="4254480" cy="2760480"/>
          </a:xfrm>
          <a:custGeom>
            <a:avLst/>
            <a:gdLst>
              <a:gd name="textAreaLeft" fmla="*/ 2126880 w 4254480"/>
              <a:gd name="textAreaRight" fmla="*/ 4254480 w 4254480"/>
              <a:gd name="textAreaTop" fmla="*/ 5400 h 2760480"/>
              <a:gd name="textAreaBottom" fmla="*/ 1380240 h 2760480"/>
            </a:gdLst>
            <a:ahLst/>
            <a:rect l="textAreaLeft" t="textAreaTop" r="textAreaRight" b="textAreaBottom"/>
            <a:pathLst>
              <a:path stroke="0" w="21600" h="21600">
                <a:moveTo>
                  <a:pt x="11631" y="32"/>
                </a:moveTo>
                <a:cubicBezTo>
                  <a:pt x="17218" y="463"/>
                  <a:pt x="21547" y="5096"/>
                  <a:pt x="21599" y="10698"/>
                </a:cubicBezTo>
                <a:lnTo>
                  <a:pt x="10800" y="10800"/>
                </a:lnTo>
                <a:close/>
              </a:path>
              <a:path fill="none" w="21600" h="21600">
                <a:moveTo>
                  <a:pt x="11631" y="32"/>
                </a:moveTo>
                <a:cubicBezTo>
                  <a:pt x="17218" y="463"/>
                  <a:pt x="21547" y="5096"/>
                  <a:pt x="21599" y="10698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49440" y="206064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850000" y="1903320"/>
            <a:ext cx="159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8640000">
            <a:off x="2766240" y="-2276640"/>
            <a:ext cx="8029800" cy="6201000"/>
          </a:xfrm>
          <a:custGeom>
            <a:avLst/>
            <a:gdLst>
              <a:gd name="textAreaLeft" fmla="*/ 4014360 w 8029800"/>
              <a:gd name="textAreaRight" fmla="*/ 8029440 w 8029800"/>
              <a:gd name="textAreaTop" fmla="*/ 0 h 6201000"/>
              <a:gd name="textAreaBottom" fmla="*/ 3100320 h 6201000"/>
            </a:gdLst>
            <a:ahLst/>
            <a:rect l="textAreaLeft" t="textAreaTop" r="textAreaRight" b="textAreaBottom"/>
            <a:pathLst>
              <a:path stroke="0" w="21600" h="21600">
                <a:moveTo>
                  <a:pt x="10696" y="0"/>
                </a:moveTo>
                <a:cubicBezTo>
                  <a:pt x="10730" y="0"/>
                  <a:pt x="10765" y="-1"/>
                  <a:pt x="10800" y="0"/>
                </a:cubicBezTo>
                <a:cubicBezTo>
                  <a:pt x="16725" y="0"/>
                  <a:pt x="21544" y="4773"/>
                  <a:pt x="21599" y="10698"/>
                </a:cubicBezTo>
                <a:lnTo>
                  <a:pt x="10800" y="10800"/>
                </a:lnTo>
                <a:close/>
              </a:path>
              <a:path fill="none" w="21600" h="21600">
                <a:moveTo>
                  <a:pt x="10696" y="0"/>
                </a:moveTo>
                <a:cubicBezTo>
                  <a:pt x="10730" y="0"/>
                  <a:pt x="10765" y="-1"/>
                  <a:pt x="10800" y="0"/>
                </a:cubicBezTo>
                <a:cubicBezTo>
                  <a:pt x="16725" y="0"/>
                  <a:pt x="21544" y="4773"/>
                  <a:pt x="21599" y="10698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620720" y="3860640"/>
            <a:ext cx="51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1619280" y="4653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5942160" y="450864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5400000">
            <a:off x="4169160" y="1730880"/>
            <a:ext cx="807840" cy="7775640"/>
          </a:xfrm>
          <a:custGeom>
            <a:avLst/>
            <a:gdLst>
              <a:gd name="textAreaLeft" fmla="*/ 0 w 807840"/>
              <a:gd name="textAreaRight" fmla="*/ 291600 w 807840"/>
              <a:gd name="textAreaTop" fmla="*/ 202680 h 7775640"/>
              <a:gd name="textAreaBottom" fmla="*/ 7572960 h 777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41"/>
                </a:lnTo>
                <a:cubicBezTo>
                  <a:pt x="10800" y="10041"/>
                  <a:pt x="16200" y="10941"/>
                  <a:pt x="21600" y="10941"/>
                </a:cubicBezTo>
                <a:cubicBezTo>
                  <a:pt x="16200" y="10941"/>
                  <a:pt x="10800" y="11841"/>
                  <a:pt x="10800" y="127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3710160" y="5877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4 к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5:49:24Z</dcterms:created>
  <dc:creator>Муковнин</dc:creator>
  <dc:description/>
  <dc:language>en-US</dc:language>
  <cp:lastModifiedBy>Учитель</cp:lastModifiedBy>
  <dcterms:modified xsi:type="dcterms:W3CDTF">2016-11-23T11:58:00Z</dcterms:modified>
  <cp:revision>9</cp:revision>
  <dc:subject/>
  <dc:title>10 октября.</dc:title>
</cp:coreProperties>
</file>