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8CF-E297-4752-9C92-99EC1459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C13-F501-4EBD-92B9-55CCD664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106-498B-4210-8E6A-F6B98D38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8DA-8ABF-4405-9E08-B3BD442B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D73F-C848-4406-8D15-D7C6AE6A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A591-46AF-46A1-9DF1-4DCBAE44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3A14-139F-4C02-B907-71E69EF6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81E7-99B4-4CAE-B8EE-6BEA4C11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14DE-7C4D-4BB5-9513-FA6886CF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79F3-2DBB-4F44-92AB-2FA4F70D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3E87-29AE-4510-A065-6DE23742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D01-D66D-4BEB-8AF9-CE8FCE3E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331A-762B-4D8E-8A8B-CC92B546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173F-75A3-48D5-B6FC-1AE5434A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07A5-1E44-4F08-8E92-7428D522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0350-2396-4BF7-BBF5-E16B233F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DEA9-E613-4118-918C-AF5CAB1B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5BE-AAE8-4366-9D4D-77E48651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4431-9644-40FE-A526-67E56679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0B04-E2F6-41D4-9AC0-CB1537CE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9A88-EE01-408E-BD4D-B5E77AF1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622-4362-4BE7-A720-542EF1D9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05D-875C-471E-9C4E-50EECA1D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4AE-7BD0-407A-BBD4-39E420C0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BCED-5BD3-4DA9-BE0A-6E46F695B0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372C-5F75-4FD8-AE7A-AA3358ECB6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3" descr=""/>
          <p:cNvPicPr/>
          <p:nvPr/>
        </p:nvPicPr>
        <p:blipFill>
          <a:blip r:embed="rId1"/>
          <a:stretch/>
        </p:blipFill>
        <p:spPr>
          <a:xfrm>
            <a:off x="3130560" y="2438280"/>
            <a:ext cx="3276720" cy="2565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Oval 4"/>
          <p:cNvSpPr/>
          <p:nvPr/>
        </p:nvSpPr>
        <p:spPr>
          <a:xfrm>
            <a:off x="457200" y="609480"/>
            <a:ext cx="1981080" cy="1828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3200400" y="609480"/>
            <a:ext cx="1981080" cy="18288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457200" y="3124080"/>
            <a:ext cx="1981080" cy="182880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3276720" y="3110040"/>
            <a:ext cx="1981080" cy="18288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Овал 1"/>
          <p:cNvSpPr/>
          <p:nvPr/>
        </p:nvSpPr>
        <p:spPr>
          <a:xfrm>
            <a:off x="6151680" y="685800"/>
            <a:ext cx="1904760" cy="1752480"/>
          </a:xfrm>
          <a:prstGeom prst="ellipse">
            <a:avLst/>
          </a:prstGeom>
          <a:solidFill>
            <a:srgbClr val="ffe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Овал 2"/>
          <p:cNvSpPr/>
          <p:nvPr/>
        </p:nvSpPr>
        <p:spPr>
          <a:xfrm>
            <a:off x="6431040" y="3213000"/>
            <a:ext cx="1752480" cy="1752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detsad-133682-1409078084"/>
          <p:cNvPicPr/>
          <p:nvPr/>
        </p:nvPicPr>
        <p:blipFill>
          <a:blip r:embed="rId1"/>
          <a:stretch/>
        </p:blipFill>
        <p:spPr>
          <a:xfrm>
            <a:off x="914400" y="992160"/>
            <a:ext cx="6934320" cy="4619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detsad-133682-1409078129"/>
          <p:cNvPicPr/>
          <p:nvPr/>
        </p:nvPicPr>
        <p:blipFill>
          <a:blip r:embed="rId1"/>
          <a:stretch/>
        </p:blipFill>
        <p:spPr>
          <a:xfrm>
            <a:off x="1219320" y="1371600"/>
            <a:ext cx="6615000" cy="4406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668575"/>
          <p:cNvPicPr/>
          <p:nvPr/>
        </p:nvPicPr>
        <p:blipFill>
          <a:blip r:embed="rId1"/>
          <a:stretch/>
        </p:blipFill>
        <p:spPr>
          <a:xfrm>
            <a:off x="1676520" y="762120"/>
            <a:ext cx="6248160" cy="4698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6T12:46:25Z</dcterms:created>
  <dc:creator>user</dc:creator>
  <dc:description/>
  <dc:language>en-US</dc:language>
  <cp:lastModifiedBy>User</cp:lastModifiedBy>
  <dcterms:modified xsi:type="dcterms:W3CDTF">2016-11-17T07:52:1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