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6D5-7BDC-4F0F-B502-691AB2E9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31D-BA7C-47DD-81A5-0D8063FE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CCE-12C7-445F-9151-4EFD5D05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83B-549E-41E2-AABD-E485DE99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825EE-012C-4E7B-B946-8E65AFB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80175-BA5D-48A0-8DB4-4797BA0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743A8-2135-4035-A2AD-0FABB0FD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CA5A1-C703-4812-A960-AE2372A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C5E6-A329-41DF-B0A0-E1D73BE6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D292F-725A-4EF7-A80D-03702CE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FACB-F9E1-4377-A05F-D72999B6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6DB-3A1B-458A-9E87-888087D3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60FFE-9BD7-4A26-9BA3-2D33563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5D20-FD8B-4066-AE3A-B983C2A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39EA-5EF3-4878-93AA-F793867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E3B4E-7F94-4BAC-BD0B-C34BE82B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3217F-967C-43F3-BD40-1AA2A096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ACC-F087-4B27-A49D-A5BAD17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623-40CB-491D-9791-7042B2B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647-3C3D-45DF-B4FD-A248060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20C-C258-4F1A-995B-32E7C34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79D-DB78-4AAE-AC0F-4E33C4B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367-BDDE-4E1B-BCD4-5D9D120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5F5-7043-4817-A940-B77BE96E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D5EA-78FD-4915-88E2-53677061D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C477-546A-4A4C-AC49-294CF633C7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пресный водое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780640" y="0"/>
            <a:ext cx="59353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buClr>
                <a:srgbClr val="0000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смотрите вот сю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хо плещется во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яска, лилии, рого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 кубышка, и трост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сть беззубка, прудов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домерка вот беж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сюду бурно жизнь кип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8fff"/>
                </a:solidFill>
                <a:latin typeface="Tahoma"/>
              </a:rPr>
              <a:t>Это водоё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zvuk_-_lyagushki_na_bolote_(iPlayer.fm).mp3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01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76320" y="228600"/>
            <a:ext cx="723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пи питания в водоеме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1680" y="2217600"/>
            <a:ext cx="216036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ст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13120" y="2209680"/>
            <a:ext cx="166068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ра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329440" y="2209680"/>
            <a:ext cx="1361880" cy="581400"/>
          </a:xfrm>
          <a:prstGeom prst="rect">
            <a:avLst/>
          </a:prstGeom>
          <a:solidFill>
            <a:srgbClr val="eb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Щ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8760" y="4205160"/>
            <a:ext cx="19090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423520" y="4205160"/>
            <a:ext cx="231120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секом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38440" y="4205160"/>
            <a:ext cx="1806840" cy="520560"/>
          </a:xfrm>
          <a:prstGeom prst="rect">
            <a:avLst/>
          </a:prstGeom>
          <a:solidFill>
            <a:srgbClr val="eb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ягу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7552800" y="4205160"/>
            <a:ext cx="1343520" cy="520560"/>
          </a:xfrm>
          <a:prstGeom prst="rect">
            <a:avLst/>
          </a:prstGeom>
          <a:solidFill>
            <a:srgbClr val="eb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286000" y="2514600"/>
            <a:ext cx="53352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4648320" y="2514600"/>
            <a:ext cx="53316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1981080" y="4495680"/>
            <a:ext cx="45720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4800600" y="4495680"/>
            <a:ext cx="53352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7238880" y="4495680"/>
            <a:ext cx="30492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334152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846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349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5357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18288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2849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2333520" y="42973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385776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2838600" y="278136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2838600" y="3286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43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5862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484812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635472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5357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3"/>
          <p:cNvSpPr/>
          <p:nvPr/>
        </p:nvSpPr>
        <p:spPr>
          <a:xfrm>
            <a:off x="5357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56"/>
          <p:cNvSpPr/>
          <p:nvPr/>
        </p:nvSpPr>
        <p:spPr>
          <a:xfrm>
            <a:off x="4876920" y="38098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57"/>
          <p:cNvSpPr/>
          <p:nvPr/>
        </p:nvSpPr>
        <p:spPr>
          <a:xfrm>
            <a:off x="38401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58"/>
          <p:cNvSpPr/>
          <p:nvPr/>
        </p:nvSpPr>
        <p:spPr>
          <a:xfrm>
            <a:off x="4343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60"/>
          <p:cNvSpPr/>
          <p:nvPr/>
        </p:nvSpPr>
        <p:spPr>
          <a:xfrm>
            <a:off x="4854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4854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62"/>
          <p:cNvSpPr/>
          <p:nvPr/>
        </p:nvSpPr>
        <p:spPr>
          <a:xfrm>
            <a:off x="4854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334152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4"/>
          <p:cNvSpPr/>
          <p:nvPr/>
        </p:nvSpPr>
        <p:spPr>
          <a:xfrm>
            <a:off x="3846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5"/>
          <p:cNvSpPr/>
          <p:nvPr/>
        </p:nvSpPr>
        <p:spPr>
          <a:xfrm>
            <a:off x="4349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341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7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69"/>
          <p:cNvSpPr/>
          <p:nvPr/>
        </p:nvSpPr>
        <p:spPr>
          <a:xfrm>
            <a:off x="4349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70"/>
          <p:cNvSpPr/>
          <p:nvPr/>
        </p:nvSpPr>
        <p:spPr>
          <a:xfrm>
            <a:off x="434988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1"/>
          <p:cNvSpPr/>
          <p:nvPr/>
        </p:nvSpPr>
        <p:spPr>
          <a:xfrm>
            <a:off x="334152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72"/>
          <p:cNvSpPr/>
          <p:nvPr/>
        </p:nvSpPr>
        <p:spPr>
          <a:xfrm>
            <a:off x="3846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73"/>
          <p:cNvSpPr/>
          <p:nvPr/>
        </p:nvSpPr>
        <p:spPr>
          <a:xfrm>
            <a:off x="33415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74"/>
          <p:cNvSpPr/>
          <p:nvPr/>
        </p:nvSpPr>
        <p:spPr>
          <a:xfrm>
            <a:off x="434988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76"/>
          <p:cNvSpPr/>
          <p:nvPr/>
        </p:nvSpPr>
        <p:spPr>
          <a:xfrm>
            <a:off x="183024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79"/>
          <p:cNvSpPr/>
          <p:nvPr/>
        </p:nvSpPr>
        <p:spPr>
          <a:xfrm>
            <a:off x="3352680" y="429264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81"/>
          <p:cNvSpPr/>
          <p:nvPr/>
        </p:nvSpPr>
        <p:spPr>
          <a:xfrm>
            <a:off x="685800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3"/>
          <p:cNvSpPr/>
          <p:nvPr/>
        </p:nvSpPr>
        <p:spPr>
          <a:xfrm>
            <a:off x="2335320" y="2852640"/>
            <a:ext cx="431640" cy="366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WordArt 98"/>
          <p:cNvSpPr txBox="1"/>
          <p:nvPr/>
        </p:nvSpPr>
        <p:spPr>
          <a:xfrm>
            <a:off x="2514600" y="228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Rectangle 100"/>
          <p:cNvSpPr/>
          <p:nvPr/>
        </p:nvSpPr>
        <p:spPr>
          <a:xfrm>
            <a:off x="734544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01"/>
          <p:cNvSpPr/>
          <p:nvPr/>
        </p:nvSpPr>
        <p:spPr>
          <a:xfrm>
            <a:off x="6354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02"/>
          <p:cNvSpPr/>
          <p:nvPr/>
        </p:nvSpPr>
        <p:spPr>
          <a:xfrm>
            <a:off x="685800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03"/>
          <p:cNvSpPr/>
          <p:nvPr/>
        </p:nvSpPr>
        <p:spPr>
          <a:xfrm>
            <a:off x="734544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104"/>
          <p:cNvSpPr/>
          <p:nvPr/>
        </p:nvSpPr>
        <p:spPr>
          <a:xfrm>
            <a:off x="7848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34152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46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49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357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8288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2849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2333520" y="42973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776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2838600" y="278136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2838600" y="3286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5862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84812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635472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5357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5357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4876920" y="38098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29"/>
          <p:cNvSpPr/>
          <p:nvPr/>
        </p:nvSpPr>
        <p:spPr>
          <a:xfrm>
            <a:off x="38401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Ё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4343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4854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4854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4854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334152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3846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349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3341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39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0"/>
          <p:cNvSpPr/>
          <p:nvPr/>
        </p:nvSpPr>
        <p:spPr>
          <a:xfrm>
            <a:off x="4349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41"/>
          <p:cNvSpPr/>
          <p:nvPr/>
        </p:nvSpPr>
        <p:spPr>
          <a:xfrm>
            <a:off x="434988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42"/>
          <p:cNvSpPr/>
          <p:nvPr/>
        </p:nvSpPr>
        <p:spPr>
          <a:xfrm>
            <a:off x="334152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3846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44"/>
          <p:cNvSpPr/>
          <p:nvPr/>
        </p:nvSpPr>
        <p:spPr>
          <a:xfrm>
            <a:off x="33415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45"/>
          <p:cNvSpPr/>
          <p:nvPr/>
        </p:nvSpPr>
        <p:spPr>
          <a:xfrm>
            <a:off x="434988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46"/>
          <p:cNvSpPr/>
          <p:nvPr/>
        </p:nvSpPr>
        <p:spPr>
          <a:xfrm>
            <a:off x="183024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47"/>
          <p:cNvSpPr/>
          <p:nvPr/>
        </p:nvSpPr>
        <p:spPr>
          <a:xfrm>
            <a:off x="3352680" y="429264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685800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49"/>
          <p:cNvSpPr/>
          <p:nvPr/>
        </p:nvSpPr>
        <p:spPr>
          <a:xfrm>
            <a:off x="2335320" y="2852640"/>
            <a:ext cx="431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WordArt 50"/>
          <p:cNvSpPr txBox="1"/>
          <p:nvPr/>
        </p:nvSpPr>
        <p:spPr>
          <a:xfrm>
            <a:off x="2514600" y="228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Rectangle 51"/>
          <p:cNvSpPr/>
          <p:nvPr/>
        </p:nvSpPr>
        <p:spPr>
          <a:xfrm>
            <a:off x="734544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52"/>
          <p:cNvSpPr/>
          <p:nvPr/>
        </p:nvSpPr>
        <p:spPr>
          <a:xfrm>
            <a:off x="6354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53"/>
          <p:cNvSpPr/>
          <p:nvPr/>
        </p:nvSpPr>
        <p:spPr>
          <a:xfrm>
            <a:off x="685800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54"/>
          <p:cNvSpPr/>
          <p:nvPr/>
        </p:nvSpPr>
        <p:spPr>
          <a:xfrm>
            <a:off x="734544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7848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34152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46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349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854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35788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5862600" y="1773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18288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2849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2333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2333520" y="42973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385776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2838600" y="2278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2838600" y="278136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2838600" y="3286080"/>
            <a:ext cx="50292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5862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5862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484812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635472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5357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5357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4876920" y="38098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38401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Ё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4343400" y="4294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4854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4854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4854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34"/>
          <p:cNvSpPr/>
          <p:nvPr/>
        </p:nvSpPr>
        <p:spPr>
          <a:xfrm>
            <a:off x="334152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384660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4349880" y="2278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334152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38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39"/>
          <p:cNvSpPr/>
          <p:nvPr/>
        </p:nvSpPr>
        <p:spPr>
          <a:xfrm>
            <a:off x="384660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434988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1"/>
          <p:cNvSpPr/>
          <p:nvPr/>
        </p:nvSpPr>
        <p:spPr>
          <a:xfrm>
            <a:off x="434988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42"/>
          <p:cNvSpPr/>
          <p:nvPr/>
        </p:nvSpPr>
        <p:spPr>
          <a:xfrm>
            <a:off x="334152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43"/>
          <p:cNvSpPr/>
          <p:nvPr/>
        </p:nvSpPr>
        <p:spPr>
          <a:xfrm>
            <a:off x="3846600" y="328608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85ff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334152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4349880" y="3789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1830240" y="278136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352680" y="429264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85800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49"/>
          <p:cNvSpPr/>
          <p:nvPr/>
        </p:nvSpPr>
        <p:spPr>
          <a:xfrm>
            <a:off x="2335320" y="2852640"/>
            <a:ext cx="431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WordArt 50"/>
          <p:cNvSpPr txBox="1"/>
          <p:nvPr/>
        </p:nvSpPr>
        <p:spPr>
          <a:xfrm>
            <a:off x="2514600" y="228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Rectangle 51"/>
          <p:cNvSpPr/>
          <p:nvPr/>
        </p:nvSpPr>
        <p:spPr>
          <a:xfrm>
            <a:off x="7345440" y="228600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Rectangle 52"/>
          <p:cNvSpPr/>
          <p:nvPr/>
        </p:nvSpPr>
        <p:spPr>
          <a:xfrm>
            <a:off x="6354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685800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Rectangle 54"/>
          <p:cNvSpPr/>
          <p:nvPr/>
        </p:nvSpPr>
        <p:spPr>
          <a:xfrm>
            <a:off x="734544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55"/>
          <p:cNvSpPr/>
          <p:nvPr/>
        </p:nvSpPr>
        <p:spPr>
          <a:xfrm>
            <a:off x="7848720" y="1782720"/>
            <a:ext cx="503280" cy="503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7ff"/>
                </a:solidFill>
                <a:latin typeface="Tahoma"/>
              </a:rPr>
              <a:t>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218520" y="457200"/>
            <a:ext cx="86907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e7ff"/>
                </a:solidFill>
                <a:latin typeface="Tahoma"/>
              </a:rPr>
              <a:t>МОУ Прогимназия №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9e7ff"/>
                </a:solidFill>
                <a:latin typeface="Tahoma"/>
              </a:rPr>
              <a:t>Коминтерновского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e7ff"/>
                </a:solidFill>
                <a:latin typeface="Tahoma"/>
              </a:rPr>
              <a:t>городского округа – город Вороне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937960" y="399420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b3ff"/>
                </a:solidFill>
                <a:latin typeface="Tahoma"/>
              </a:rPr>
              <a:t>Шепетун Л.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979200" y="4876920"/>
            <a:ext cx="69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b3ff"/>
                </a:solidFill>
                <a:latin typeface="Tahoma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685800" y="152280"/>
            <a:ext cx="78487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457200" y="2438280"/>
            <a:ext cx="8229600" cy="297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e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 Жизнь пресного водоем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e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49120" y="3809880"/>
            <a:ext cx="152424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44440" y="3040200"/>
            <a:ext cx="15238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979000" y="176040"/>
            <a:ext cx="2667960" cy="64260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Tahoma"/>
              </a:rPr>
              <a:t>ВОДОЁ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20" y="1347840"/>
            <a:ext cx="3349080" cy="58140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ЕСТЕ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657040" y="1347840"/>
            <a:ext cx="3792600" cy="58140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ИСКУССТВЕН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75120" y="2438280"/>
            <a:ext cx="220464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СОЛЕ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851000" y="2438280"/>
            <a:ext cx="2135880" cy="581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ahoma"/>
              </a:rPr>
              <a:t>ПРЕ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77280" y="297180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64320" y="37339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44440" y="45640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98800" y="449568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зе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44440" y="5326200"/>
            <a:ext cx="15238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48680" y="528804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о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44440" y="6087960"/>
            <a:ext cx="152388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43000" y="6019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7162920" y="3276720"/>
            <a:ext cx="1523880" cy="5331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7157160" y="3208320"/>
            <a:ext cx="14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н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7162920" y="4191120"/>
            <a:ext cx="15238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297200" y="41227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у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5486400" y="5029200"/>
            <a:ext cx="36576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480640" y="498312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дохранил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1447560" y="838080"/>
            <a:ext cx="281916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4267080" y="838080"/>
            <a:ext cx="327672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5"/>
          <p:cNvSpPr/>
          <p:nvPr/>
        </p:nvSpPr>
        <p:spPr>
          <a:xfrm flipH="1">
            <a:off x="3276360" y="838080"/>
            <a:ext cx="990360" cy="1600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4267080" y="838080"/>
            <a:ext cx="1447920" cy="1600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photo_05[1]"/>
          <p:cNvPicPr/>
          <p:nvPr/>
        </p:nvPicPr>
        <p:blipFill>
          <a:blip r:embed="rId1"/>
          <a:stretch/>
        </p:blipFill>
        <p:spPr>
          <a:xfrm>
            <a:off x="0" y="3284640"/>
            <a:ext cx="4859280" cy="3573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32000" y="4508640"/>
            <a:ext cx="42116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ahoma"/>
              </a:rPr>
              <a:t>Река Дон и Воронежское водохранилище судоходны для речных судов с низкой осад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27" descr="Воронежское водохранилище -яхты-1-1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Речные суда на Дону-1-2"/>
          <p:cNvPicPr/>
          <p:nvPr/>
        </p:nvPicPr>
        <p:blipFill>
          <a:blip r:embed="rId3"/>
          <a:stretch/>
        </p:blipFill>
        <p:spPr>
          <a:xfrm>
            <a:off x="0" y="0"/>
            <a:ext cx="4859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304920" y="228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т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152280" y="182880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e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поверх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e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52280" y="297180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e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толще в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e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152280" y="4191120"/>
            <a:ext cx="1600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e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н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e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152280" y="54100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e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водных растения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e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275080" y="80640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жуки-плавун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88960" y="1492200"/>
            <a:ext cx="42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клопы-водомер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02080" y="210168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головасти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98560" y="274320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прудов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500080" y="33526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кату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726520" y="40384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ра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670000" y="47242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карас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803560" y="545472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щу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452400" y="6095880"/>
            <a:ext cx="59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28fff"/>
                </a:solidFill>
                <a:latin typeface="Tahoma"/>
              </a:rPr>
              <a:t>двустворчатые моллюс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2819520" y="1905120"/>
            <a:ext cx="2514600" cy="3045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7"/>
          <p:cNvSpPr/>
          <p:nvPr/>
        </p:nvSpPr>
        <p:spPr>
          <a:xfrm flipV="1">
            <a:off x="2819520" y="1218960"/>
            <a:ext cx="2666880" cy="20574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819520" y="3276720"/>
            <a:ext cx="2971800" cy="1828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819520" y="3276720"/>
            <a:ext cx="3124080" cy="25905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1828800" y="4495680"/>
            <a:ext cx="3200400" cy="1828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21"/>
          <p:cNvSpPr/>
          <p:nvPr/>
        </p:nvSpPr>
        <p:spPr>
          <a:xfrm flipV="1">
            <a:off x="3352680" y="3200040"/>
            <a:ext cx="2210040" cy="2514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3352680" y="3733560"/>
            <a:ext cx="2286000" cy="19810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52280" y="380880"/>
          <a:ext cx="8763120" cy="2725920"/>
        </p:xfrm>
        <a:graphic>
          <a:graphicData uri="http://schemas.openxmlformats.org/drawingml/2006/table">
            <a:tbl>
              <a:tblPr/>
              <a:tblGrid>
                <a:gridCol w="1524240"/>
                <a:gridCol w="1396800"/>
                <a:gridCol w="1575000"/>
                <a:gridCol w="1447560"/>
                <a:gridCol w="1359000"/>
                <a:gridCol w="1460520"/>
              </a:tblGrid>
              <a:tr h="685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dffcd"/>
                          </a:solidFill>
                          <a:latin typeface="Tahoma"/>
                        </a:rPr>
                        <a:t>ЖИВОТНЫЕ ВОДОЁ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Моллю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Земновод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Насеко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Млекопита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Ры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Пт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52280" y="380880"/>
          <a:ext cx="8763120" cy="3273480"/>
        </p:xfrm>
        <a:graphic>
          <a:graphicData uri="http://schemas.openxmlformats.org/drawingml/2006/table">
            <a:tbl>
              <a:tblPr/>
              <a:tblGrid>
                <a:gridCol w="1524240"/>
                <a:gridCol w="1396800"/>
                <a:gridCol w="1575000"/>
                <a:gridCol w="1447560"/>
                <a:gridCol w="1359000"/>
                <a:gridCol w="1460520"/>
              </a:tblGrid>
              <a:tr h="68220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dffcd"/>
                          </a:solidFill>
                          <a:latin typeface="Tahoma"/>
                        </a:rPr>
                        <a:t>ЖИВОТНЫЕ ВОДОЁ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Моллю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Земновод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Насеко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Млекопита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Ры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5ffe5"/>
                          </a:solidFill>
                          <a:latin typeface="Tahoma"/>
                        </a:rPr>
                        <a:t>Пт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Перлов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Беззуб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Прудов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Катуш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Лягуш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Три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Кома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Стрек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Клопы-водо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Жуки-плавун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Боб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Ондат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Выд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Водяная кры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Кара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Щу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Ёр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Краснопёр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У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bb3ff"/>
                          </a:solidFill>
                          <a:latin typeface="Tahoma"/>
                        </a:rPr>
                        <a:t>Цап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петун</dc:creator>
  <dc:description/>
  <dc:language>en-US</dc:language>
  <cp:lastModifiedBy>user</cp:lastModifiedBy>
  <dcterms:modified xsi:type="dcterms:W3CDTF">2015-12-15T18:48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