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D3D-127F-4383-853A-D873D8723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C54B-3C61-4622-8738-3D9381F4E0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254-AEFA-4981-92E4-6A1A1F05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DAD-16A7-4C7A-BCF5-AD331A2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372-D30E-4681-B670-57AFA60D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BCA-67F1-40E0-B305-47936848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BEA-2A04-4E7F-ADE8-8C59A92D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431C-FE9A-463B-8C1B-9BE6E2CF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6CEE-2B4D-4928-B344-F682E78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CD39-DDAA-41D9-9C22-85E24E8B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4E9C-FAF5-4A23-B36B-89A2968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9DB9-1F47-4D14-8B43-FC5345C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FC63-36B4-4EC7-B25D-1309CA4F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1FF-6AC2-4524-8EDF-1E499ED1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C9C5-5870-41FA-8257-F61C01D7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16A-3361-45A7-8EB2-6707BB7F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B56-ABA2-420F-948A-14CD390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711-3A6D-4849-858F-18359D7D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9B09-9224-4099-BB62-315B77C8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7F4-7E20-4368-AE3C-36F617C3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523-1993-4CBA-893A-A8CD187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23A-E2C3-40DE-9195-D844A702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5A7-728E-4B10-8BF7-0EEF4FD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571-9A97-4C75-9CEF-DB44118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266-6CC7-427D-A6E3-C5913F8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00B-1E25-403F-A443-EB30F01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BDF8-B3FA-4F69-A67C-16CFBCEACBC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6F0D-4DCC-4DCB-885C-6584C464047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975Разбитое стекло витрин синагоги Церреннерштрассе, разоренной во время “Хрустальной ночи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9"/>
          <p:cNvSpPr txBox="1"/>
          <p:nvPr/>
        </p:nvSpPr>
        <p:spPr>
          <a:xfrm>
            <a:off x="380880" y="1828800"/>
            <a:ext cx="8458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8ea9"/>
                </a:solidFill>
                <a:latin typeface="Arial"/>
              </a:rPr>
              <a:t>«Хрустальная ночь»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8ea9"/>
              </a:solidFill>
              <a:latin typeface="Arial"/>
              <a:ea typeface="Arial"/>
            </a:endParaRPr>
          </a:p>
        </p:txBody>
      </p:sp>
      <p:pic>
        <p:nvPicPr>
          <p:cNvPr id="91" name="TextBox 3" descr=""/>
          <p:cNvPicPr/>
          <p:nvPr/>
        </p:nvPicPr>
        <p:blipFill>
          <a:blip r:embed="rId2"/>
          <a:stretch/>
        </p:blipFill>
        <p:spPr>
          <a:xfrm>
            <a:off x="2389320" y="5273640"/>
            <a:ext cx="677376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3После погрома “ Хрустальной ночи” (“Ночи разбитых витрин”) немецкие граждане, выстроившись вдоль улиц, наблюдают за движущимися под конвоем еврейскими мужчинами"/>
          <p:cNvPicPr/>
          <p:nvPr/>
        </p:nvPicPr>
        <p:blipFill>
          <a:blip r:embed="rId1"/>
          <a:stretch/>
        </p:blipFill>
        <p:spPr>
          <a:xfrm>
            <a:off x="0" y="0"/>
            <a:ext cx="50832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914400"/>
            <a:ext cx="3657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После погрома «Хрустальной ночи» немецкие граждане, выстроившись вдоль улиц, наблюдают за движущимися под конвоем еврейскими мужчинам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Баден-Баден, Германия, 10 ноября 1938 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43Синагога, разрушенная во время Хрустальной ночи (Ночи разбитых витрин)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181480" y="2286000"/>
            <a:ext cx="39625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Синагога, разрушенная во время Хрустальной ноч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Дортмунд, Германия, ноябрь 1938 г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43Частный еврейский дом, варварски разрушенный во время “Хрустальной ночи” (“Ночи разбитых витрин”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6094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 Black"/>
              </a:rPr>
              <a:t>Частный еврейский дом, варварски разрушенный во время “Хрустальной ночи”. Вена, Австрия, 10 ноября 1938 год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44Когда синагога в Оберрамштадте горела во время “Хрустальной ночи” (“Ночи разбитых витрин”), пожарные, вместо того чтобы тушить пожар, защищали от возгорания соседний дом"/>
          <p:cNvPicPr/>
          <p:nvPr/>
        </p:nvPicPr>
        <p:blipFill>
          <a:blip r:embed="rId1"/>
          <a:srcRect l="0" t="0" r="3095" b="0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324480" y="1523880"/>
            <a:ext cx="266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ff4"/>
                </a:solidFill>
                <a:latin typeface="Times New Roman"/>
              </a:rPr>
              <a:t>Когда синагога в Оберрамштадте горела во время “Хрустальной ночи”, пожарные, вместо того чтобы тушить пожар, защищали от возгорания соседний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49Евреи, арестованные после “Хрустальной ночи” (“Ночи разбитых витрин”), ожидают депортации в концентрационный лагерь Дахау"/>
          <p:cNvPicPr/>
          <p:nvPr/>
        </p:nvPicPr>
        <p:blipFill>
          <a:blip r:embed="rId1"/>
          <a:stretch/>
        </p:blipFill>
        <p:spPr>
          <a:xfrm>
            <a:off x="0" y="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0" y="60958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ff4"/>
                </a:solidFill>
                <a:latin typeface="Times New Roman"/>
              </a:rPr>
              <a:t>Евреи, арестованные после “Хрустальной ночи”, ожидают депортации в концентрационный лагерь Дахау. Баден-Баден, Германия, 10 ноября 1938 г</a:t>
            </a:r>
            <a:r>
              <a:rPr b="0" lang="ru-RU" sz="2400" spc="-1" strike="noStrike">
                <a:solidFill>
                  <a:srgbClr val="e1eff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Немецкие дети, стоя за спиной солдата СС, смотрят, как религиозные принадлежности из синагоги города Цефена поджигают во время Хрустальной ночи (Ночи разбитых витрин)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468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0" y="5842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ff4"/>
                </a:solidFill>
                <a:latin typeface="Times New Roman"/>
              </a:rPr>
              <a:t>Немецкие дети, стоя за спиной солдата СС, смотрят, как религиозные принадлежности из синагоги города Цефена поджигают во время Хрустальной ночи. Цефен, Германия, 10 ноября 19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Разорение дортмундской синагоги во время “Хрустальной ночи” (“Ночи разбитых витрин”)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377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0" y="6149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1eff4"/>
                </a:solidFill>
                <a:latin typeface="Times New Roman"/>
              </a:rPr>
              <a:t>Разорение дортмундской синагоги во время “Хрустальной ночи”. Германия, ноябрь 1938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инагога в Оберрамштадте (город в юго-западной части Германии), горящая во время Хрустальной ночи (Ночи разбитых витрин)"/>
          <p:cNvPicPr/>
          <p:nvPr/>
        </p:nvPicPr>
        <p:blipFill>
          <a:blip r:embed="rId2"/>
          <a:stretch/>
        </p:blipFill>
        <p:spPr>
          <a:xfrm>
            <a:off x="0" y="-914400"/>
            <a:ext cx="9144000" cy="8016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4920" y="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Синагога в Оберрамштадте (город в юго-западной части Германии), горящая во время Хрустальной ночи. Оберрамштадт, Герма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9-10 ноября 193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-6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За одну ночь, в основном гитлеровской молодёжью </a:t>
            </a:r>
            <a:r>
              <a:rPr b="1" lang="ru-RU" sz="2600" spc="-1" strike="noStrike">
                <a:solidFill>
                  <a:srgbClr val="e1eff4"/>
                </a:solidFill>
                <a:latin typeface="Times New Roman"/>
              </a:rPr>
              <a:t>(гитлерюгенд)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был убит 91 еврей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сотни ранены и покалечены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тысячи подверглись унижениям и оскорблениям,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около 3,5 тыс. арестованы и отправлены в </a:t>
            </a:r>
            <a:r>
              <a:rPr b="0" lang="en-US" sz="2600" spc="-1" strike="noStrike">
                <a:solidFill>
                  <a:srgbClr val="e1eff4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концентрационные лагеря Заксенхаузен, Бухенвальд и Дахау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В эту же ночь были: сожжены или разгромлены 267 синагог, 7,5 тыс. торговых и коммерческих предприятий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сотни жилых домов евреев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-6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Общий ущерб составил 25 млн. рейхсмарок, из которых около 5 млн. пришлось на разбитые витрины (отсюда второе название «Хрустальной ночи» — «Ночь разбитых витрин»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371600" y="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1eff4"/>
                </a:solidFill>
                <a:latin typeface="Times New Roman"/>
              </a:rPr>
              <a:t>Жертвы и ущерб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240px-Bundesarchiv_Bild_119-5592-14A,_Gruppe_von_HJ-Jungen"/>
          <p:cNvPicPr/>
          <p:nvPr/>
        </p:nvPicPr>
        <p:blipFill>
          <a:blip r:embed="rId1"/>
          <a:srcRect l="0" t="10003" r="0" b="16672"/>
          <a:stretch/>
        </p:blipFill>
        <p:spPr>
          <a:xfrm>
            <a:off x="3048120" y="0"/>
            <a:ext cx="6095880" cy="480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250px-Hitler_jugend"/>
          <p:cNvPicPr/>
          <p:nvPr/>
        </p:nvPicPr>
        <p:blipFill>
          <a:blip r:embed="rId2"/>
          <a:stretch/>
        </p:blipFill>
        <p:spPr>
          <a:xfrm>
            <a:off x="0" y="2494080"/>
            <a:ext cx="3048120" cy="4363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3581280" y="510984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тлерюгенд  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ношеская военизированная нацист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indыЫex"/>
          <p:cNvPicPr/>
          <p:nvPr/>
        </p:nvPicPr>
        <p:blipFill>
          <a:blip r:embed="rId3"/>
          <a:stretch/>
        </p:blipFill>
        <p:spPr>
          <a:xfrm>
            <a:off x="0" y="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3045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1eff4"/>
                </a:solidFill>
                <a:latin typeface="Times New Roman"/>
              </a:rPr>
              <a:t>Хруста́льная ночь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, или </a:t>
            </a:r>
            <a:r>
              <a:rPr b="1" lang="ru-RU" sz="2600" spc="-1" strike="noStrike">
                <a:solidFill>
                  <a:srgbClr val="e1eff4"/>
                </a:solidFill>
                <a:latin typeface="Times New Roman"/>
              </a:rPr>
              <a:t>Ночь разбитых витрин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 (нем.  </a:t>
            </a:r>
            <a:r>
              <a:rPr b="0" i="1" lang="ru-RU" sz="2600" spc="-1" strike="noStrike">
                <a:solidFill>
                  <a:srgbClr val="e1eff4"/>
                </a:solidFill>
                <a:latin typeface="Times New Roman"/>
              </a:rPr>
              <a:t>Novemberpogrome 1938, (Reichs-)Kristallnacht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) — погром (серия скоординированных атак) против евреев во всей нацистской Германии и части Австрии </a:t>
            </a:r>
            <a:r>
              <a:rPr b="1" lang="ru-RU" sz="2600" spc="-1" strike="noStrike">
                <a:solidFill>
                  <a:srgbClr val="e1eff4"/>
                </a:solidFill>
                <a:latin typeface="Times New Roman"/>
              </a:rPr>
              <a:t>9—10 ноября 1938 года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, осуществлённый военизированными отрядами СА и гражданскими лицам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Полиция самоустранилась от препятствования этим событиям. Нападения привели к тому, что улицы были покрыты осколками стекла из окон принадлежавших евреям магазинов, зданий и синагог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&amp;Rcy;&amp;acy;&amp;zcy;&amp;bcy;&amp;icy;&amp;tcy;&amp;ycy;&amp;iecy; &amp;vcy;&amp;icy;&amp;tcy;&amp;rcy;&amp;icy;&amp;ncy;&amp;ycy;"/>
          <p:cNvPicPr/>
          <p:nvPr/>
        </p:nvPicPr>
        <p:blipFill>
          <a:blip r:embed="rId1"/>
          <a:stretch/>
        </p:blipFill>
        <p:spPr>
          <a:xfrm>
            <a:off x="3124080" y="455292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28600" y="152280"/>
            <a:ext cx="87631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	</a:t>
            </a:r>
            <a:r>
              <a:rPr b="1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Идеологическое значение погрома: 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его проведение должно было утвердить у немецкого народа идеи расового превосходства, расовой исключитель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Для этого необходимо было сделать народ коллективным преступником, повязать его круговой порукой и тем самым консолидировать обществ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762120" y="3276720"/>
            <a:ext cx="79246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Истинная цель погромов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изолировать евреев от остального общества и вытеснить их из стран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После «Хрустальной ночи» поток еврейских эмигрантов из Германии и Австрии резко увеличился, однако даже в октябре 1941 г. в этих странах все еще оставалось примерно 164 тыс. евреев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«Хрустальная ночь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едставляет собой существенный перелом в преследовании евреев нацистской Германией, кульминацией которого явилось стремление к физическому уничтожению всех европейских еврее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ы скрыть истинную суть своих преступлений нацисты, часто использовали выражени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a50021"/>
                </a:solidFill>
                <a:uFillTx/>
                <a:latin typeface="Times New Roman"/>
              </a:rPr>
              <a:t>"Окончательное решение еврейского вопроса»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д которым понималс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ноцид, — массовое истребление евреев — ставший кульминацией десяти лет постоянно ужесточавшихся преследова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1" descr=""/>
          <p:cNvPicPr/>
          <p:nvPr/>
        </p:nvPicPr>
        <p:blipFill>
          <a:blip r:embed="rId1"/>
          <a:stretch/>
        </p:blipFill>
        <p:spPr>
          <a:xfrm>
            <a:off x="4084560" y="165240"/>
            <a:ext cx="4962600" cy="3224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9 &amp;ncy;&amp;ocy;&amp;yacy;&amp;bcy;&amp;rcy;&amp;yacy; - &amp;Mcy;&amp;iecy;&amp;zhcy;&amp;dcy;&amp;ucy;&amp;ncy;&amp;acy;&amp;rcy;&amp;ocy;&amp;dcy;&amp;ncy;&amp;ycy;&amp;jcy; &amp;dcy;&amp;iecy;&amp;ncy;&amp;softcy; &amp;pcy;&amp;rcy;&amp;ocy;&amp;tcy;&amp;icy;&amp;vcy; &amp;fcy;&amp;acy;&amp;shcy;&amp;icy;&amp;zcy;&amp;mcy;&amp;acy;, &amp;rcy;&amp;acy;&amp;scy;&amp;icy;&amp;zcy;&amp;mcy;&amp;acy; &amp;icy; &amp;acy;&amp;ncy;&amp;tcy;&amp;icy;&amp;scy;&amp;iecy;&amp;mcy;&amp;icy;&amp;tcy;&amp;icy;&amp;zcy;&amp;mcy;&amp;acy;"/>
          <p:cNvPicPr/>
          <p:nvPr/>
        </p:nvPicPr>
        <p:blipFill>
          <a:blip r:embed="rId2"/>
          <a:stretch/>
        </p:blipFill>
        <p:spPr>
          <a:xfrm>
            <a:off x="457200" y="2286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souzdobro.ru/crop/525/350/media/news/yhrm_sticker_a4_1.gif"/>
          <p:cNvPicPr/>
          <p:nvPr/>
        </p:nvPicPr>
        <p:blipFill>
          <a:blip r:embed="rId3"/>
          <a:srcRect l="0" t="0" r="0" b="24579"/>
          <a:stretch/>
        </p:blipFill>
        <p:spPr>
          <a:xfrm>
            <a:off x="1752480" y="3809880"/>
            <a:ext cx="55627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60" y="10663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ff4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e1eff4"/>
                </a:solidFill>
                <a:latin typeface="Times New Roman"/>
              </a:rPr>
              <a:t>Поводом</a:t>
            </a:r>
            <a:r>
              <a:rPr b="0" lang="ru-RU" sz="3000" spc="-1" strike="noStrike">
                <a:solidFill>
                  <a:srgbClr val="e1eff4"/>
                </a:solidFill>
                <a:latin typeface="Times New Roman"/>
              </a:rPr>
              <a:t> к началу еврейских погромов послужило убийство в Париже 17-летним польским евреем </a:t>
            </a:r>
            <a:r>
              <a:rPr b="1" lang="ru-RU" sz="3000" spc="-1" strike="noStrike">
                <a:solidFill>
                  <a:srgbClr val="e1eff4"/>
                </a:solidFill>
                <a:latin typeface="Times New Roman"/>
              </a:rPr>
              <a:t>Гершелем Грюншпаном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1eff4"/>
                </a:solidFill>
                <a:latin typeface="Times New Roman"/>
              </a:rPr>
              <a:t>7 ноября 1938 советника германского посольства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1eff4"/>
                </a:solidFill>
                <a:latin typeface="Times New Roman"/>
              </a:rPr>
              <a:t>Эрнста фон Рата</a:t>
            </a:r>
            <a:r>
              <a:rPr b="0" lang="ru-RU" sz="3000" spc="-1" strike="noStrike">
                <a:solidFill>
                  <a:srgbClr val="e1eff4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05Фотография Гершля Гриншпана (1921-1943), уроженца Гановера (Германия), сделанная после его ареста французскими властями за покушение на немецкого дипломата Эрнста фон Рата"/>
          <p:cNvPicPr/>
          <p:nvPr/>
        </p:nvPicPr>
        <p:blipFill>
          <a:blip r:embed="rId1"/>
          <a:stretch/>
        </p:blipFill>
        <p:spPr>
          <a:xfrm>
            <a:off x="5105520" y="380880"/>
            <a:ext cx="3809880" cy="5639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5632200" y="61722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eff4"/>
                </a:solidFill>
                <a:latin typeface="Times New Roman"/>
              </a:rPr>
              <a:t>Гершель Грюншп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04920" y="3580560"/>
            <a:ext cx="5638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Это убийство немецкие власти использовали как повод для организации массовых еврейских погромов в Германии и Австр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В Германии была немедленно организована мощная пропагандистская кампани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44792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1eff4"/>
                </a:solidFill>
                <a:latin typeface="Times New Roman"/>
              </a:rPr>
              <a:t>Ход событ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Ernst-vom-Rath.jpg"/>
          <p:cNvPicPr/>
          <p:nvPr/>
        </p:nvPicPr>
        <p:blipFill>
          <a:blip r:embed="rId1"/>
          <a:stretch/>
        </p:blipFill>
        <p:spPr>
          <a:xfrm>
            <a:off x="6400800" y="304920"/>
            <a:ext cx="2362320" cy="31035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152280" y="838080"/>
            <a:ext cx="6248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7 ноября 1938 года 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Гершель Гриншпан явился в германское посольство в Париже и пять раз выстрелил в третьего секретаря посольства Эрнста фом Рата. Гитлер отправил в Париж своего личного врача Карла Брандта, но спасти Эрнста фом Рата не удалось, и </a:t>
            </a:r>
            <a:r>
              <a:rPr b="0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9 ноября в 17:30 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он скончал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6633000" y="350532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eff4"/>
                </a:solidFill>
                <a:latin typeface="Arial"/>
              </a:rPr>
              <a:t>Эрнст фом Ра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943600" y="586728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1eff4"/>
                </a:solidFill>
                <a:latin typeface="Arial"/>
              </a:rPr>
              <a:t>Мюнхенская синагога «Охель Яаков», разгромленная во время «Хрустальной ноч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https://upload.wikimedia.org/wikipedia/commons/thumb/5/57/Destroyed_Ohel_Yaaqov_Synagogue.jpeg/800px-Destroyed_Ohel_Yaaqov_Synagogue.jpeg"/>
          <p:cNvPicPr/>
          <p:nvPr/>
        </p:nvPicPr>
        <p:blipFill>
          <a:blip r:embed="rId2"/>
          <a:stretch/>
        </p:blipFill>
        <p:spPr>
          <a:xfrm>
            <a:off x="6400800" y="3962520"/>
            <a:ext cx="23954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04920" y="30492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7 ноября 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вышел экстренный выпуск газеты </a:t>
            </a:r>
            <a:r>
              <a:rPr b="1" lang="ru-RU" sz="2600" spc="-1" strike="noStrike">
                <a:solidFill>
                  <a:srgbClr val="e1eff4"/>
                </a:solidFill>
                <a:latin typeface="Times New Roman"/>
              </a:rPr>
              <a:t>Völkischer Beobachter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, в котором содержались такие стро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1143000" y="1600200"/>
            <a:ext cx="7162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«Германский народ сделал необходимые выводы из вашего преступления. Он не будет терпеть невыносимую ситуацию. Сотни тысяч евреев контролируют целые секторы в немецкой экономике, радуются в своих синагогах, в то время как их соплеменники в других государствах призывают к войне против Германии и убивают наших дипломат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04920" y="457200"/>
            <a:ext cx="8534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В </a:t>
            </a:r>
            <a:r>
              <a:rPr b="0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ночь с 9 на 10 ноября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, при поддержке нацистских властей, в десятках городов Германии (включая территорию Австрии и Судетской области) были организованы еврейские погромы. Первый погром ещё вечером </a:t>
            </a:r>
            <a:r>
              <a:rPr b="0" lang="ru-RU" sz="2600" spc="-1" strike="noStrike" u="sng">
                <a:solidFill>
                  <a:srgbClr val="e1eff4"/>
                </a:solidFill>
                <a:uFillTx/>
                <a:latin typeface="Times New Roman"/>
              </a:rPr>
              <a:t>8 ноября </a:t>
            </a: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произошёл в Бад-Херсфельде, где была подожжена синагога. Затем в тот же день еврейские лавки были разгромлены в Витценхаузене, Эшвеге, Фрицлар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380880" y="3581280"/>
            <a:ext cx="4648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1eff4"/>
                </a:solidFill>
                <a:latin typeface="Times New Roman"/>
              </a:rPr>
              <a:t>В Берлине погромщики в гражданской одежде сожгли 9 из 12 синагог, при этом пожарные, как отмечается, не принимали участия в тушении пожаров. В австрийской Вене пострадало 42 синагог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https://upload.wikimedia.org/wikipedia/commons/thumb/a/a1/Interior_view_of_the_destroyed_Fasanenstrasse_Synagogue%2C_Berlin.jpg/220px-Interior_view_of_the_destroyed_Fasanenstrasse_Synagogue%2C_Berlin.jpg"/>
          <p:cNvPicPr/>
          <p:nvPr/>
        </p:nvPicPr>
        <p:blipFill>
          <a:blip r:embed="rId1"/>
          <a:stretch/>
        </p:blipFill>
        <p:spPr>
          <a:xfrm>
            <a:off x="5257800" y="3581280"/>
            <a:ext cx="342108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5181480" y="6019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1eff4"/>
                </a:solidFill>
                <a:latin typeface="Arial"/>
              </a:rPr>
              <a:t>Интерьер берлинской синагоги на Фазаненштрассе после погро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агога, разрушенная во время Хрустальной но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5" descr="8Синагога, разрушенная во время Хрустальной ночи (Ночи разбитых витрин)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43Витрины магазинов, принадлежавших евреям и поврежденных во время погрома “Хрустальной ночи” (“Ночи разбитых витрин”)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0" y="5943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итрины магазинов, принадлежавших евреям и поврежденных во время погрома “Хрустальной ночи”. Берлин, Германия, 10 ноября  1938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43Местные жители смотрят, как горит церемониальный зал еврейского кладбища в Граце во время “Хрустальной ночи” (“Ночи разбитых витрин”)"/>
          <p:cNvPicPr/>
          <p:nvPr/>
        </p:nvPicPr>
        <p:blipFill>
          <a:blip r:embed="rId2"/>
          <a:stretch/>
        </p:blipFill>
        <p:spPr>
          <a:xfrm>
            <a:off x="0" y="0"/>
            <a:ext cx="9448920" cy="6894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57200" y="2286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doni MT"/>
              </a:rPr>
              <a:t>Местные жители смотрят, как горит церемониальный зал еврейского кладбища в Граце во время “Хрустальной ночи”. Грац, Австр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doni MT"/>
              </a:rPr>
              <a:t>9-10 ноября 1938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нова</dc:creator>
  <dc:description/>
  <dc:language>en-US</dc:language>
  <cp:lastModifiedBy>User</cp:lastModifiedBy>
  <dcterms:modified xsi:type="dcterms:W3CDTF">2016-11-09T17:20:44Z</dcterms:modified>
  <cp:revision>29</cp:revision>
  <dc:subject/>
  <dc:title>Хрустальная ноч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