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94D4-2D93-4CC6-9F8B-1E89749A6E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5F78-2AE5-40E0-BBA3-136E6E0CADBD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17F5-3EF7-4473-A174-BAFD5DEDD20F}" type="slidenum">
              <a:rPr b="0" lang="en-GB" sz="1200" spc="-1" strike="noStrike">
                <a:solidFill>
                  <a:srgbClr val="0e2f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EE5-2CC4-4DE4-926C-D8A3B68B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D1E-A499-4F40-97FA-3D4F2FDF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EC1-E406-46FC-815B-1CB9BFB5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39F-D0BE-44F8-AA9B-6ADC2FAB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7279-E4F4-47B5-BEE9-D1BA3BEB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71A2-F4C0-449D-9B7B-715D895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F7FC-6A36-4BB7-9A5A-0D573D2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8195-771B-4452-A4C1-BEE11495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FEC0-C740-478D-B928-3A2179E4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ECF5-D12C-4A73-932C-C32D99CD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603-AC28-49CA-86A3-4FE0991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5F0-D603-46B1-93D7-3ACB164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133-1F33-4E6E-893F-7827881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F0CD-57BB-4417-8887-261FDBA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419E-E1AC-4DC4-B8F6-6EBDD034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D90C-8824-4786-98C9-BD84D91A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744-C459-43CB-BBAF-A639ACA8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D10-D613-4927-8172-9853FC88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4AC-E719-4E5F-830E-A43506D7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08B-D82C-4125-AFC1-95B4D9E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7C1-E52C-4A41-860A-4A3E3AD4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786-5775-4A9E-9691-8B57C3E0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8AC-D53F-48B4-88CC-95881C6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1D1-53AA-47FE-8A48-56B8CC84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IMG_2115v2"/>
          <p:cNvPicPr/>
          <p:nvPr/>
        </p:nvPicPr>
        <p:blipFill>
          <a:blip r:embed="rId2"/>
          <a:stretch/>
        </p:blipFill>
        <p:spPr>
          <a:xfrm>
            <a:off x="0" y="-414360"/>
            <a:ext cx="9144000" cy="7566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77C-3BAF-4906-B0A0-CE0DC1F89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IMG_2115"/>
          <p:cNvPicPr/>
          <p:nvPr/>
        </p:nvPicPr>
        <p:blipFill>
          <a:blip r:embed="rId2"/>
          <a:stretch/>
        </p:blipFill>
        <p:spPr>
          <a:xfrm>
            <a:off x="0" y="-709560"/>
            <a:ext cx="9144000" cy="7567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e2f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4991-562F-4A41-8D2A-C3FE3D4676AB}" type="slidenum">
              <a:rPr b="0" lang="en-US" sz="1400" spc="-1" strike="noStrike">
                <a:solidFill>
                  <a:srgbClr val="0e2f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olga-titowa@yandex.ru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77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2fad"/>
                </a:solidFill>
                <a:latin typeface="Arial"/>
              </a:rPr>
              <a:t>игровые технологии на уроке иностранного языка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533680"/>
            <a:ext cx="622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игры проблемной направленности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Образовательный смысл игровых технологий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d7fc"/>
                </a:solidFill>
                <a:latin typeface="Arial"/>
              </a:rPr>
              <a:t>заключается в формировании и дальнейшем совершенствовании навыков, необходимых в реальных условиях, и в праве на ошибку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Главное условие успешности ролевой ситуативной игры проблемной направленности – это ее </a:t>
            </a:r>
            <a:r>
              <a:rPr b="0" i="1" lang="ru-RU" sz="3200" spc="-1" strike="noStrike" u="sng">
                <a:solidFill>
                  <a:srgbClr val="0e2fad"/>
                </a:solidFill>
                <a:uFillTx/>
                <a:latin typeface="Arial"/>
              </a:rPr>
              <a:t>экспромт</a:t>
            </a: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, хотя и хорошо подготовленный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Задание для самостоятельной работы.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Вариант ситуации: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наши дети по приглашению своих сверстников из американской (немецкой, французской, английской) школы-партнера гостят в этой стране. Их приглашает на день рождения одна из учениц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d7fc"/>
                </a:solidFill>
                <a:latin typeface="Arial"/>
              </a:rPr>
              <a:t>Как вести себя в гостях? Что подарить? Как поздравить? Как одеться?</a:t>
            </a: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Карточки с легендами персонажей (возраст, хобби, увлечения…)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ридумайте карточки для ролевой игры: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иностранные дети (2-3 человека)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именинница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родители именинницы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риглашенные дети (у каждого своя легенда)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учитель в роли «знающего соседа» (предлагает материалы, тексты)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Примерный сценарий игры.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Разработайте сценарий ролевой игры (краткое изложение моментов праздника). 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Продумайте вопросы (возможно, предварительный «разговор по телефону» с именинницей с целью выяснения необходимых деталей и т.п.).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Игра должна протекать в условиях праздника (продумайте обстановку и атрибуты дня рождения в стране изучаемого языка).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Критерии оценки.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эффективность принятых решений (= знание социокультурных особенностей, речевого этикета и т.п.)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активность игроков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оригинальный, творческий подход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достоверность моделируемой ситуации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редложите систему оценивания игры, исходя из критериев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Сценарии ролевой игры, а также свои вопросы, присылайте на электронный адрес: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ab57"/>
                </a:solidFill>
                <a:uFillTx/>
                <a:latin typeface="Arial"/>
                <a:hlinkClick r:id="rId1"/>
              </a:rPr>
              <a:t>olga-titowa@yandex.ru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Следующее занятие по курсу – 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4 апреля 2012года.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Благодарю за сотрудничество, уважаемые коллеги!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Игра на уроке моделирует: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роцесс исследования реальной или имитационной проблемной ситуации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роцесс самостоятельного принятия решения в соответствии с правилами игры и моделью социального взаимодействия;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оценочную деятельность при анализе принятых решений и достигнутых результатов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Этапы учебного процесса на основе учебной игры.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ориентация (представить тему, дать характеристику имитации и игровых правил, обзор общего хода игры)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одготовка к проведению (изложить общий сценарий, распределить роли, награды, штрафы)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роведение игры (исполнить свою роль, наличие судьи, ведущего, инструктора)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Типология учебных игр на уроке иностранного языка:</a:t>
            </a:r>
            <a:endParaRPr b="0" lang="en-US" sz="40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игры-ситуации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сюжетные игры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игры-драматизации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состязательные игры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коммуникативные игры (игры-диалоги, игры-дискуссии)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игры-процессы (моделирующие проявление способностей, личностных качеств)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Ролевые игры проблемной направленности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Ролевая игра – обучение через общение, групповое взаимодействие на основе активной деятельности участников и подчеркивающую самостоятельный инициативный характер деятельности в игре, состоящих из проблемных ситуаций, объединенных общим сюжетом и общей учебной целью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Р. С. Аппатова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e2fad"/>
                </a:solidFill>
                <a:latin typeface="Arial"/>
              </a:rPr>
              <a:t>Игра как средство усвоения социальных установок</a:t>
            </a:r>
            <a:r>
              <a:rPr b="0" lang="ru-RU" sz="4000" spc="-1" strike="noStrike">
                <a:solidFill>
                  <a:srgbClr val="0e2fa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(Л. С. Выготский)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d7fc"/>
                </a:solidFill>
                <a:latin typeface="Arial"/>
              </a:rPr>
              <a:t>В игре человек реализует </a:t>
            </a:r>
            <a:r>
              <a:rPr b="0" i="1" lang="ru-RU" sz="3200" spc="-1" strike="noStrike" u="sng">
                <a:solidFill>
                  <a:srgbClr val="7fd7fc"/>
                </a:solidFill>
                <a:uFillTx/>
                <a:latin typeface="Arial"/>
              </a:rPr>
              <a:t>свободу личности</a:t>
            </a:r>
            <a:r>
              <a:rPr b="0" lang="ru-RU" sz="3200" spc="-1" strike="noStrike">
                <a:solidFill>
                  <a:srgbClr val="7fd7fc"/>
                </a:solidFill>
                <a:latin typeface="Arial"/>
              </a:rPr>
              <a:t> через свое воображение, может вести себя так, как он видит себя в воображении проигрываемого им персонажа.</a:t>
            </a: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Это важно для формирования </a:t>
            </a:r>
            <a:r>
              <a:rPr b="0" i="1" lang="ru-RU" sz="3200" spc="-1" strike="noStrike" u="sng">
                <a:solidFill>
                  <a:srgbClr val="0e2fad"/>
                </a:solidFill>
                <a:uFillTx/>
                <a:latin typeface="Arial"/>
              </a:rPr>
              <a:t>социокультурной компетенции</a:t>
            </a: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 при изучении иностранного языка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e2fad"/>
                </a:solidFill>
                <a:latin typeface="Arial"/>
              </a:rPr>
              <a:t>Ролевые ситуативные игры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e2fad"/>
                </a:solidFill>
                <a:latin typeface="Arial"/>
              </a:rPr>
              <a:t>Ролевые ситуативные игры проблемной направленности</a:t>
            </a: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 – проигрывание в процессе взаимодействия участников игры определенной ситуации с целью показа в игровой форме разных возможных способов решения проблемы и возможных последствий такого решения.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9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Положительные моменты использования ролевой игры на уроке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дети освобождаются от своих комплексов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мотивация к изучению иностранного языка повышается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максимальное общение на изучаемом языке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все участники объединены одной идеей и ориентированы на один результат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неподготовленная речь на иностранном языке;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e2fad"/>
                </a:solidFill>
                <a:latin typeface="Arial"/>
              </a:rPr>
              <a:t>в основе – реальные жизненные ситуации.</a:t>
            </a:r>
            <a:endParaRPr b="0" lang="en-US" sz="2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356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e2fad"/>
                </a:solidFill>
                <a:latin typeface="Arial"/>
              </a:rPr>
              <a:t>Характерные признаки ролевых игр: </a:t>
            </a:r>
            <a:br>
              <a:rPr sz="3200"/>
            </a:b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Arial"/>
              </a:rPr>
              <a:t>обязательное наличие в замысле ролевой игры проблемной ситуации, отражающей реальную действительность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Arial"/>
              </a:rPr>
              <a:t>наличие и распределение ролей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Arial"/>
              </a:rPr>
              <a:t>наличие проблемной ситуации и необходимость поиска путей выхода из нее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Arial"/>
              </a:rPr>
              <a:t>заранее подготовленный сценарий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Arial"/>
              </a:rPr>
              <a:t>наличие общей цели у игроков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Arial"/>
              </a:rPr>
              <a:t>коллективное принятие решений участниками игры;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2fad"/>
                </a:solidFill>
                <a:latin typeface="Arial"/>
              </a:rPr>
              <a:t>альтернативность решений. </a:t>
            </a: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Титова О.А.</cp:lastModifiedBy>
  <dcterms:modified xsi:type="dcterms:W3CDTF">2012-03-25T19:03:20Z</dcterms:modified>
  <cp:revision>51</cp:revision>
  <dc:subject/>
  <dc:title>Pencils template</dc:title>
</cp:coreProperties>
</file>