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33249-DB84-420F-9E94-1BBD07BC2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94E32-14AB-43A7-8AD2-87301A77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CEB5B-B060-4F0D-A119-34B9EF135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4B9F0-086A-410B-8750-7BF766C2C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4022-6E53-4C42-B637-94F37E6FC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FA18C-1E4D-4F79-A811-16AE88B0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BC87-1784-47E2-81DD-6ED07E82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B452-5951-4A44-9AA8-00B47B5C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2A8F-259B-406E-ADEC-31F73318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3617D-A84A-4089-BF83-E9B5DECF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D183-F674-4133-B795-A7057D61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F69F8-3BBF-4709-9AA5-A8EFE181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483A-135D-45B0-BE9F-E6D436DF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D4016-6A66-46C7-BE88-7EF404C4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B102-B586-4BE4-BCA3-059D77B5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00AA-7B2D-4EF1-9B80-4A04EFDBB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3B993-9B29-4554-91B0-96A4D11FB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498BE-8C59-4186-8877-828608E7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09189-D7AB-44BC-B73F-509371D8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1C8B6-3293-416F-AD93-6CC439FA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370D5-27E4-47AA-8C27-FCD8E2C7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F9C8C-DCEE-495A-A952-AF2A9AB0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55208-F5A2-4C91-879D-692DDD1D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2D7AA-EDDD-445B-931D-2421D25C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89C0-F980-4B2D-B109-F326E216490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0CF3-F24C-4ADB-925D-39528BF4CEC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cc"/>
                </a:solidFill>
                <a:latin typeface="Tahoma"/>
              </a:rPr>
              <a:t>Книгопечатание на Руси. Иван Фёдоров –первопечатник.</a:t>
            </a: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74320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зентация Ганчурина Мар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Острожская библ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наменитую Острожскую библию - первую в истории полиграфии полную библию на славянском языке, первопечатник выпустил в городе Остроге (где прожил три года до возвращения во Львов) по поручению князя Константина Острожского в конце семидесятых готов шестнадцатого ве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9" descr="879_8278big"/>
          <p:cNvPicPr/>
          <p:nvPr/>
        </p:nvPicPr>
        <p:blipFill>
          <a:blip r:embed="rId1"/>
          <a:stretch/>
        </p:blipFill>
        <p:spPr>
          <a:xfrm>
            <a:off x="4495680" y="1447920"/>
            <a:ext cx="4381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нигопечатание в России стало сильным орудием распространения знаний и просвещения. Вот почему начало книгопечатания является одним из самых крупных событий в истории культуры нашей страны, а Иван Фёдоров — выдающимся деятелем русской культу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7" descr="Иван Федоров - первый печатник на Руси"/>
          <p:cNvPicPr/>
          <p:nvPr/>
        </p:nvPicPr>
        <p:blipFill>
          <a:blip r:embed="rId1"/>
          <a:stretch/>
        </p:blipFill>
        <p:spPr>
          <a:xfrm>
            <a:off x="4749840" y="1600200"/>
            <a:ext cx="3835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В 1553 году Иван Грозный приказал построить печатный двор. Возглавить эту работу поручили мастеру печатного дела Ивану Фёдорову. Забот у него было немало: ему приходилось и за постройкой печатного двора следить, и обучать работников, которые по его заказу изготавливали типографские станки и инструменты. Большую помощь Ивану Фёдорову оказывал Пётр Мстиславец, тоже искусный мастер.</a:t>
            </a: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9" name="Picture 8" descr="fedorov"/>
          <p:cNvPicPr/>
          <p:nvPr/>
        </p:nvPicPr>
        <p:blipFill>
          <a:blip r:embed="rId1"/>
          <a:stretch/>
        </p:blipFill>
        <p:spPr>
          <a:xfrm>
            <a:off x="5410080" y="1752480"/>
            <a:ext cx="3121200" cy="4137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250px-Пётр_Мстиславец"/>
          <p:cNvPicPr/>
          <p:nvPr/>
        </p:nvPicPr>
        <p:blipFill>
          <a:blip r:embed="rId2"/>
          <a:stretch/>
        </p:blipFill>
        <p:spPr>
          <a:xfrm>
            <a:off x="1317600" y="1676520"/>
            <a:ext cx="28018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И вот уже скоро в Москве на Никольской, у Гостиных рядов, недалеко от Кремля, выросли новые палаты — Московский печатный двор. На Руси появилось новое ремесло — 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книгопечатание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2" name="Picture 10" descr=""/>
          <p:cNvPicPr/>
          <p:nvPr/>
        </p:nvPicPr>
        <p:blipFill>
          <a:blip r:embed="rId1"/>
          <a:stretch/>
        </p:blipFill>
        <p:spPr>
          <a:xfrm>
            <a:off x="762120" y="1430280"/>
            <a:ext cx="769608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ечатный станок Ивана Федорова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4" name="Picture 12" descr="01"/>
          <p:cNvPicPr/>
          <p:nvPr/>
        </p:nvPicPr>
        <p:blipFill>
          <a:blip r:embed="rId1"/>
          <a:stretch/>
        </p:blipFill>
        <p:spPr>
          <a:xfrm>
            <a:off x="2819520" y="1676520"/>
            <a:ext cx="38797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1 марта 1564 года Иван Фёдоров и Пётр Мстиславец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 закончили свой славный труд — первую на Руси печатную книгу, она называлась 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"Апостол"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. Несколько экземпляров этой книги дошли до нас и бережно хранятся в отделе редких книг в Москве, Петербурге и других хранилищах.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ремя выхода в свет «Апостола» в истории принято считать началом русского книгопечат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7" descr="апостол 1"/>
          <p:cNvPicPr/>
          <p:nvPr/>
        </p:nvPicPr>
        <p:blipFill>
          <a:blip r:embed="rId1"/>
          <a:stretch/>
        </p:blipFill>
        <p:spPr>
          <a:xfrm>
            <a:off x="4952880" y="1600200"/>
            <a:ext cx="3117960" cy="2432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апостол 2"/>
          <p:cNvPicPr/>
          <p:nvPr/>
        </p:nvPicPr>
        <p:blipFill>
          <a:blip r:embed="rId2"/>
          <a:stretch/>
        </p:blipFill>
        <p:spPr>
          <a:xfrm>
            <a:off x="4419720" y="3941640"/>
            <a:ext cx="36511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Часовник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торое издание, "Часовник", вышло через год. И это оказалась последняя книга, напечатанная в московской типографии Федоров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7" descr="chasovnik"/>
          <p:cNvPicPr/>
          <p:nvPr/>
        </p:nvPicPr>
        <p:blipFill>
          <a:blip r:embed="rId1"/>
          <a:stretch/>
        </p:blipFill>
        <p:spPr>
          <a:xfrm>
            <a:off x="4495680" y="1523880"/>
            <a:ext cx="44960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ервые печатные книги учебного содержания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ту же пору на Руси появились и первые печатные книги учебного содержания. В 1574 году во Львове русский первопечатник Иван Фёдоров издал учебную книгу под названием "Букварь". В 1596 году в Вильно был напечатан "Славяно-русский букварь" Лаврентия Зизания Тустановского. Но букварями в нашем понимании эти книги не были — скорее это были грамматики церковнославянского язы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ервый русский букварь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634 году в Московском печатном дворе, главном центре книгопечатания на Руси, был издан первый русский букварь. Это была вообще одна из первых печатных книг не церковного, а гражданского содержания. Составил этот букварь (пособие для обучения грамоте) патриарший дьяк Василий Бурцов. Полное название этой книги звучало так: "Букварь языка словенского, сиречь начало учения детям". Букварь Бурцова был снабжён иллюстрациями-гравюрами и вышел в XVII веке несколькими издания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Букварь Ивана Федоров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"Букварь" или "Азбука" (1578), стали эталоном печатного мастерства для того времени и заслужили посмертную славу первопечатнику Ивану Федорову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6" descr="0028-028-Bukvar-ivana-fjodorova"/>
          <p:cNvPicPr/>
          <p:nvPr/>
        </p:nvPicPr>
        <p:blipFill>
          <a:blip r:embed="rId1"/>
          <a:stretch/>
        </p:blipFill>
        <p:spPr>
          <a:xfrm>
            <a:off x="4648320" y="1752480"/>
            <a:ext cx="4038480" cy="36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po</cp:lastModifiedBy>
  <dcterms:modified xsi:type="dcterms:W3CDTF">2016-11-21T05:58:0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