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33C3-B466-4EF0-8104-07B9B4D57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5B75-2747-49DD-9BD8-E93D88C8714C}" type="slidenum">
              <a:rPr b="0" lang="en-US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38A5-5945-47E1-BCAD-E315A4BB2DBB}" type="slidenum">
              <a:rPr b="0" lang="en-US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2B5C-8927-41F4-A4FB-682F672E4058}" type="slidenum">
              <a:rPr b="0" lang="en-US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9188-5B1C-4DF6-992B-36FCCF5EA239}" type="slidenum">
              <a:rPr b="0" lang="en-US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888E-7E54-49BA-AB32-C5D00FEF8937}" type="slidenum">
              <a:rPr b="0" lang="en-US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217-EB80-4579-A72D-9CC830D6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82A-ADB4-42F9-AECB-A3C68FFE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EBD-5CCF-4A71-93EF-34FB753C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528-D39B-4C43-A092-AC06DB8C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9EF3-E0BE-4840-B7E2-6DEDEBF8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6875-13B8-4598-8BEB-D47F3C9E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0F7A-571C-4F99-AE0E-73689DBB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6474-8B1E-4D43-994F-7D4F3F22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EA6A-4246-4F7F-8BAF-0028FB04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0033-E165-49C4-BA98-79B9AC28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32D4-BA54-46BD-BF60-07C44119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962-0064-4C96-BFBA-7A4C4A49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B2F4-B903-46F1-8293-C5B90999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9ECE-C71C-443D-AD65-70733DD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544A-5BC7-49EA-AC44-4DD8687F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DCD1-9385-4400-9906-3C7CF20A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3F81-B709-468A-8553-8A001399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874-93D3-4849-99B1-85396D8C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D3C-311F-47E8-AF24-83E66754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900-9A98-41E2-966C-893773A8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9AB-08A6-4D22-82D7-3A653AB1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EF5-88F1-4779-BC3A-45CD0152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C49-1661-4161-90AA-6BE8402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C81-200B-4ECB-B001-B6EE835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IMG_2115v2"/>
          <p:cNvPicPr/>
          <p:nvPr/>
        </p:nvPicPr>
        <p:blipFill>
          <a:blip r:embed="rId2"/>
          <a:stretch/>
        </p:blipFill>
        <p:spPr>
          <a:xfrm>
            <a:off x="0" y="-414360"/>
            <a:ext cx="9144000" cy="7566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F94B-12C1-4D80-8388-9B767C7A5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IMG_2115"/>
          <p:cNvPicPr/>
          <p:nvPr/>
        </p:nvPicPr>
        <p:blipFill>
          <a:blip r:embed="rId2"/>
          <a:stretch/>
        </p:blipFill>
        <p:spPr>
          <a:xfrm>
            <a:off x="0" y="-709560"/>
            <a:ext cx="9144000" cy="7567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e2f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1A32-CC5B-4DC0-BBA2-43F622DCB5E7}" type="slidenum">
              <a:rPr b="0" lang="en-US" sz="1400" spc="-1" strike="noStrike">
                <a:solidFill>
                  <a:srgbClr val="0e2f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77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2fad"/>
                </a:solidFill>
                <a:latin typeface="Times New Roman"/>
              </a:rPr>
              <a:t>Основы современных технологий обучения иностранным языкам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533680"/>
            <a:ext cx="622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ОНЯТИЕ ПЕДАГОГИЧЕСКОЙ ТЕХНОЛОГИИ.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ВИДЫ ТЕХНОЛОГИЙ.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классификация технологий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150920" y="1434960"/>
            <a:ext cx="69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e2fad"/>
                </a:solidFill>
                <a:latin typeface="Times New Roman"/>
              </a:rPr>
              <a:t>по критерию «новизна»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50920" y="2863800"/>
            <a:ext cx="340992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e2fad"/>
                </a:solidFill>
                <a:uFillTx/>
                <a:latin typeface="Times New Roman"/>
              </a:rPr>
              <a:t>традиционные: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направлены на передачу и усвоение знаний традиционным (общеизвестным, устоявшимся) способом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направлены на воспроизводство существующей культуры, социального опыта.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495680" y="2863800"/>
            <a:ext cx="36403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e2fad"/>
                </a:solidFill>
                <a:uFillTx/>
                <a:latin typeface="Times New Roman"/>
              </a:rPr>
              <a:t>инновационные</a:t>
            </a:r>
            <a:r>
              <a:rPr b="1" lang="ru-RU" sz="2000" spc="-1" strike="noStrike" u="sng">
                <a:solidFill>
                  <a:srgbClr val="0e2fad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появились в течение определенного периода – от 5 до 10 лет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объективно новые технологии как результат педагогического творчества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адаптированные к школе или вузу технологии зарубежной практики;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marL="264960" indent="-264960">
              <a:buClr>
                <a:srgbClr val="0e2fad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известные образовательные технологии, применяемые в новых условиях.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154160" y="562752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150920" y="1887480"/>
            <a:ext cx="69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традиционные и инновационные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классификация технологий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интерактивные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информационные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коммуникативные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гуманитарные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00840" y="211608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119400" y="4262400"/>
            <a:ext cx="1523880" cy="1308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35480" y="3303720"/>
            <a:ext cx="1216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классификация технологий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e2fad"/>
                </a:solidFill>
                <a:latin typeface="Times New Roman"/>
              </a:rPr>
              <a:t>по критерию «структура образовательного процесса»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e2fad"/>
              </a:buClr>
              <a:buFont typeface="Wingdings" charset="2"/>
              <a:buChar char="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технологии диагностики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e2fad"/>
              </a:buClr>
              <a:buFont typeface="Wingdings" charset="2"/>
              <a:buChar char="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технологии целеполагания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e2fad"/>
              </a:buClr>
              <a:buFont typeface="Wingdings" charset="2"/>
              <a:buChar char="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технологии управления процессом освоения учебной информации, применения знаний на практике, поиска новой учебной информации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e2fad"/>
              </a:buClr>
              <a:buFont typeface="Wingdings" charset="2"/>
              <a:buChar char="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технологии организации совместной и самостоятельной деятельности субъектов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e2fad"/>
              </a:buClr>
              <a:buFont typeface="Wingdings" charset="2"/>
              <a:buChar char=""/>
              <a:tabLst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технологии контроля качества</a:t>
            </a:r>
            <a:r>
              <a:rPr b="0" lang="en-US" sz="2000" spc="-1" strike="noStrike">
                <a:solidFill>
                  <a:srgbClr val="0e2fa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и оценивания результатов образовательной деятельности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классификация технологий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e2fad"/>
                </a:solidFill>
                <a:latin typeface="Times New Roman"/>
              </a:rPr>
              <a:t>по критерию «виды и формы деятельности»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задачные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игровые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проектирования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естирования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общения педагога с учащимися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организация групповой работы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организация самостоятельной учебно-познавательной деятельности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35400" y="2654280"/>
            <a:ext cx="165132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классификация технологий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e2fad"/>
                </a:solidFill>
                <a:latin typeface="Times New Roman"/>
              </a:rPr>
              <a:t>по критерию «методы и принципы организации обучения»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проблемные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модульные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дистанционные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развивающие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объяснительно-иллюстративные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программированные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72280" y="2728800"/>
            <a:ext cx="16509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классификация технологий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e2fad"/>
                </a:solidFill>
                <a:latin typeface="Times New Roman"/>
              </a:rPr>
              <a:t>по критерию «парадигма образования»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ехнологии знаниевой парадигмы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ехнологии информационной парадигмы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ехнологии деятельностной парадигмы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ехнологии культурологической парадигмы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ехнологии личностно ориентированной парадигмы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ехнологии проектной парадигмы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38920" y="2457360"/>
            <a:ext cx="16509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2680" y="-360"/>
            <a:ext cx="82915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характерные черты всех технологий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последовательная ориентация на четко определенные цели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четкая этапность и последовательность педагогических действий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воспроизводимость педагогических процедур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полная управляемость учебным процессом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инвариантность основных этапов и процедур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очное описание условий обучения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четкие критерии измерения и оценки результатов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оперативная обратная связь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коррекция педагогического процесса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гарантированность результата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личностно-ориентированный подход в обучении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ценностный/аксиологический компонент </a:t>
            </a:r>
            <a:r>
              <a:rPr b="0" lang="ru-RU" sz="1800" spc="-1" strike="noStrike">
                <a:solidFill>
                  <a:srgbClr val="0e2fad"/>
                </a:solidFill>
                <a:latin typeface="Times New Roman"/>
              </a:rPr>
              <a:t>(введение в мир ценностей)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познавательный/когнитивный компонент </a:t>
            </a:r>
            <a:r>
              <a:rPr b="0" lang="ru-RU" sz="1800" spc="-1" strike="noStrike">
                <a:solidFill>
                  <a:srgbClr val="0e2fad"/>
                </a:solidFill>
                <a:latin typeface="Times New Roman"/>
              </a:rPr>
              <a:t>(обеспечение научными знаниями как основе духовного развития)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деятельностно-творческий компонент </a:t>
            </a:r>
            <a:r>
              <a:rPr b="0" lang="ru-RU" sz="1800" spc="-1" strike="noStrike">
                <a:solidFill>
                  <a:srgbClr val="0e2fad"/>
                </a:solidFill>
                <a:latin typeface="Times New Roman"/>
              </a:rPr>
              <a:t>(формирование и развитие разнообразных способов деятельности)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личностный компонент </a:t>
            </a:r>
            <a:r>
              <a:rPr b="0" lang="ru-RU" sz="1800" spc="-1" strike="noStrike">
                <a:solidFill>
                  <a:srgbClr val="0e2fad"/>
                </a:solidFill>
                <a:latin typeface="Times New Roman"/>
              </a:rPr>
              <a:t>(познание себя, развитие рефлексивной способности, формирование личностной позиции)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принципы личностно-ориентированного подхода в обучении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природосообразность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культуросообразность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индивидуально-творческий подход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жизнетворчество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сотрудничество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толерантность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67400" y="4002120"/>
            <a:ext cx="203364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сущность гуманистической парадигмы</a:t>
            </a:r>
            <a:br>
              <a:rPr sz="3600"/>
            </a:b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3440" y="1104840"/>
          <a:ext cx="8229600" cy="4537080"/>
        </p:xfrm>
        <a:graphic>
          <a:graphicData uri="http://schemas.openxmlformats.org/drawingml/2006/table">
            <a:tbl>
              <a:tblPr/>
              <a:tblGrid>
                <a:gridCol w="1865160"/>
                <a:gridCol w="3040200"/>
                <a:gridCol w="332424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СРАВНЕНИЯ</a:t>
                      </a:r>
                      <a:endParaRPr b="0" lang="en-US" sz="1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1368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ТРАДИЦИОННАЯ ПАРАДИГМА</a:t>
                      </a:r>
                      <a:endParaRPr b="0" lang="en-US" sz="1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1368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ГУМАНИСТИЧЕСКАЯ ПАРАДИГМА</a:t>
                      </a:r>
                      <a:endParaRPr b="0" lang="en-US" sz="1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13680">
                      <a:solidFill>
                        <a:srgbClr val="0e2fad"/>
                      </a:solidFill>
                    </a:lnR>
                    <a:lnT w="1368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Взгляд на сущность образования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бразование – процесс и результат овладения ЗУНами, способами мышления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бразование – это становление человека, обретение им себя, своего образа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1368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Ценности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Ценность человека определяется его познавательными возможностями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Ценностное отношение к ребенку как субъекту жизни, свободной личности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1368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Цели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Сохранение и передача наиболее существенных элементов культурного наследия цивилизации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Создание условий для развития личности ребенка, его индивидуальности, самоопределения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1368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Содержание основывается на базовых знаниях, умениях и навыках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Содержание включает ценностный, познавательный, креативный, личностный компоненты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1368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Технологии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риентированы на передачу и усвоение «точного»</a:t>
                      </a:r>
                      <a:r>
                        <a:rPr b="0" lang="en-US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научного знания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риентированы на развитие внутреннего мира, на межличностное общение, на творческое, интеллектуальное развитие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1368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тношения между педагогом и учащимися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тношения субъект-объектные. Педагог управляет учебным процессом, учащиеся выполняют его указания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тношения субъект-субъектные. Выстраиваются на основе диалога, сотворчества, сотрудничества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1368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ценка результатов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1368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тметка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1368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Позитивное оценивание: балльное, вербальное, сертифицированное, материальное.</a:t>
                      </a:r>
                      <a:endParaRPr b="0" lang="en-US" sz="12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e2fad"/>
                      </a:solidFill>
                    </a:lnL>
                    <a:lnR w="1368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13680">
                      <a:solidFill>
                        <a:srgbClr val="0e2f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ключевые компетенции в образовании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оциальная компетенц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коммуникативная компетенц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оциально-информационная компетенц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когнитивная компетенц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пециальная компетенц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70640" y="3578400"/>
            <a:ext cx="2066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4320" y="274680"/>
            <a:ext cx="8142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педагогическая технология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схема предметно-преобразующей педагогической деятельности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целенаправленное использование предметов, приемов, средств, событий, отношений для повышения эффективности педагогического процесса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систематизированное использование людей, учебных методов и оборудования для решения педагогических проблем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проект определенной педагогической системы, реализуемый на практике.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технология обучения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совокупность методов обучения, обеспечивающих реализацию определенной дидактической системы (Е. С. Полат);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определение наиболее рациональных, научно обоснованных способов достижения поставленных учебных целей (Н. Ф. Талызина);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системный метод создания, определения и применения всего процесса преподавания и усвоения знаний с учетом технических и человеческих ресурсов и их взаимодействия, ставящих своей задачей оптимизацию форм образования (ЮНЕСКО);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способ системной организации совместной деятельности педагога и учащихся на основе материальных средств и условий (Н.Н. Суртаева);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способ программирования, реализации и оценки учебного процесса (Б. Скиннер);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содержательная техника реализации учебного процесса (В. П. Беспалько).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компоненты технологии обучения как системной категории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цели обучен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одержание обучен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редства педагогического взаимодейств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организация учебного процесса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учащийся, педагог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результаты деятельности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e2fad"/>
                </a:solidFill>
                <a:latin typeface="Times New Roman"/>
              </a:rPr>
              <a:t>Кукушкин В. С. Педагогические технологии: Март,2002.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направления технологического обеспечения образовательного процесса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748ed6"/>
          </a:solidFill>
          <a:ln w="1260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Times New Roman Cyr"/>
              </a:rPr>
              <a:t>совершенство-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Times New Roman Cyr"/>
              </a:rPr>
              <a:t>вание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Times New Roman Cyr"/>
              </a:rPr>
              <a:t> </a:t>
            </a:r>
            <a:r>
              <a:rPr b="0" lang="ru-RU" sz="1400" spc="-1" strike="noStrike">
                <a:solidFill>
                  <a:srgbClr val="0e2fad"/>
                </a:solidFill>
                <a:latin typeface="Times New Roman Cyr"/>
              </a:rPr>
              <a:t>и оптимизация организации совместной деятельности учащихся и педагогов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Times New Roman"/>
              </a:rPr>
              <a:t>опора на новые ИКТ и возможности 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Times New Roman"/>
              </a:rPr>
              <a:t>глобальной 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Times New Roman"/>
              </a:rPr>
              <a:t>информатиза-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Times New Roman"/>
              </a:rPr>
              <a:t>ции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ba7f8"/>
                </a:solidFill>
                <a:latin typeface="Arial"/>
              </a:rPr>
              <a:t>внедрение социальных технологий в процесс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ba7f8"/>
                </a:solidFill>
                <a:latin typeface="Arial"/>
              </a:rPr>
              <a:t>общения участников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поиск оптимальной 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системы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средств и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e2fad"/>
                </a:solidFill>
                <a:latin typeface="Arial"/>
              </a:rPr>
              <a:t>условий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ffc993"/>
          </a:solidFill>
          <a:ln w="12600">
            <a:solidFill>
              <a:srgbClr val="0e2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2fad"/>
                </a:solidFill>
                <a:latin typeface="Times New Roman"/>
              </a:rPr>
              <a:t>наличие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2fad"/>
                </a:solidFill>
                <a:latin typeface="Times New Roman"/>
              </a:rPr>
              <a:t>таксономии 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2fad"/>
                </a:solidFill>
                <a:latin typeface="Times New Roman"/>
              </a:rPr>
              <a:t>целей и технологий мониторинга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2fad"/>
                </a:solidFill>
                <a:latin typeface="Times New Roman"/>
              </a:rPr>
              <a:t>и определения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2fad"/>
                </a:solidFill>
                <a:latin typeface="Times New Roman"/>
              </a:rPr>
              <a:t>качества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2fad"/>
                </a:solidFill>
                <a:latin typeface="Times New Roman"/>
              </a:rPr>
              <a:t>обучения </a:t>
            </a: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5" name="Freeform 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0e2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6" name="Freeform 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0e2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7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e2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8" name="Freeform 1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0e2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9" name="Freeform 1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0e2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2917080" y="206676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№ </a:t>
            </a: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1032840" y="20653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№ </a:t>
            </a: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5960520" y="20653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№ </a:t>
            </a: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7367040" y="206676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№ </a:t>
            </a:r>
            <a:r>
              <a:rPr b="0" lang="ru-RU" sz="2000" spc="-1" strike="noStrike">
                <a:solidFill>
                  <a:srgbClr val="0e2fad"/>
                </a:solidFill>
                <a:latin typeface="Times New Roman"/>
              </a:rPr>
              <a:t>5.</a:t>
            </a:r>
            <a:endParaRPr b="0" lang="en-US" sz="2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60480" y="2075040"/>
            <a:ext cx="6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2fad"/>
                </a:solidFill>
                <a:latin typeface="Arial"/>
              </a:rPr>
              <a:t>№ </a:t>
            </a:r>
            <a:r>
              <a:rPr b="0" lang="ru-RU" sz="1800" spc="-1" strike="noStrike">
                <a:solidFill>
                  <a:srgbClr val="0e2fad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Титова О.А.</cp:lastModifiedBy>
  <dcterms:modified xsi:type="dcterms:W3CDTF">2011-08-11T18:32:22Z</dcterms:modified>
  <cp:revision>49</cp:revision>
  <dc:subject/>
  <dc:title>Pencils template</dc:title>
</cp:coreProperties>
</file>