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76E8-39C6-4881-9BFF-8C20A8EBAE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7882-3E10-48EC-8FFE-477142390A40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2C9-D3F5-408D-B851-13458E620F76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138-63D9-4459-B233-49CCD100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905-D2BA-40AA-BADE-72906A4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97F-1C5F-4B1A-AAC2-48C5B8FA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4F9-389A-4FB3-A6F8-CD7B4582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E8FB-2174-43A1-9E50-84092F0D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FE86-16E9-448E-B831-9BDFAFED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4A5E-7C1B-42F0-92D9-0EA773DD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30A3-619B-44AE-8476-62C32CD6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6DFF-D5EF-40F8-B478-1DF66C8E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458F-1F2A-4E89-93BB-F1F3D89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5FBB-BDB8-43A6-983A-D9F53E8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AA3-EC04-49BB-B53A-95C9ECC6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04A7-EBA6-4F4C-8626-BA45BB8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E4DF-921D-46D5-8763-90855FF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018-20F5-4153-90B5-A87B2D0A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D2F8-A3D0-4087-9B12-67FE1FA4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0173-C3F1-4C80-AB75-EB365679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072-6796-469F-9FAC-76B73D51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481-165E-42BE-A656-5ECFC00B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028-8547-4AD9-95AF-10F3472B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F4F-3E15-415E-A8BB-2994CF82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0BA-1FFD-4156-9DE6-62872812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E4F-99A2-4268-BF57-EFAA4AC7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F6B-6817-421E-BC60-825F74D3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IMG_2115v2"/>
          <p:cNvPicPr/>
          <p:nvPr/>
        </p:nvPicPr>
        <p:blipFill>
          <a:blip r:embed="rId2"/>
          <a:stretch/>
        </p:blipFill>
        <p:spPr>
          <a:xfrm>
            <a:off x="0" y="-414360"/>
            <a:ext cx="9144000" cy="7566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C24B-4473-4002-8314-C60F4BE85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IMG_2115"/>
          <p:cNvPicPr/>
          <p:nvPr/>
        </p:nvPicPr>
        <p:blipFill>
          <a:blip r:embed="rId2"/>
          <a:stretch/>
        </p:blipFill>
        <p:spPr>
          <a:xfrm>
            <a:off x="0" y="-709560"/>
            <a:ext cx="9144000" cy="7567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e2f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A3F-C4DF-4A50-8B37-04C7656F5C4D}" type="slidenum">
              <a:rPr b="0" lang="en-US" sz="1400" spc="-1" strike="noStrike">
                <a:solidFill>
                  <a:srgbClr val="0e2f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77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2fad"/>
                </a:solidFill>
                <a:latin typeface="Times New Roman"/>
              </a:rPr>
              <a:t>Проблемно-поисковые образовательные технологии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533680"/>
            <a:ext cx="622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проблемное обучение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метод проектов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«мозговой штурм»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«Мозговой штурм»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Цель: 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стимулировать творческую деятельность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развитие догадки, принятие интуитивных решений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стимулирование поисковой деятельности на основе наглядно-образного мышления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77080" y="4641840"/>
            <a:ext cx="27367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Этапы организации работы</a:t>
            </a: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Постановка проблемы и сообщение вводной информации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Переформулирование проблемы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Выдвижение образных аналогий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ценка продуктивности предлагаемых подходов к требованиям, заложенным в проблеме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Метод проектов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1 этап – разработка проектного задания: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пределение проблемы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формулирование гипотезы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пределение цели проекта и поэтапных задач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11880" y="3935520"/>
            <a:ext cx="14972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Метод проектов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2 этап – разработка плана работы: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пределение сроков выполнения проекта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выбор средств и методов выполнения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выбор способов оформления результатов и сценария презентации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выбор формы работы, распределение обязанностей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70960" y="903240"/>
            <a:ext cx="76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Метод проектов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3 этап – реализация проекта: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сбор, анализ, обобщение информации из разных источников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проведение исследования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подготовка наглядно-графического материала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формление материалов для презентации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контроль промежуточных результатов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Times New Roman"/>
              </a:rPr>
              <a:t>Метод проектов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4 этап – завершение проекта: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бщественная презентация проекта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экспертиза проекта в соответствии с заданными критериями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рефлексия (обсуждение процесса и итогов работы, групповых и личностных достижений)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e2fad"/>
                </a:solidFill>
                <a:latin typeface="Times New Roman"/>
              </a:rPr>
              <a:t>Благодарю за внимание!</a:t>
            </a:r>
            <a:endParaRPr b="0" lang="en-US" sz="48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e2fad"/>
                </a:solidFill>
                <a:latin typeface="Times New Roman"/>
              </a:rPr>
              <a:t>Желаю успеха в осуществлении проблемных технологий обучения!</a:t>
            </a:r>
            <a:endParaRPr b="0" lang="en-US" sz="4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Цели технологий проблемного обучения: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побуждать к самостоятельной учебной деятельности и активному поиску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стимулировать проявление активности, инициативы, творчества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развивать интуицию и мышление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учить искусству решения различных научных и практических проблем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обеспечивать развитие критического и теоретического мышления, основных интеллектуальных умений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вызывать познавательный интерес к содержанию и методам учебного предмета.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Этапы организации проблемного обучения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 Обнаружение противоречий, неизвестных моментов в подлежащем усвоению учебном материале, осознание их как трудностей (осознание проблемной ситуации и формулировка проблемной задачи)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52960" y="1135080"/>
            <a:ext cx="17528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Этапы организации проблемного обучения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2. Анализ условий проблемной задачи, установление зависимости между данными, между известным и неизвестным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3. Разбивка основной проблемы на подпроблемы и составление плана, программы решения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Этапы организации проблемного обучения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4. Актуализация знаний и способов деятельности или приобретение недостающих знаний и соотнесение их с условием решаемой задачи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5. Выдвижение гипотезы (или гипотез), поиск идеи решения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Times New Roman"/>
              </a:rPr>
              <a:t>Этапы организации проблемного обучения</a:t>
            </a:r>
            <a:endParaRPr b="0" lang="en-US" sz="3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6. Выбор и осуществление системы действий и операций по обнаружению искомого (собственное решение)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7. Проверка решения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2640" y="3333600"/>
            <a:ext cx="2033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Типология познавательных проблем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система знаний (открытие неизвестных фактов, явлений, теорий, понятий)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система общих интеллектуальных и практических умений (логические, предметно-типовые умения)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пыт творческой деятельности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пыт эмоционально-волевого отношения к миру и себе (поиск оценочных суждений)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Когда задание/вопрос становится проблемным?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если имеются противоречия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если требуется установить сходства и различия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если требуется установить причинно-следственные связи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если необходимо обосновать выбор предпочтения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если требуется подтверждение закономерностей примерами из личного опыта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Times New Roman"/>
              </a:rPr>
              <a:t>если стоит задача выявления достоинств и недостатков того или иного решения.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80240" y="3124080"/>
            <a:ext cx="175248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Times New Roman"/>
              </a:rPr>
              <a:t>Ограничения в применении технологии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только на материале, допускающем альтернативные подходы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оправданно только на материале высокого уровня значимости, чтобы не акцентировать внимание на второстепенном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2f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Times New Roman"/>
              </a:rPr>
              <a:t>значительные временные затраты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Титова О.А.</cp:lastModifiedBy>
  <dcterms:modified xsi:type="dcterms:W3CDTF">2012-02-08T18:38:51Z</dcterms:modified>
  <cp:revision>44</cp:revision>
  <dc:subject/>
  <dc:title>Pencils template</dc:title>
</cp:coreProperties>
</file>