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png" ContentType="image/png"/>
  <Override PartName="/ppt/media/camera.wav" ContentType="audio/x-wav"/>
  <Override PartName="/ppt/media/image46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1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42.png" ContentType="image/png"/>
  <Override PartName="/ppt/media/image45.png" ContentType="image/pn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9.png" ContentType="image/png"/>
  <Override PartName="/ppt/media/image51.png" ContentType="image/png"/>
  <Override PartName="/ppt/media/image50.jpeg" ContentType="image/jpeg"/>
  <Override PartName="/ppt/media/image52.png" ContentType="image/png"/>
  <Override PartName="/ppt/media/image41.png" ContentType="image/png"/>
  <Override PartName="/ppt/media/image39.png" ContentType="image/png"/>
  <Override PartName="/ppt/media/image48.jpeg" ContentType="image/jpeg"/>
  <Override PartName="/ppt/media/image37.png" ContentType="image/png"/>
  <Override PartName="/ppt/media/image54.jpeg" ContentType="image/jpeg"/>
  <Override PartName="/ppt/media/image31.png" ContentType="image/png"/>
  <Override PartName="/ppt/media/image29.png" ContentType="image/png"/>
  <Override PartName="/ppt/media/image30.png" ContentType="image/png"/>
  <Override PartName="/ppt/media/image10.jpeg" ContentType="image/jpeg"/>
  <Override PartName="/ppt/media/whoosh.wav" ContentType="audio/x-wav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3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D1A-E8E6-45DF-A652-876ADB5C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CD1-1737-418B-8ECC-3FC6EE0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1E9-9B4B-4928-872C-823DD7D9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CEF-9227-486C-97DE-7C009757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7ABE-8F02-4296-ABFA-940D979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9707-9E54-4CA0-939F-B8007851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7832-FA0A-4B12-BC34-98B95555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5D2C-3EA4-4B6D-88BB-743CF942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892-FB80-4546-91CD-50A274D2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EEC5-F4A1-4159-A850-1D7BD044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FC23-0530-4C46-98D5-97CDB6C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4D0-DF3D-4346-BCF6-DC01C1E8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84DC-2162-43B9-A2AB-84563C4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20DD-44D5-4284-A01B-92015FB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6DD0-7D94-4DF2-983F-CA2EE714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8955-8AB2-4504-986E-F75E8355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6A7-4B95-4A25-B891-AABCBA1F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BA65-361F-4BA5-A9A4-5DF92E4F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F186-C83B-4398-9F41-32BBFAF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3E85-C649-47B6-A98B-9E4AC2C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8CE4-F1FE-4BAC-9D6A-CB151DE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7230-6F7B-4DB3-A0CC-72BEAC3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C3C-1607-4DB5-81A5-53DE123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45FF-9EEB-45D4-84F1-D153B665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28B7-E6BF-4296-87AA-C4EAB02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4468-8CF5-4575-B122-C9E0DBF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CBE1-5143-4FEE-87DB-3188CEA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3541-9945-403B-B572-8D2307D7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C6B8-1C19-4A64-AF3C-29FD91AF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971F-70EB-4F8D-8487-C54A87F7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09E6-EDFB-417D-9B47-BD8121B7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654E-B239-401F-8E02-6AD10A39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4F44-FAF9-4972-9CF6-F2B489E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1C1-A196-495C-892F-4E5E58B3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3BAF-0A58-4AAC-816C-66E9120B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0298-109C-4C0D-B277-76E1A235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78791-9FEE-4BE3-BBB1-2F23C2C9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972A-B97E-4A9A-BB8F-F756470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57CA-0E9E-4147-947B-26C82DF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4E63-8F14-4628-B08A-C9B157B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5153-FE08-4C16-99AF-F964ABEC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95B7-1F84-4273-8267-E37D5BA8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6DDF-1807-4BBA-8F05-6E321FB7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C5D-A728-4E74-B41C-9BA11BF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BEF-6A65-487E-BEE4-30D1E09E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821-DB80-4119-8B24-CD7A04B9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588-CA71-4FD1-A5FA-98EAD90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E80-E129-40AA-B04E-CB5FB2E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4119-55AA-467A-BF73-831C2FCA64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046-EBCC-47A4-989E-95E92709489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7E5C-ED20-4CB8-A70F-3433260397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F84-5BC6-418B-97A8-965A9168220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22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1026" descr=""/>
          <p:cNvPicPr/>
          <p:nvPr/>
        </p:nvPicPr>
        <p:blipFill>
          <a:blip r:embed="rId1"/>
          <a:stretch/>
        </p:blipFill>
        <p:spPr>
          <a:xfrm>
            <a:off x="115920" y="706320"/>
            <a:ext cx="8972640" cy="148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C:\Documents and Settings\206.206-CB1D62FF3F6\Рабочий стол\ЛАБОРАНТ\карта россии.jpg"/>
          <p:cNvPicPr/>
          <p:nvPr/>
        </p:nvPicPr>
        <p:blipFill>
          <a:blip r:embed="rId2"/>
          <a:stretch/>
        </p:blipFill>
        <p:spPr>
          <a:xfrm>
            <a:off x="1285920" y="1857240"/>
            <a:ext cx="644220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2"/>
          <p:cNvSpPr/>
          <p:nvPr/>
        </p:nvSpPr>
        <p:spPr>
          <a:xfrm>
            <a:off x="2286000" y="1285920"/>
            <a:ext cx="4071960" cy="1000080"/>
          </a:xfrm>
          <a:prstGeom prst="rect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Типы мор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Прямая со стрелкой 4"/>
          <p:cNvCxnSpPr/>
          <p:nvPr/>
        </p:nvCxnSpPr>
        <p:spPr>
          <a:xfrm flipH="1">
            <a:off x="2571120" y="2286000"/>
            <a:ext cx="786600" cy="64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7" name="Прямая со стрелкой 6"/>
          <p:cNvCxnSpPr/>
          <p:nvPr/>
        </p:nvCxnSpPr>
        <p:spPr>
          <a:xfrm>
            <a:off x="5285880" y="2286000"/>
            <a:ext cx="715320" cy="64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Прямоугольник 7"/>
          <p:cNvSpPr/>
          <p:nvPr/>
        </p:nvSpPr>
        <p:spPr>
          <a:xfrm>
            <a:off x="785880" y="3000240"/>
            <a:ext cx="2857320" cy="986040"/>
          </a:xfrm>
          <a:prstGeom prst="rect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краи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5000760" y="3000240"/>
            <a:ext cx="3071520" cy="1000440"/>
          </a:xfrm>
          <a:prstGeom prst="rect">
            <a:avLst/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Внутрен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Прямая со стрелкой 10"/>
          <p:cNvCxnSpPr>
            <a:stCxn id="218" idx="2"/>
          </p:cNvCxnSpPr>
          <p:nvPr/>
        </p:nvCxnSpPr>
        <p:spPr>
          <a:xfrm flipH="1">
            <a:off x="2212200" y="3986280"/>
            <a:ext cx="2520" cy="73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TextBox 11"/>
          <p:cNvSpPr/>
          <p:nvPr/>
        </p:nvSpPr>
        <p:spPr>
          <a:xfrm>
            <a:off x="785880" y="4786200"/>
            <a:ext cx="385740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се моря Тихого океана, Сев. Лед. океа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оме Белого мо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Прямая со стрелкой 13"/>
          <p:cNvCxnSpPr>
            <a:stCxn id="219" idx="2"/>
          </p:cNvCxnSpPr>
          <p:nvPr/>
        </p:nvCxnSpPr>
        <p:spPr>
          <a:xfrm flipH="1">
            <a:off x="6500160" y="4000680"/>
            <a:ext cx="37080" cy="714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3" name="TextBox 17"/>
          <p:cNvSpPr/>
          <p:nvPr/>
        </p:nvSpPr>
        <p:spPr>
          <a:xfrm>
            <a:off x="5072040" y="4786200"/>
            <a:ext cx="385776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се моря Атлантического океан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лое мо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380880" y="2819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52280" y="2590920"/>
            <a:ext cx="1981440" cy="12189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286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ренцево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048120" y="2666880"/>
            <a:ext cx="2057400" cy="10670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1240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6095880" y="2666880"/>
            <a:ext cx="1600200" cy="10670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617220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с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09480" y="4724280"/>
            <a:ext cx="1905120" cy="12193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200400" y="4724280"/>
            <a:ext cx="2057400" cy="12193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5791320" y="4724280"/>
            <a:ext cx="1904760" cy="12193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85800" y="50292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е Лаптев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3276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точно-Сибирс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5943600" y="5029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укотс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2"/>
          <p:cNvSpPr/>
          <p:nvPr/>
        </p:nvSpPr>
        <p:spPr>
          <a:xfrm rot="2324400">
            <a:off x="1326960" y="1819080"/>
            <a:ext cx="357120" cy="71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3"/>
          <p:cNvSpPr/>
          <p:nvPr/>
        </p:nvSpPr>
        <p:spPr>
          <a:xfrm rot="2010600">
            <a:off x="2490480" y="1495080"/>
            <a:ext cx="255600" cy="3422520"/>
          </a:xfrm>
          <a:prstGeom prst="downArrow">
            <a:avLst>
              <a:gd name="adj1" fmla="val 50000"/>
              <a:gd name="adj2" fmla="val 18107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3929040" y="1857240"/>
            <a:ext cx="285840" cy="762120"/>
          </a:xfrm>
          <a:prstGeom prst="downArrow">
            <a:avLst>
              <a:gd name="adj1" fmla="val 50000"/>
              <a:gd name="adj2" fmla="val 5238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5"/>
          <p:cNvSpPr/>
          <p:nvPr/>
        </p:nvSpPr>
        <p:spPr>
          <a:xfrm rot="19289400">
            <a:off x="6443280" y="1898280"/>
            <a:ext cx="355680" cy="631800"/>
          </a:xfrm>
          <a:prstGeom prst="downArrow">
            <a:avLst>
              <a:gd name="adj1" fmla="val 50000"/>
              <a:gd name="adj2" fmla="val 4310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6"/>
          <p:cNvSpPr/>
          <p:nvPr/>
        </p:nvSpPr>
        <p:spPr>
          <a:xfrm rot="19458600">
            <a:off x="5445000" y="1395360"/>
            <a:ext cx="308160" cy="3584520"/>
          </a:xfrm>
          <a:prstGeom prst="downArrow">
            <a:avLst>
              <a:gd name="adj1" fmla="val 50000"/>
              <a:gd name="adj2" fmla="val 16651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7"/>
          <p:cNvSpPr/>
          <p:nvPr/>
        </p:nvSpPr>
        <p:spPr>
          <a:xfrm>
            <a:off x="4071960" y="3809880"/>
            <a:ext cx="322200" cy="905040"/>
          </a:xfrm>
          <a:prstGeom prst="downArrow">
            <a:avLst>
              <a:gd name="adj1" fmla="val 50000"/>
              <a:gd name="adj2" fmla="val 5240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оря Северного Ледовитого океа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лгоритм работы на уро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л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звать и показать на физической карте России  моря Северного Ледовитого океан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нутренние или окраинные мор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риковая отмель (шельф)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леность морей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лимат морей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да морей Северного Ледовитого оке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делайте вывод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 все моря ______, кроме _______моря. Моря расположены на _______отмели. Соленость морей _______океанической.  Климат _______, не замерзает только ____море, благодаря поступлению ______вод ________течения. Через моря Северного Ледовитого океана проходит _________. Льды сталкиваются, образуя нагромождения льда _______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Характеристика морей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ого Ледовитого океа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моря окраинные, кроме Белог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моря расположены на материковом шельфе, поэтому они неглубок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леность морей ниже океаничес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лимат морей суровый, не замерзает только часть Баренцева мор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рез моря Северного Ледовитого океана проходит Северный Морской путь – кратчайший путь из Балтийского моря до Владивосто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д движется под действием ветров и течений по часовой стрелке – дрейфует. Льды сталкиваются, образуя нагромождения льда - торос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55920"/>
          </a:xfrm>
          <a:prstGeom prst="rect">
            <a:avLst/>
          </a:prstGeom>
          <a:ln w="0">
            <a:noFill/>
          </a:ln>
        </p:spPr>
      </p:pic>
      <p:sp>
        <p:nvSpPr>
          <p:cNvPr id="249" name="Oval 3"/>
          <p:cNvSpPr/>
          <p:nvPr/>
        </p:nvSpPr>
        <p:spPr>
          <a:xfrm>
            <a:off x="785880" y="3429000"/>
            <a:ext cx="243828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ингово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3500280" y="3000240"/>
            <a:ext cx="2514600" cy="1219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отс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357960" y="3571920"/>
            <a:ext cx="2514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понс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6"/>
          <p:cNvSpPr/>
          <p:nvPr/>
        </p:nvSpPr>
        <p:spPr>
          <a:xfrm rot="2324400">
            <a:off x="2195280" y="2125800"/>
            <a:ext cx="371520" cy="1212840"/>
          </a:xfrm>
          <a:prstGeom prst="downArrow">
            <a:avLst>
              <a:gd name="adj1" fmla="val 50000"/>
              <a:gd name="adj2" fmla="val 81613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4429080" y="1785960"/>
            <a:ext cx="380880" cy="904680"/>
          </a:xfrm>
          <a:prstGeom prst="downArrow">
            <a:avLst>
              <a:gd name="adj1" fmla="val 50000"/>
              <a:gd name="adj2" fmla="val 5938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8"/>
          <p:cNvSpPr/>
          <p:nvPr/>
        </p:nvSpPr>
        <p:spPr>
          <a:xfrm rot="19289400">
            <a:off x="6657840" y="2114280"/>
            <a:ext cx="371520" cy="1323720"/>
          </a:xfrm>
          <a:prstGeom prst="downArrow">
            <a:avLst>
              <a:gd name="adj1" fmla="val 50000"/>
              <a:gd name="adj2" fmla="val 8907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ря Тихого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лгоритм работы на уро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а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характеризуйте моря Тихого  океана и покажите их на карт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нутренние или окраинные мор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териковая отмель (шельф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чему часты природные явления (цунами)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леность морей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лимат морей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рода (флора и фауна) морей Тихого океа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делайте вывод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 Все моря Тихого океана ________и отделяются от океана цепочкой островов: Берингово __________-, Охотское_______, Японское________. У них почти отсутствует _______зона. Все моря имеют _________глубину. Природа  Морей _____. Моря _______. Не замерзает  только _________море. Все моря расположены в зоне  _____________кольца, поэтому  здесь часты _________, а по берегам ________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Характеристика морей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Тихого океа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моря Тихого океана – окраинные и отделяются от океана цепочкой остров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имеют значительные глубины, так как у них почти отсутствует шельфовая зо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ря расположены в зоне Тихоокеанского огненного кольца, в области границ литосферных плит, поэтому здесь часты цунами, а по берегам – вулканы, берега морей – горис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да Берингова и Охотского морей – сурова. Моря замерзают, а летом температура воды не выше +12С. Не замерзает только самое южное – Японское море. Здесь часты тайфуны и сильные штормы. В Охотском море – самые высокие  в России прилив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4"/>
          <p:cNvSpPr/>
          <p:nvPr/>
        </p:nvSpPr>
        <p:spPr>
          <a:xfrm>
            <a:off x="357120" y="3286080"/>
            <a:ext cx="2428920" cy="15717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н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3071880" y="2928960"/>
            <a:ext cx="2571840" cy="1647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зов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5786280" y="3286080"/>
            <a:ext cx="3071880" cy="178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тийс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7"/>
          <p:cNvSpPr/>
          <p:nvPr/>
        </p:nvSpPr>
        <p:spPr>
          <a:xfrm rot="2324400">
            <a:off x="2127240" y="2366640"/>
            <a:ext cx="290520" cy="735120"/>
          </a:xfrm>
          <a:prstGeom prst="downArrow">
            <a:avLst>
              <a:gd name="adj1" fmla="val 50000"/>
              <a:gd name="adj2" fmla="val 3781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4214880" y="1857240"/>
            <a:ext cx="261720" cy="905040"/>
          </a:xfrm>
          <a:prstGeom prst="downArrow">
            <a:avLst>
              <a:gd name="adj1" fmla="val 50000"/>
              <a:gd name="adj2" fmla="val 52447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9"/>
          <p:cNvSpPr/>
          <p:nvPr/>
        </p:nvSpPr>
        <p:spPr>
          <a:xfrm rot="19289400">
            <a:off x="6627960" y="2052360"/>
            <a:ext cx="276120" cy="965160"/>
          </a:xfrm>
          <a:prstGeom prst="downArrow">
            <a:avLst>
              <a:gd name="adj1" fmla="val 50000"/>
              <a:gd name="adj2" fmla="val 42965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Rectangle 10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ря Атлантического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лгоритм работы на уро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л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характеризуйте моря Атлантического океана и покажите их на карт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нутренние или окраинные мор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риковая отмель (шельф)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леность морей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лимат морей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да морей Атлантического океан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делайте вывод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моря _______, т.е. соединяются узкими проливами.Например, Черное море с Атлантическим океаном через пролив __________, Мраморное – через пролив ___. Самым глубоким является _________, а самым мелководным ________. Черное море расположено _________впади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Характеристика морей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Атлантического океа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моря – внутренние, то есть соединяются с океаном узкими проливами и окружены со всех сторон суш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убокое – Черное море (максимальная глубина – 2210 м), а Азовское – самое мелководное море России – наибольшая глубина 15 м, средняя 5-7 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тектонической впадине расположено Черное мор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алтийское и Азовское моря  покрываются льдом на короткое время. В Балтийском замерзают заливы, а Черное море – самое теплое море России и лед бывает только в его северных залив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рное море заражено с глубины 200 м ядовитым сероводородом и с глубины 200 м лишено жиз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3" descr="18104340003ef8cf773b16ba75dd3b1ce96f79f0cc.gif"/>
          <p:cNvPicPr/>
          <p:nvPr/>
        </p:nvPicPr>
        <p:blipFill>
          <a:blip r:embed="rId1"/>
          <a:stretch/>
        </p:blipFill>
        <p:spPr>
          <a:xfrm>
            <a:off x="755640" y="765000"/>
            <a:ext cx="774540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115920" y="304920"/>
            <a:ext cx="9094680" cy="1884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Documents and Settings\Лилия\Мои документы\Мои рисунки\poliakov-2_Каспийское_море-site.jpg"/>
          <p:cNvPicPr/>
          <p:nvPr/>
        </p:nvPicPr>
        <p:blipFill>
          <a:blip r:embed="rId2"/>
          <a:stretch/>
        </p:blipFill>
        <p:spPr>
          <a:xfrm>
            <a:off x="214200" y="1785960"/>
            <a:ext cx="3962520" cy="2970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C:\Documents and Settings\Лилия\Мои документы\Мои рисунки\каспий.jpg"/>
          <p:cNvPicPr/>
          <p:nvPr/>
        </p:nvPicPr>
        <p:blipFill>
          <a:blip r:embed="rId3"/>
          <a:stretch/>
        </p:blipFill>
        <p:spPr>
          <a:xfrm>
            <a:off x="4286160" y="314316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спийское мор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 работы на уро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смотреть Каспийское море на физической карте атласа и отметить в контурной карт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чему данное море называется озеро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м отличается море от озер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ие природные богатства известны в Каспийском мор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ие проблемы возникают при добыче этих богатст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вестно, что на Каспийское море приходится 80% мировых запасов осетровых рыб, какие виды осетровых вам извест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АМОЕ, САМОЕ, САМО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глубокое море Росси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инго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ибольшая глубина – 5500 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большое по площад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ерингов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мелковод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зов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ксимальная глубина – 15 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маленькое по площади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вско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холодное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о-Сибир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том температура воды +1 С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чистое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тско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теплое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е мо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сурсы мор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руппа №4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ль:  пользуясь параграфом 3 охарактеризовать природные ресурсы (биологические, минерально - сырьевые, транспортные, рекреационные, энергию морских приливов и отливов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смотреть фрагмент видеофильма «Богатства морей и океанов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лгоритм работы на уро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а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ие моря богаты биологическими ресурсами и почему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их морях добывают минеральные ресурсы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ое море имеет самые богатые рекреационные ресурсы? Назовите курортные города Росси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пережающее задание. Северный морской путь –важнейшая транспортная магистраль Росс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вод: промысловое значение океанов, какие полезные ископаемые добывают в морях, омывающих берега Росси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8766000" cy="1785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2743200" y="2286000"/>
            <a:ext cx="2714760" cy="868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067120" cy="1542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4876920" y="5791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0481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ль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58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к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152280" y="706320"/>
            <a:ext cx="8852040" cy="1446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5335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3"/>
          <a:stretch/>
        </p:blipFill>
        <p:spPr>
          <a:xfrm>
            <a:off x="2819520" y="1905120"/>
            <a:ext cx="2066760" cy="154296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2895480" y="3473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бу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2067120" cy="1542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5181480" y="3429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й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5"/>
          <a:stretch/>
        </p:blipFill>
        <p:spPr>
          <a:xfrm>
            <a:off x="457200" y="403848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0"/>
          <p:cNvSpPr/>
          <p:nvPr/>
        </p:nvSpPr>
        <p:spPr>
          <a:xfrm>
            <a:off x="6858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1" descr=""/>
          <p:cNvPicPr/>
          <p:nvPr/>
        </p:nvPicPr>
        <p:blipFill>
          <a:blip r:embed="rId6"/>
          <a:stretch/>
        </p:blipFill>
        <p:spPr>
          <a:xfrm>
            <a:off x="2819520" y="41148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2"/>
          <p:cNvSpPr/>
          <p:nvPr/>
        </p:nvSpPr>
        <p:spPr>
          <a:xfrm>
            <a:off x="28195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мина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7"/>
          <a:stretch/>
        </p:blipFill>
        <p:spPr>
          <a:xfrm>
            <a:off x="4800600" y="403848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4"/>
          <p:cNvSpPr/>
          <p:nvPr/>
        </p:nvSpPr>
        <p:spPr>
          <a:xfrm>
            <a:off x="49528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457200" y="615960"/>
            <a:ext cx="8308800" cy="1504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2743200" cy="20476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53352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4495680" y="2039760"/>
            <a:ext cx="2600280" cy="19418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480060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рю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4"/>
          <a:stretch/>
        </p:blipFill>
        <p:spPr>
          <a:xfrm>
            <a:off x="4343400" y="449568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434340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рля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9" descr=""/>
          <p:cNvPicPr/>
          <p:nvPr/>
        </p:nvPicPr>
        <p:blipFill>
          <a:blip r:embed="rId5"/>
          <a:stretch/>
        </p:blipFill>
        <p:spPr>
          <a:xfrm>
            <a:off x="914400" y="4572000"/>
            <a:ext cx="2066760" cy="154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"/>
          <p:cNvSpPr/>
          <p:nvPr/>
        </p:nvSpPr>
        <p:spPr>
          <a:xfrm>
            <a:off x="1219320" y="6172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ё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1524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819520" cy="2104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9907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2819160" cy="2105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5334120" y="3352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0481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9" descr=""/>
          <p:cNvPicPr/>
          <p:nvPr/>
        </p:nvPicPr>
        <p:blipFill>
          <a:blip r:embed="rId4"/>
          <a:stretch/>
        </p:blipFill>
        <p:spPr>
          <a:xfrm>
            <a:off x="2743200" y="3962520"/>
            <a:ext cx="304812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8800" cy="1884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4838760" cy="4000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533520" y="616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етр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3"/>
          <a:stretch/>
        </p:blipFill>
        <p:spPr>
          <a:xfrm>
            <a:off x="5410080" y="2438280"/>
            <a:ext cx="2067120" cy="15433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54100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8308800" cy="205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2743200" cy="20476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1371600" y="502920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умб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4191120" y="2819520"/>
            <a:ext cx="2752560" cy="20556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41972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вр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5" descr="10.JPG"/>
          <p:cNvPicPr/>
          <p:nvPr/>
        </p:nvPicPr>
        <p:blipFill>
          <a:blip r:embed="rId1"/>
          <a:stretch/>
        </p:blipFill>
        <p:spPr>
          <a:xfrm>
            <a:off x="642960" y="857160"/>
            <a:ext cx="78580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334800" y="615960"/>
            <a:ext cx="8656920" cy="1504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Documents and Settings\Лилия\Мои документы\Мои рисунки\_kisl2.jpg"/>
          <p:cNvPicPr/>
          <p:nvPr/>
        </p:nvPicPr>
        <p:blipFill>
          <a:blip r:embed="rId2"/>
          <a:stretch/>
        </p:blipFill>
        <p:spPr>
          <a:xfrm>
            <a:off x="285840" y="2208240"/>
            <a:ext cx="3024000" cy="39830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Documents and Settings\Лилия\Мои документы\Мои рисунки\Кисл.jpg"/>
          <p:cNvPicPr/>
          <p:nvPr/>
        </p:nvPicPr>
        <p:blipFill>
          <a:blip r:embed="rId3"/>
          <a:stretch/>
        </p:blipFill>
        <p:spPr>
          <a:xfrm>
            <a:off x="3714840" y="2143080"/>
            <a:ext cx="4860720" cy="40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8800" cy="1884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Буровая платформа для добычи нефти"/>
          <p:cNvPicPr/>
          <p:nvPr/>
        </p:nvPicPr>
        <p:blipFill>
          <a:blip r:embed="rId2"/>
          <a:stretch/>
        </p:blipFill>
        <p:spPr>
          <a:xfrm>
            <a:off x="1000080" y="1928880"/>
            <a:ext cx="7155000" cy="47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08800" cy="1585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1928880" y="1500120"/>
            <a:ext cx="55720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сновные источники загрязнения море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ки промышленных предприятий, поступающие с речной вод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рской транспор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арии танкеров – нефтеналивных су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варии нефтепроводов, проложенных по дну мор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D:\Рабочий стол\рисунки 6кл\животные\Семья кит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928800" y="428760"/>
            <a:ext cx="7500960" cy="155628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Экологические проблемы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642960" y="1500120"/>
            <a:ext cx="8001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алтийское, Чёрное, Азовское, Японское, Бел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1357200" y="2428920"/>
            <a:ext cx="6572520" cy="228852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40%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- речной ст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30%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- морской транспор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285920" y="4572000"/>
            <a:ext cx="6858000" cy="1800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ти реш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зотходные произво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троительство очистных сооруж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ути улучшения экологической ситу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спользовать безотходные производства по побережьям и берегам ре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роительство очистных сооружен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збегать высокой концентрации (скопления промышленных предприятий) на побережьях мор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охраняемых акваторий (морских заповедников и заказников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артины Айвазовского И.К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2" name="Содержимое 3" descr="12.jpg"/>
          <p:cNvPicPr/>
          <p:nvPr/>
        </p:nvPicPr>
        <p:blipFill>
          <a:blip r:embed="rId1"/>
          <a:stretch/>
        </p:blipFill>
        <p:spPr>
          <a:xfrm>
            <a:off x="1089000" y="1935000"/>
            <a:ext cx="6966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Утро на море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4" name="Содержимое 3" descr="Ivan-Aivazovsky-Morning-at-Sea.JPG"/>
          <p:cNvPicPr/>
          <p:nvPr/>
        </p:nvPicPr>
        <p:blipFill>
          <a:blip r:embed="rId1"/>
          <a:stretch/>
        </p:blipFill>
        <p:spPr>
          <a:xfrm>
            <a:off x="1863720" y="1935000"/>
            <a:ext cx="5416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9 вал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6" name="Содержимое 3" descr="f15e20466e3d.jpg"/>
          <p:cNvPicPr/>
          <p:nvPr/>
        </p:nvPicPr>
        <p:blipFill>
          <a:blip r:embed="rId1"/>
          <a:stretch/>
        </p:blipFill>
        <p:spPr>
          <a:xfrm>
            <a:off x="1000080" y="2309760"/>
            <a:ext cx="72151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9 вал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8" name="Содержимое 3" descr="cms.jpg"/>
          <p:cNvPicPr/>
          <p:nvPr/>
        </p:nvPicPr>
        <p:blipFill>
          <a:blip r:embed="rId1"/>
          <a:stretch/>
        </p:blipFill>
        <p:spPr>
          <a:xfrm>
            <a:off x="1220760" y="1935000"/>
            <a:ext cx="67024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1375468843_gl-1.jpg"/>
          <p:cNvPicPr/>
          <p:nvPr/>
        </p:nvPicPr>
        <p:blipFill>
          <a:blip r:embed="rId1"/>
          <a:stretch/>
        </p:blipFill>
        <p:spPr>
          <a:xfrm>
            <a:off x="714240" y="785880"/>
            <a:ext cx="7858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143000" y="214200"/>
            <a:ext cx="7893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Задание на контурной кар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одписать моря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тметить географические объек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108000" y="2071800"/>
            <a:ext cx="892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Полуострова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: Таймыр, Кольский, Камчатка, Чукотский, Яма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Заливы: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Финский, Шелихова, Анадырский, Пенжинская губа, Обская губ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Проливы: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Лаперуза, Кунаширский, Берингов, Карские Вор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Острова: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Новая Земля, Земля Франца-Иосифа, Северная Земля, Новосибирские остро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. Сахалин, Курильские остр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араграф  прочитать ответить на вопросы к параграфу. Нанести на контурную карту моря омывающие берега Росси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полнить практическую работу: сравнить по плану  два моря по картам атласа и таблице (Карское море, второе море - самостоятельно или подготовить характеристику одного из морей омывающих берега России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лан сравнения морей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6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бассейну какого океана принадлежи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раинное или внутренне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ереговая линия (изрезана, нет, заливы, полуостров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ин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ле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емпература воды (льды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сурсы мор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кологические проблем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3" descr="bdc62a297d08.jpg"/>
          <p:cNvPicPr/>
          <p:nvPr/>
        </p:nvPicPr>
        <p:blipFill>
          <a:blip r:embed="rId1"/>
          <a:stretch/>
        </p:blipFill>
        <p:spPr>
          <a:xfrm>
            <a:off x="642960" y="857160"/>
            <a:ext cx="78580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3" descr="caspian-sea-iran-big.jpg"/>
          <p:cNvPicPr/>
          <p:nvPr/>
        </p:nvPicPr>
        <p:blipFill>
          <a:blip r:embed="rId1"/>
          <a:stretch/>
        </p:blipFill>
        <p:spPr>
          <a:xfrm>
            <a:off x="571680" y="1071720"/>
            <a:ext cx="80802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3" descr="winter_photo_74.jpg"/>
          <p:cNvPicPr/>
          <p:nvPr/>
        </p:nvPicPr>
        <p:blipFill>
          <a:blip r:embed="rId1"/>
          <a:stretch/>
        </p:blipFill>
        <p:spPr>
          <a:xfrm>
            <a:off x="642960" y="857160"/>
            <a:ext cx="78580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:\Рабочий стол\рисунки 6-10\Class7\Белух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857160" y="428760"/>
            <a:ext cx="7243920" cy="4025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На Земле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Constantia"/>
              </a:rPr>
              <a:t>54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мор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onstantia"/>
              </a:rPr>
              <a:t>13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 морей омывают Россию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12 –бассейн Мирового океана) и Каспийское (внутренний бессточный бассейн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523880" y="685800"/>
            <a:ext cx="4953240" cy="13716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523880" y="9907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МОР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5840" y="3571920"/>
            <a:ext cx="3352680" cy="7858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929120" y="3643200"/>
            <a:ext cx="3124440" cy="7858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28760" y="3571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утрен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43680" y="3643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краин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1752480" y="2133720"/>
            <a:ext cx="106704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724280" y="2209680"/>
            <a:ext cx="144792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"/>
          <p:cNvSpPr/>
          <p:nvPr/>
        </p:nvSpPr>
        <p:spPr>
          <a:xfrm>
            <a:off x="684360" y="5013360"/>
            <a:ext cx="2592360" cy="1008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нутри мат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5294160" y="5057640"/>
            <a:ext cx="2759400" cy="11797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ходятся у внешних гран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8:45:42Z</dcterms:created>
  <dc:creator>Лилия</dc:creator>
  <dc:description/>
  <dc:language>en-US</dc:language>
  <cp:lastModifiedBy>кура</cp:lastModifiedBy>
  <dcterms:modified xsi:type="dcterms:W3CDTF">2016-09-04T19:01:25Z</dcterms:modified>
  <cp:revision>38</cp:revision>
  <dc:subject/>
  <dc:title>Северный Ледовитый океан</dc:title>
</cp:coreProperties>
</file>