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4EAC-9E7B-431A-B923-48C69FD88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7A37-8F27-40C2-B0FC-072995C9A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F755-1EF9-418C-A828-1AB20D71A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E77-FF9B-4AD2-8E65-1FC732FC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495-CAA4-4BCF-9D3A-7298F6F6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113-B5AF-4E46-B427-28BC369F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D92-D667-494C-A0BD-3ADCAAEA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1A5-35D5-4C69-BFEA-CB015B63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D16-52F3-43F2-9E1C-643319AB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10E-0273-4669-B68B-3794467F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80A-BA97-4C28-BEB2-7C50EA54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A25-8DAF-43CF-93E9-FDBD573E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1FB-169D-4E9F-BA25-2C0C60A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D4C-CAE9-45D2-B92F-664F8EA3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0E4-E659-4162-8C3B-BDA81EF5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8CA8-486F-4913-8894-0D2377D90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Акция 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«Покорми птиц зимо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20728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КДОУ Стрел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тский сад «Лебед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ронежская обла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емилукский 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руппа «НЕПОСЕ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спитатели Н. А. Кислен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Ю. Г. Боро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88000" y="4493880"/>
            <a:ext cx="23450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Александр Я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182920" y="258480"/>
            <a:ext cx="4120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А ведь в нашем сердц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И для птиц теп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Разве можно забыв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Улететь мог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А остались зим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Заодно с люд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Приучите птиц в мо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К своему ок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Чтоб без песен не приш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Нам встречать вес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611280" y="2701800"/>
            <a:ext cx="45720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Покормите птиц з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Пусть со всех конц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К вам слетятся, как дом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Стайки на крыльц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Не богаты их к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Горсть одна нуж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Горсть одна - и не страш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Будет им зи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1800" spc="-1" strike="noStrike">
                <a:solidFill>
                  <a:srgbClr val="222268"/>
                </a:solidFill>
                <a:latin typeface="Calibri"/>
                <a:ea typeface="Calibri"/>
              </a:rPr>
              <a:t>Сколько гибнет их – не</a:t>
            </a:r>
            <a:r>
              <a:rPr b="0" i="1" lang="ru-RU" sz="2000" spc="-1" strike="noStrike">
                <a:solidFill>
                  <a:srgbClr val="222268"/>
                </a:solidFill>
                <a:latin typeface="Calibri"/>
                <a:ea typeface="Calibri"/>
              </a:rPr>
              <a:t> сч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22268"/>
                </a:solidFill>
                <a:latin typeface="Calibri"/>
                <a:ea typeface="Calibri"/>
              </a:rPr>
              <a:t>  </a:t>
            </a:r>
            <a:r>
              <a:rPr b="0" i="1" lang="ru-RU" sz="2000" spc="-1" strike="noStrike">
                <a:solidFill>
                  <a:srgbClr val="222268"/>
                </a:solidFill>
                <a:latin typeface="Calibri"/>
                <a:ea typeface="Calibri"/>
              </a:rPr>
              <a:t>Видеть тяже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2282400"/>
            <a:ext cx="40388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КОРМУШКА ДЛЯ ПТИЦ СВОИМИ РУКАМИ ИЗ ДЕРЕВА ЧЕРТЕЖ"/>
          <p:cNvPicPr/>
          <p:nvPr/>
        </p:nvPicPr>
        <p:blipFill>
          <a:blip r:embed="rId1"/>
          <a:stretch/>
        </p:blipFill>
        <p:spPr>
          <a:xfrm>
            <a:off x="179280" y="189000"/>
            <a:ext cx="3133800" cy="208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Я.ру закрыт"/>
          <p:cNvPicPr/>
          <p:nvPr/>
        </p:nvPicPr>
        <p:blipFill>
          <a:blip r:embed="rId2"/>
          <a:stretch/>
        </p:blipFill>
        <p:spPr>
          <a:xfrm>
            <a:off x="5292720" y="4976640"/>
            <a:ext cx="3851280" cy="1881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900000" y="638172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Читаем рассказы Т. Шорыгиной из книги «Птицы. Какие они?»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6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187280" y="62676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Рассматривание картинок с изображением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Они остались зимовать, мы им будем помогать! Зимой птицам голодно и холодно. Сыплем корм для птиц в кормушк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6303600"/>
            <a:ext cx="91440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30240" y="1216080"/>
            <a:ext cx="9131400" cy="5613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205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611280" y="62118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Кормушка Олеси О. очень высоко подвешена. Не беда. Нам поможет корм в неё насыпать Надежда Александ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родные  приметы о зимующих птиц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робьи дружно чирикают – значит будет оттеп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какую сторону ворона села носом – оттуда и будет ве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роны прячут клюв под крыло – к холо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тицы садятся на верхушки деревьев – будет теп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инички с утра пищат – значит будет мо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2484360" y="836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egoe Print"/>
              </a:rPr>
              <a:t>Рисуем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187280" y="63514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«Снегири на кормушке». Работа Олеси Орех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539640" y="6381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22268"/>
                </a:solidFill>
                <a:latin typeface="Arial"/>
              </a:rPr>
              <a:t>«Прилетели птички – бойкие синички» Работа Полины Кулак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286000" y="270828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В акции  участвовали</a:t>
            </a:r>
            <a:br>
              <a:rPr sz="4800"/>
            </a:b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 дети подготовительной группы </a:t>
            </a:r>
            <a:br>
              <a:rPr sz="4800"/>
            </a:b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«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Н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Calibri"/>
                <a:ea typeface="Calibri"/>
              </a:rPr>
              <a:t>е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ru-RU" sz="4800" spc="-1" strike="noStrike">
                <a:solidFill>
                  <a:srgbClr val="ffc000"/>
                </a:solidFill>
                <a:latin typeface="Calibri"/>
                <a:ea typeface="Calibri"/>
              </a:rPr>
              <a:t>п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ru-RU" sz="4800" spc="-1" strike="noStrike">
                <a:solidFill>
                  <a:srgbClr val="b10f8e"/>
                </a:solidFill>
                <a:latin typeface="Calibri"/>
                <a:ea typeface="Calibri"/>
              </a:rPr>
              <a:t>о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Calibri"/>
              </a:rPr>
              <a:t>с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  <a:ea typeface="Calibri"/>
              </a:rPr>
              <a:t>е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ru-RU" sz="4800" spc="-1" strike="noStrike">
                <a:solidFill>
                  <a:srgbClr val="2c07c9"/>
                </a:solidFill>
                <a:latin typeface="Calibri"/>
                <a:ea typeface="Calibri"/>
              </a:rPr>
              <a:t>д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ru-RU" sz="4800" spc="-1" strike="noStrike">
                <a:solidFill>
                  <a:srgbClr val="f68912"/>
                </a:solidFill>
                <a:latin typeface="Calibri"/>
                <a:ea typeface="Calibri"/>
              </a:rPr>
              <a:t>ы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»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  <a:ea typeface="Calibri"/>
              </a:rPr>
              <a:t>(23 человека)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  <a:ea typeface="Calibri"/>
              </a:rPr>
              <a:t>, родители, воспитатели, помощник воспитате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-11160" y="9360"/>
            <a:ext cx="9144000" cy="61945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2195640" y="6308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ка «Птичья столов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0"/>
            <a:ext cx="91440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ведя наблюдения, мы сделали следующие 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. В нашем крае зимуют только приспособленные к выживанию в    суровых погодных условиях п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. Сытой птице мороз не стра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3. Главное правило: не забывать подсыпать корм в кормушки. Нерегулярное наполнение кормушки может вызвать гибель привыкших к подкормке пернатых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4. Выдвинута новая проблема: встреча перелетных пт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зготовление скворечник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              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0" y="4079880"/>
            <a:ext cx="4361040" cy="27781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4359240" y="4084560"/>
            <a:ext cx="478476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395280" y="404640"/>
            <a:ext cx="8569440" cy="71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ЫВОД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и проводимых акций реализовывались через проектную деяте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нформационно-творческий проект «Поможем птицам перезимовать»  показал, что 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кормка зимующих птиц приносит пользу не только пернатым, но и в обучении и воспитании детей. Дети через беседы, познавательные занятия и наблюдения узнают о различных видах птиц своей местности, узнают характерные особенности внешнего вида, поведения, учатся заботиться о птицах, испытывают радость от осознания того, что, делясь крохами, подкармливая птиц, можно спасти их от гиб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охотно участвуют в организации и проведении подкормки зимующи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и дети ответственно относятся к серьезному и нужному делу – изготовлению кормушек, скворечников, сбору корма для пернат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ивая детям, любовь ко всему живому, мы надеемся, что «их рука - ни горести, ни боли не принесет нигде и ником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717171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0" y="-171360"/>
            <a:ext cx="457200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179280" y="333360"/>
            <a:ext cx="88567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едения детям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чтения: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анка В. «Лесная газета»; Пришвин М. «Дятел», «Гаечки»; Скребницкий Г. «На лесной полянке»; Скребницкий Г. и Чаплина В. «Появились синички»; Сладков Н. «Птицы», «Синичкина кладовая»; Соколов-Микитов И. «Глухари», «Тетерева»; Ушинский К. «Ворона и сорока»; Шорыгина Т. Рассказы из книги «Птицы. Какие они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учивание стихотворен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Барто А. «Ворона»; Демьянова Е. «Снегирь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енин С. «Воробышки»; Жуковский В. «Жаворонок»; Шорыгина 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резовый сок», «Воробьи и кот», «Валенки»; Яшин А. «Покормите пт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ние зимующих птиц на картин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щева Н. В. «Кабинет логопеда. Картотека подвижных игр, упражненний, физкультминуток, пальчиковой гимнаст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жина С. Д. «Технология интегрированного занятия в ДО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хова Л. Г. «Ознакомление с природой и развитие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ированные занят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Статьи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2286000" y="2100240"/>
            <a:ext cx="4572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73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2465280" y="3429000"/>
            <a:ext cx="457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463"/>
              </a:lnSpc>
              <a:spcBef>
                <a:spcPts val="224"/>
              </a:spcBef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5560" y="0"/>
            <a:ext cx="90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2050920" y="907920"/>
            <a:ext cx="5257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Творческий отч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по итогам проведения а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Покорми птиц зим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в рамках ежегодной Общероссийской эколого-культурной а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« Покормите птиц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015 – 2016 уч. г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8960" y="54900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ь акции: </a:t>
            </a:r>
            <a:br>
              <a:rPr sz="2400"/>
            </a:br>
            <a:br>
              <a:rPr sz="16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активной жизненной позиции, бережного отношения к природе и миру птиц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0720" y="22050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и 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ть у дошкольников убеждение в том, что от каждого человека зависит состояние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креплять понятие о необходимости помогать птицам в холодное время год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вивать детям при помощи родителей доброжелательное и заботливое отношение к окружающему, приучать их заботиться о птиц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рганизация подкормки зимующ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7280" y="7920"/>
            <a:ext cx="4390920" cy="27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ведение детей в проблемную ситуацию проводится через беседу «Как птицам перезимовать? 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4011480" y="2698920"/>
            <a:ext cx="5119920" cy="4132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2"/>
          <a:stretch/>
        </p:blipFill>
        <p:spPr>
          <a:xfrm>
            <a:off x="31680" y="7920"/>
            <a:ext cx="40356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можем птицам зим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160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тиц, которые остаются у нас зимовать или прилетают к нам с севера, называют - зимующие. Зимующих птиц много: воробей, ворона, дятел, синица, свиристель, поползень, дрозд - рябинник, сорока, снегирь и другие. В холодное время года естественный корм для птиц становится практически недоступным, поэтому многие птицы не могут пережить зиму и погибают. Чтобы зимой помочь птицам, нужно сделать для них кормушки и регулярно насыпать туда зерна, крупу или хлебные крошки. Для синиц хороши кусочки несолёного сала, а солёное сало давать нельз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2265480" y="3413160"/>
            <a:ext cx="45622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9880" y="-233640"/>
            <a:ext cx="77724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имующие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256080" y="536400"/>
            <a:ext cx="259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299880" y="4305240"/>
            <a:ext cx="3608640" cy="6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-706320" y="620640"/>
            <a:ext cx="2408040" cy="536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Sony\Desktop\gifka\презентация\5e3c70b66e5f2c8edf051b8e690ead0f194df8cf.jpg"/>
          <p:cNvPicPr/>
          <p:nvPr/>
        </p:nvPicPr>
        <p:blipFill>
          <a:blip r:embed="rId3"/>
          <a:stretch/>
        </p:blipFill>
        <p:spPr>
          <a:xfrm>
            <a:off x="92160" y="1014480"/>
            <a:ext cx="3816360" cy="254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Sony\Desktop\gifka\презентация\p_major.jpg"/>
          <p:cNvPicPr/>
          <p:nvPr/>
        </p:nvPicPr>
        <p:blipFill>
          <a:blip r:embed="rId4"/>
          <a:stretch/>
        </p:blipFill>
        <p:spPr>
          <a:xfrm>
            <a:off x="5003640" y="907920"/>
            <a:ext cx="2949840" cy="275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Sony\Desktop\gifka\презентация\7477.jpg"/>
          <p:cNvPicPr/>
          <p:nvPr/>
        </p:nvPicPr>
        <p:blipFill>
          <a:blip r:embed="rId5"/>
          <a:stretch/>
        </p:blipFill>
        <p:spPr>
          <a:xfrm>
            <a:off x="4356000" y="4290840"/>
            <a:ext cx="3799080" cy="2532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6372360" y="391464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о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6"/>
          <a:stretch/>
        </p:blipFill>
        <p:spPr>
          <a:xfrm>
            <a:off x="87480" y="4165560"/>
            <a:ext cx="3527280" cy="25592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-727200" y="380052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87280" y="115920"/>
            <a:ext cx="2592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Ще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99880" y="4305240"/>
            <a:ext cx="3608640" cy="608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7283520" y="1197000"/>
            <a:ext cx="25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ят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Sony\Desktop\gifka\презентация\0_2d441_2948790c_XL.jpg"/>
          <p:cNvPicPr/>
          <p:nvPr/>
        </p:nvPicPr>
        <p:blipFill>
          <a:blip r:embed="rId2"/>
          <a:stretch/>
        </p:blipFill>
        <p:spPr>
          <a:xfrm>
            <a:off x="2104920" y="490680"/>
            <a:ext cx="3748320" cy="28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Sony\Desktop\gifka\презентация\1051784.jpg"/>
          <p:cNvPicPr/>
          <p:nvPr/>
        </p:nvPicPr>
        <p:blipFill>
          <a:blip r:embed="rId3"/>
          <a:stretch/>
        </p:blipFill>
        <p:spPr>
          <a:xfrm>
            <a:off x="6108840" y="1576440"/>
            <a:ext cx="2933640" cy="4483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-612720" y="3430440"/>
            <a:ext cx="259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Users\Sony\Desktop\gifka\презентация\0_6dfdf_11cd9bdd_XL.jpg"/>
          <p:cNvPicPr/>
          <p:nvPr/>
        </p:nvPicPr>
        <p:blipFill>
          <a:blip r:embed="rId4"/>
          <a:stretch/>
        </p:blipFill>
        <p:spPr>
          <a:xfrm>
            <a:off x="299880" y="3817800"/>
            <a:ext cx="3980160" cy="2984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09:23:17Z</dcterms:created>
  <dc:creator>репьевка</dc:creator>
  <dc:description/>
  <dc:language>en-US</dc:language>
  <cp:lastModifiedBy>User</cp:lastModifiedBy>
  <dcterms:modified xsi:type="dcterms:W3CDTF">2016-11-23T17:48:47Z</dcterms:modified>
  <cp:revision>159</cp:revision>
  <dc:subject/>
  <dc:title>Слайд 1</dc:title>
</cp:coreProperties>
</file>