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7BB-3E70-483D-8A04-71BE0112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57A-4F0A-4002-94E2-710270D5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365-9083-4D5D-8BEF-0C3E3236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26D-2649-4589-8DF5-FC8C7F5F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35D-8E9A-4BA1-B85F-696FEAE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2F6-B3E8-4584-B1F7-C17FAD9C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8BF-7ED6-47D6-A62D-A663BBF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AA7-DB9F-4629-AAE0-CE3C961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2A6-D47D-41B5-AAE0-96DD53C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1B2-9B7A-4482-B7EB-BD2119C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20C-FDB3-4916-9270-EA6F070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6FF-B9E7-4562-B08F-C14FDF3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F284-B7AA-46DE-B26E-F91E4A8A31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633240" y="249228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1028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29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30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1"/>
          <p:cNvSpPr/>
          <p:nvPr/>
        </p:nvSpPr>
        <p:spPr>
          <a:xfrm>
            <a:off x="7621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32"/>
          <p:cNvSpPr/>
          <p:nvPr/>
        </p:nvSpPr>
        <p:spPr>
          <a:xfrm>
            <a:off x="7772400" y="4952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3"/>
          <p:cNvSpPr/>
          <p:nvPr/>
        </p:nvSpPr>
        <p:spPr>
          <a:xfrm>
            <a:off x="3962520" y="380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В зависимости от углов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0"/>
          <p:cNvGrpSpPr/>
          <p:nvPr/>
        </p:nvGrpSpPr>
        <p:grpSpPr>
          <a:xfrm>
            <a:off x="609120" y="533520"/>
            <a:ext cx="3886560" cy="2438280"/>
            <a:chOff x="609120" y="533520"/>
            <a:chExt cx="3886560" cy="2438280"/>
          </a:xfrm>
        </p:grpSpPr>
        <p:sp>
          <p:nvSpPr>
            <p:cNvPr id="83" name="Line 2"/>
            <p:cNvSpPr/>
            <p:nvPr/>
          </p:nvSpPr>
          <p:spPr>
            <a:xfrm flipH="1">
              <a:off x="2819520" y="533520"/>
              <a:ext cx="1676160" cy="24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609120" y="533520"/>
              <a:ext cx="3886200" cy="2438280"/>
              <a:chOff x="609120" y="533520"/>
              <a:chExt cx="3886200" cy="2438280"/>
            </a:xfrm>
          </p:grpSpPr>
          <p:sp>
            <p:nvSpPr>
              <p:cNvPr id="85" name="Line 3"/>
              <p:cNvSpPr/>
              <p:nvPr/>
            </p:nvSpPr>
            <p:spPr>
              <a:xfrm flipH="1">
                <a:off x="609120" y="533520"/>
                <a:ext cx="3886200" cy="24382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4"/>
              <p:cNvSpPr/>
              <p:nvPr/>
            </p:nvSpPr>
            <p:spPr>
              <a:xfrm flipH="1">
                <a:off x="609120" y="2971800"/>
                <a:ext cx="2210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Group 27"/>
          <p:cNvGrpSpPr/>
          <p:nvPr/>
        </p:nvGrpSpPr>
        <p:grpSpPr>
          <a:xfrm>
            <a:off x="2286000" y="3276720"/>
            <a:ext cx="3733920" cy="2361960"/>
            <a:chOff x="2286000" y="3276720"/>
            <a:chExt cx="3733920" cy="2361960"/>
          </a:xfrm>
        </p:grpSpPr>
        <p:sp>
          <p:nvSpPr>
            <p:cNvPr id="88" name="Line 22"/>
            <p:cNvSpPr/>
            <p:nvPr/>
          </p:nvSpPr>
          <p:spPr>
            <a:xfrm>
              <a:off x="3657600" y="3276720"/>
              <a:ext cx="2362320" cy="23619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26"/>
            <p:cNvGrpSpPr/>
            <p:nvPr/>
          </p:nvGrpSpPr>
          <p:grpSpPr>
            <a:xfrm>
              <a:off x="2286000" y="3276720"/>
              <a:ext cx="3733920" cy="2361960"/>
              <a:chOff x="2286000" y="3276720"/>
              <a:chExt cx="3733920" cy="2361960"/>
            </a:xfrm>
          </p:grpSpPr>
          <p:sp>
            <p:nvSpPr>
              <p:cNvPr id="90" name="Line 23"/>
              <p:cNvSpPr/>
              <p:nvPr/>
            </p:nvSpPr>
            <p:spPr>
              <a:xfrm flipH="1">
                <a:off x="2286000" y="3276720"/>
                <a:ext cx="1371600" cy="23619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4"/>
              <p:cNvSpPr/>
              <p:nvPr/>
            </p:nvSpPr>
            <p:spPr>
              <a:xfrm flipH="1">
                <a:off x="2286000" y="5638680"/>
                <a:ext cx="37339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Group 29"/>
          <p:cNvGrpSpPr/>
          <p:nvPr/>
        </p:nvGrpSpPr>
        <p:grpSpPr>
          <a:xfrm>
            <a:off x="5181120" y="685800"/>
            <a:ext cx="2210400" cy="2819520"/>
            <a:chOff x="5181120" y="685800"/>
            <a:chExt cx="2210400" cy="2819520"/>
          </a:xfrm>
        </p:grpSpPr>
        <p:grpSp>
          <p:nvGrpSpPr>
            <p:cNvPr id="93" name="Group 20"/>
            <p:cNvGrpSpPr/>
            <p:nvPr/>
          </p:nvGrpSpPr>
          <p:grpSpPr>
            <a:xfrm>
              <a:off x="5181120" y="685800"/>
              <a:ext cx="2210400" cy="2819520"/>
              <a:chOff x="5181120" y="685800"/>
              <a:chExt cx="2210400" cy="2819520"/>
            </a:xfrm>
          </p:grpSpPr>
          <p:sp>
            <p:nvSpPr>
              <p:cNvPr id="94" name="Line 12"/>
              <p:cNvSpPr/>
              <p:nvPr/>
            </p:nvSpPr>
            <p:spPr>
              <a:xfrm>
                <a:off x="5181480" y="685800"/>
                <a:ext cx="2210040" cy="2819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4"/>
              <p:cNvSpPr/>
              <p:nvPr/>
            </p:nvSpPr>
            <p:spPr>
              <a:xfrm>
                <a:off x="5181480" y="685800"/>
                <a:ext cx="0" cy="2819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5"/>
              <p:cNvSpPr/>
              <p:nvPr/>
            </p:nvSpPr>
            <p:spPr>
              <a:xfrm flipH="1">
                <a:off x="5181120" y="3505320"/>
                <a:ext cx="2210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Rectangle 28"/>
            <p:cNvSpPr/>
            <p:nvPr/>
          </p:nvSpPr>
          <p:spPr>
            <a:xfrm>
              <a:off x="5181480" y="312408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"/>
          <p:cNvGrpSpPr/>
          <p:nvPr/>
        </p:nvGrpSpPr>
        <p:grpSpPr>
          <a:xfrm>
            <a:off x="2819520" y="609480"/>
            <a:ext cx="4114080" cy="4799880"/>
            <a:chOff x="2819520" y="609480"/>
            <a:chExt cx="4114080" cy="4799880"/>
          </a:xfrm>
        </p:grpSpPr>
        <p:grpSp>
          <p:nvGrpSpPr>
            <p:cNvPr id="99" name="Group 13"/>
            <p:cNvGrpSpPr/>
            <p:nvPr/>
          </p:nvGrpSpPr>
          <p:grpSpPr>
            <a:xfrm>
              <a:off x="2819520" y="609480"/>
              <a:ext cx="4114080" cy="4799880"/>
              <a:chOff x="2819520" y="609480"/>
              <a:chExt cx="4114080" cy="4799880"/>
            </a:xfrm>
          </p:grpSpPr>
          <p:sp>
            <p:nvSpPr>
              <p:cNvPr id="100" name="Line 14"/>
              <p:cNvSpPr/>
              <p:nvPr/>
            </p:nvSpPr>
            <p:spPr>
              <a:xfrm>
                <a:off x="2819520" y="609480"/>
                <a:ext cx="411408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5"/>
              <p:cNvSpPr/>
              <p:nvPr/>
            </p:nvSpPr>
            <p:spPr>
              <a:xfrm>
                <a:off x="2819520" y="609480"/>
                <a:ext cx="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 flipH="1">
                <a:off x="2819520" y="5409360"/>
                <a:ext cx="4114080" cy="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7"/>
            <p:cNvSpPr/>
            <p:nvPr/>
          </p:nvSpPr>
          <p:spPr>
            <a:xfrm>
              <a:off x="2819520" y="4760640"/>
              <a:ext cx="709560" cy="64872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18"/>
          <p:cNvSpPr/>
          <p:nvPr/>
        </p:nvSpPr>
        <p:spPr>
          <a:xfrm>
            <a:off x="350532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кат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 rot="5433000">
            <a:off x="341640" y="33894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кат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 rot="2940600">
            <a:off x="3003120" y="202932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гипотенуз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В зависимости от сторон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7"/>
          <p:cNvGrpSpPr/>
          <p:nvPr/>
        </p:nvGrpSpPr>
        <p:grpSpPr>
          <a:xfrm>
            <a:off x="685800" y="380880"/>
            <a:ext cx="3733920" cy="4038840"/>
            <a:chOff x="685800" y="380880"/>
            <a:chExt cx="3733920" cy="4038840"/>
          </a:xfrm>
        </p:grpSpPr>
        <p:sp>
          <p:nvSpPr>
            <p:cNvPr id="109" name="Line 3"/>
            <p:cNvSpPr/>
            <p:nvPr/>
          </p:nvSpPr>
          <p:spPr>
            <a:xfrm>
              <a:off x="2514600" y="380880"/>
              <a:ext cx="1905120" cy="4038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 flipH="1">
              <a:off x="685800" y="380880"/>
              <a:ext cx="1828800" cy="4038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 flipH="1">
              <a:off x="685800" y="4419720"/>
              <a:ext cx="3733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1447920" y="2057400"/>
              <a:ext cx="38088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 flipV="1">
              <a:off x="3200400" y="1981080"/>
              <a:ext cx="45720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8"/>
          <p:cNvGrpSpPr/>
          <p:nvPr/>
        </p:nvGrpSpPr>
        <p:grpSpPr>
          <a:xfrm>
            <a:off x="4876920" y="914400"/>
            <a:ext cx="3504960" cy="2819520"/>
            <a:chOff x="4876920" y="914400"/>
            <a:chExt cx="3504960" cy="2819520"/>
          </a:xfrm>
        </p:grpSpPr>
        <p:sp>
          <p:nvSpPr>
            <p:cNvPr id="115" name="Line 14"/>
            <p:cNvSpPr/>
            <p:nvPr/>
          </p:nvSpPr>
          <p:spPr>
            <a:xfrm>
              <a:off x="6553080" y="914400"/>
              <a:ext cx="1828440" cy="2514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 flipH="1">
              <a:off x="4876920" y="914400"/>
              <a:ext cx="1676160" cy="2514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 flipH="1">
              <a:off x="4876920" y="3429000"/>
              <a:ext cx="35049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 flipV="1">
              <a:off x="7086240" y="1752840"/>
              <a:ext cx="45684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662904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562360" y="1752840"/>
              <a:ext cx="45684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3809880" y="4343400"/>
            <a:ext cx="3733920" cy="2133720"/>
            <a:chOff x="3809880" y="4343400"/>
            <a:chExt cx="3733920" cy="2133720"/>
          </a:xfrm>
        </p:grpSpPr>
        <p:grpSp>
          <p:nvGrpSpPr>
            <p:cNvPr id="122" name="Group 26"/>
            <p:cNvGrpSpPr/>
            <p:nvPr/>
          </p:nvGrpSpPr>
          <p:grpSpPr>
            <a:xfrm>
              <a:off x="3809880" y="4343400"/>
              <a:ext cx="3733920" cy="1905120"/>
              <a:chOff x="3809880" y="4343400"/>
              <a:chExt cx="3733920" cy="1905120"/>
            </a:xfrm>
          </p:grpSpPr>
          <p:sp>
            <p:nvSpPr>
              <p:cNvPr id="123" name="Line 8"/>
              <p:cNvSpPr/>
              <p:nvPr/>
            </p:nvSpPr>
            <p:spPr>
              <a:xfrm>
                <a:off x="4876920" y="4343400"/>
                <a:ext cx="2666880" cy="190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0"/>
              <p:cNvSpPr/>
              <p:nvPr/>
            </p:nvSpPr>
            <p:spPr>
              <a:xfrm flipH="1">
                <a:off x="3809880" y="4343400"/>
                <a:ext cx="1067040" cy="190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1"/>
              <p:cNvSpPr/>
              <p:nvPr/>
            </p:nvSpPr>
            <p:spPr>
              <a:xfrm flipH="1">
                <a:off x="3809880" y="6248520"/>
                <a:ext cx="37339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Line 29"/>
            <p:cNvSpPr/>
            <p:nvPr/>
          </p:nvSpPr>
          <p:spPr>
            <a:xfrm>
              <a:off x="4114800" y="5105520"/>
              <a:ext cx="53352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H="1">
              <a:off x="5943240" y="4876920"/>
              <a:ext cx="304920" cy="533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5257800" y="601992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H="1">
              <a:off x="6095520" y="4952880"/>
              <a:ext cx="30492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5410080" y="601992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5562720" y="601992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Высота треугольник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3581280" y="4267080"/>
            <a:ext cx="60984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621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772400" y="4952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962520" y="380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358128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Площад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Площадь прямоугольник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95280" y="620640"/>
            <a:ext cx="8424720" cy="75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6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иагональ параллелограм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вная 13 см┴ 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орон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раллелограмм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вной 12 с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йдите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= 12*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56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276720" y="1700280"/>
            <a:ext cx="5486400" cy="4495680"/>
          </a:xfrm>
          <a:prstGeom prst="parallelogram">
            <a:avLst>
              <a:gd name="adj" fmla="val 61657"/>
            </a:avLst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12000" y="1773360"/>
            <a:ext cx="0" cy="44956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019920" y="1700280"/>
            <a:ext cx="457200" cy="457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508720" y="5732640"/>
            <a:ext cx="457200" cy="457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932360" y="35290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4876920" y="589104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7308720" y="141300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340000" y="5424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012000" y="56610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003640" y="112536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25"/>
          <p:cNvSpPr/>
          <p:nvPr/>
        </p:nvSpPr>
        <p:spPr>
          <a:xfrm>
            <a:off x="3851280" y="508464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араллелограмм 13"/>
          <p:cNvSpPr/>
          <p:nvPr/>
        </p:nvSpPr>
        <p:spPr>
          <a:xfrm>
            <a:off x="3132000" y="4221000"/>
            <a:ext cx="503280" cy="14472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191120" y="51814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828800" y="25146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590920" y="457200"/>
            <a:ext cx="3962160" cy="5029200"/>
          </a:xfrm>
          <a:prstGeom prst="rect">
            <a:avLst/>
          </a:prstGeom>
          <a:solidFill>
            <a:srgbClr val="33cc33"/>
          </a:solidFill>
          <a:ln w="63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cc33"/>
                </a:solidFill>
                <a:latin typeface="Comic Sans MS"/>
              </a:rPr>
              <a:t>S=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733920" y="137160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cc33"/>
                </a:solidFill>
                <a:latin typeface="Comic Sans MS"/>
              </a:rPr>
              <a:t>a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Площадь квадрат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219320" y="21337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90920" y="1066680"/>
            <a:ext cx="4572000" cy="4419720"/>
          </a:xfrm>
          <a:prstGeom prst="rect">
            <a:avLst/>
          </a:prstGeom>
          <a:solidFill>
            <a:srgbClr val="33cc33"/>
          </a:solidFill>
          <a:ln w="63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cc33"/>
                </a:solidFill>
                <a:latin typeface="Comic Sans MS"/>
              </a:rPr>
              <a:t>S=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572000" y="1600200"/>
            <a:ext cx="220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200400" y="205740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cc33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Площадь треугольник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33cc33"/>
                </a:solidFill>
                <a:latin typeface="Comic Sans MS"/>
              </a:rPr>
              <a:t>Площадь прямоугольного треугольник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819520" y="609480"/>
            <a:ext cx="4114080" cy="4799880"/>
            <a:chOff x="2819520" y="609480"/>
            <a:chExt cx="4114080" cy="4799880"/>
          </a:xfrm>
        </p:grpSpPr>
        <p:grpSp>
          <p:nvGrpSpPr>
            <p:cNvPr id="157" name="Group 3"/>
            <p:cNvGrpSpPr/>
            <p:nvPr/>
          </p:nvGrpSpPr>
          <p:grpSpPr>
            <a:xfrm>
              <a:off x="2819520" y="609480"/>
              <a:ext cx="4114080" cy="4799880"/>
              <a:chOff x="2819520" y="609480"/>
              <a:chExt cx="4114080" cy="4799880"/>
            </a:xfrm>
          </p:grpSpPr>
          <p:sp>
            <p:nvSpPr>
              <p:cNvPr id="158" name="Line 4"/>
              <p:cNvSpPr/>
              <p:nvPr/>
            </p:nvSpPr>
            <p:spPr>
              <a:xfrm>
                <a:off x="2819520" y="609480"/>
                <a:ext cx="411408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5"/>
              <p:cNvSpPr/>
              <p:nvPr/>
            </p:nvSpPr>
            <p:spPr>
              <a:xfrm>
                <a:off x="2819520" y="609480"/>
                <a:ext cx="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6"/>
              <p:cNvSpPr/>
              <p:nvPr/>
            </p:nvSpPr>
            <p:spPr>
              <a:xfrm flipH="1">
                <a:off x="2819520" y="5409360"/>
                <a:ext cx="4114080" cy="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7"/>
            <p:cNvSpPr/>
            <p:nvPr/>
          </p:nvSpPr>
          <p:spPr>
            <a:xfrm>
              <a:off x="2819520" y="4760640"/>
              <a:ext cx="709560" cy="64872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8"/>
          <p:cNvSpPr/>
          <p:nvPr/>
        </p:nvSpPr>
        <p:spPr>
          <a:xfrm>
            <a:off x="4191120" y="51814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828800" y="25146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2819520" y="609480"/>
            <a:ext cx="4114800" cy="4800600"/>
            <a:chOff x="2819520" y="609480"/>
            <a:chExt cx="4114800" cy="4800600"/>
          </a:xfrm>
        </p:grpSpPr>
        <p:sp>
          <p:nvSpPr>
            <p:cNvPr id="165" name="Line 12"/>
            <p:cNvSpPr/>
            <p:nvPr/>
          </p:nvSpPr>
          <p:spPr>
            <a:xfrm>
              <a:off x="2819520" y="609480"/>
              <a:ext cx="4114800" cy="0"/>
            </a:xfrm>
            <a:prstGeom prst="line">
              <a:avLst/>
            </a:prstGeom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6934320" y="609480"/>
              <a:ext cx="0" cy="4800600"/>
            </a:xfrm>
            <a:prstGeom prst="line">
              <a:avLst/>
            </a:prstGeom>
            <a:ln w="63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33cc33"/>
                </a:solidFill>
                <a:latin typeface="Comic Sans MS"/>
              </a:rPr>
              <a:t>Площадь произвольного  треугольника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cc33"/>
                </a:solidFill>
                <a:latin typeface="Comic Sans MS"/>
              </a:rPr>
              <a:t>S=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495680" y="3048120"/>
            <a:ext cx="22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cc33"/>
                </a:solidFill>
                <a:latin typeface="Comic Sans MS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886200" y="83808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cc33"/>
                </a:solidFill>
                <a:latin typeface="Comic Sans MS"/>
              </a:rPr>
              <a:t>a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343400" y="2666880"/>
            <a:ext cx="2209680" cy="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95280" y="404640"/>
            <a:ext cx="84247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62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орона ромба равна 6 см, а один из углов равен 150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⁰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йдите площадь ромб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        H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           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Ромб 2"/>
          <p:cNvSpPr/>
          <p:nvPr/>
        </p:nvSpPr>
        <p:spPr>
          <a:xfrm>
            <a:off x="1116000" y="2276640"/>
            <a:ext cx="1943280" cy="41050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4"/>
          <p:cNvSpPr/>
          <p:nvPr/>
        </p:nvSpPr>
        <p:spPr>
          <a:xfrm flipH="1">
            <a:off x="1115640" y="3357720"/>
            <a:ext cx="1584360" cy="9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0"/>
          <p:cNvSpPr/>
          <p:nvPr/>
        </p:nvSpPr>
        <p:spPr>
          <a:xfrm rot="19955400">
            <a:off x="2317320" y="3191040"/>
            <a:ext cx="2890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>
            <a:off x="1547640" y="3141720"/>
            <a:ext cx="14472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 flipH="1">
            <a:off x="1402920" y="4941720"/>
            <a:ext cx="14436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16"/>
          <p:cNvSpPr/>
          <p:nvPr/>
        </p:nvSpPr>
        <p:spPr>
          <a:xfrm>
            <a:off x="2556000" y="5157720"/>
            <a:ext cx="14436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18"/>
          <p:cNvSpPr/>
          <p:nvPr/>
        </p:nvSpPr>
        <p:spPr>
          <a:xfrm flipH="1">
            <a:off x="2700360" y="3429000"/>
            <a:ext cx="7128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Дуга 19"/>
          <p:cNvSpPr/>
          <p:nvPr/>
        </p:nvSpPr>
        <p:spPr>
          <a:xfrm rot="14226600">
            <a:off x="2836800" y="4105080"/>
            <a:ext cx="458640" cy="405000"/>
          </a:xfrm>
          <a:custGeom>
            <a:avLst/>
            <a:gdLst>
              <a:gd name="textAreaLeft" fmla="*/ 229320 w 458640"/>
              <a:gd name="textAreaRight" fmla="*/ 459000 w 458640"/>
              <a:gd name="textAreaTop" fmla="*/ 0 h 405000"/>
              <a:gd name="textAreaBottom" fmla="*/ 202680 h 405000"/>
            </a:gdLst>
            <a:ahLst/>
            <a:rect l="textAreaLeft" t="textAreaTop" r="textAreaRight" b="textAreaBottom"/>
            <a:pathLst>
              <a:path stroke="0" w="458787" h="404813">
                <a:moveTo>
                  <a:pt x="229394" y="0"/>
                </a:moveTo>
                <a:lnTo>
                  <a:pt x="229394" y="0"/>
                </a:lnTo>
                <a:arcTo wR="229394" hR="202407" stAng="-5400000" swAng="5400015"/>
                <a:lnTo>
                  <a:pt x="229394" y="202407"/>
                </a:lnTo>
                <a:close/>
              </a:path>
              <a:path fill="none" w="458787" h="404813">
                <a:moveTo>
                  <a:pt x="229394" y="0"/>
                </a:moveTo>
                <a:lnTo>
                  <a:pt x="229394" y="0"/>
                </a:lnTo>
                <a:arcTo wR="229394" hR="202407" stAng="-5400000" swAng="540001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193120" y="40766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3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621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772400" y="4952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62520" y="380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581280" y="4267080"/>
            <a:ext cx="60984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58128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2767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2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505320" y="5181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581280" y="4267080"/>
            <a:ext cx="60984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358128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657600" y="2438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cc33"/>
                </a:solidFill>
                <a:latin typeface="Comic Sans MS"/>
              </a:rPr>
              <a:t>S=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495680" y="3048120"/>
            <a:ext cx="22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cc33"/>
                </a:solidFill>
                <a:latin typeface="Comic Sans MS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886200" y="83808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cc33"/>
                </a:solidFill>
                <a:latin typeface="Comic Sans MS"/>
              </a:rPr>
              <a:t>a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4343400" y="2666880"/>
            <a:ext cx="2209680" cy="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268360" y="324000"/>
            <a:ext cx="4175280" cy="58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казательство</a:t>
            </a:r>
            <a:endParaRPr b="1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93" name="Object 7"/>
          <p:cNvGraphicFramePr/>
          <p:nvPr/>
        </p:nvGraphicFramePr>
        <p:xfrm>
          <a:off x="179280" y="981000"/>
          <a:ext cx="446904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446904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8"/>
          <p:cNvSpPr/>
          <p:nvPr/>
        </p:nvSpPr>
        <p:spPr>
          <a:xfrm>
            <a:off x="4284720" y="836640"/>
            <a:ext cx="4581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ём  отрезо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D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ллель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и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ллель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Получим параллелограмм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DC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Почем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2232000" y="5049720"/>
            <a:ext cx="7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1871640" y="4643280"/>
            <a:ext cx="40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906640" y="4599000"/>
            <a:ext cx="34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AC * B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1736640" y="5607000"/>
            <a:ext cx="48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    = ½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 * B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2216160" y="60069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1600200" y="1295280"/>
            <a:ext cx="1295280" cy="35053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1600200" y="1219320"/>
            <a:ext cx="6705720" cy="3581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 flipH="1">
            <a:off x="2895120" y="4800600"/>
            <a:ext cx="5410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724280" y="4800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600200" y="4267080"/>
            <a:ext cx="60948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160020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85800" y="23623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1600200" y="4800600"/>
            <a:ext cx="14479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4"/>
          <p:cNvGrpSpPr/>
          <p:nvPr/>
        </p:nvGrpSpPr>
        <p:grpSpPr>
          <a:xfrm>
            <a:off x="1066680" y="456840"/>
            <a:ext cx="7010640" cy="5715360"/>
            <a:chOff x="1066680" y="456840"/>
            <a:chExt cx="7010640" cy="5715360"/>
          </a:xfrm>
        </p:grpSpPr>
        <p:sp>
          <p:nvSpPr>
            <p:cNvPr id="210" name="Line 7"/>
            <p:cNvSpPr/>
            <p:nvPr/>
          </p:nvSpPr>
          <p:spPr>
            <a:xfrm>
              <a:off x="1066680" y="2438280"/>
              <a:ext cx="228600" cy="2743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 flipV="1">
              <a:off x="1066680" y="456840"/>
              <a:ext cx="1905120" cy="1981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2971800" y="457200"/>
              <a:ext cx="28195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5791320" y="457200"/>
              <a:ext cx="2286000" cy="281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 flipH="1">
              <a:off x="6933960" y="3276720"/>
              <a:ext cx="1143000" cy="2895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1295280" y="5181480"/>
              <a:ext cx="5639040" cy="990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Line 15"/>
          <p:cNvSpPr/>
          <p:nvPr/>
        </p:nvSpPr>
        <p:spPr>
          <a:xfrm flipV="1">
            <a:off x="1295280" y="456840"/>
            <a:ext cx="1752840" cy="4724280"/>
          </a:xfrm>
          <a:prstGeom prst="line">
            <a:avLst/>
          </a:prstGeom>
          <a:ln w="63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 flipV="1">
            <a:off x="1295280" y="456840"/>
            <a:ext cx="4496040" cy="4724280"/>
          </a:xfrm>
          <a:prstGeom prst="line">
            <a:avLst/>
          </a:prstGeom>
          <a:ln w="63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1371600" y="3276360"/>
            <a:ext cx="6781680" cy="1904760"/>
          </a:xfrm>
          <a:prstGeom prst="line">
            <a:avLst/>
          </a:prstGeom>
          <a:ln w="63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2819520" y="609480"/>
            <a:ext cx="4114080" cy="4799880"/>
            <a:chOff x="2819520" y="609480"/>
            <a:chExt cx="4114080" cy="4799880"/>
          </a:xfrm>
        </p:grpSpPr>
        <p:grpSp>
          <p:nvGrpSpPr>
            <p:cNvPr id="220" name="Group 3"/>
            <p:cNvGrpSpPr/>
            <p:nvPr/>
          </p:nvGrpSpPr>
          <p:grpSpPr>
            <a:xfrm>
              <a:off x="2819520" y="609480"/>
              <a:ext cx="4114080" cy="4799880"/>
              <a:chOff x="2819520" y="609480"/>
              <a:chExt cx="4114080" cy="4799880"/>
            </a:xfrm>
          </p:grpSpPr>
          <p:sp>
            <p:nvSpPr>
              <p:cNvPr id="221" name="Line 4"/>
              <p:cNvSpPr/>
              <p:nvPr/>
            </p:nvSpPr>
            <p:spPr>
              <a:xfrm>
                <a:off x="2819520" y="609480"/>
                <a:ext cx="411408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5"/>
              <p:cNvSpPr/>
              <p:nvPr/>
            </p:nvSpPr>
            <p:spPr>
              <a:xfrm>
                <a:off x="2819520" y="609480"/>
                <a:ext cx="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6"/>
              <p:cNvSpPr/>
              <p:nvPr/>
            </p:nvSpPr>
            <p:spPr>
              <a:xfrm flipH="1">
                <a:off x="2819520" y="5409360"/>
                <a:ext cx="4114080" cy="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7"/>
            <p:cNvSpPr/>
            <p:nvPr/>
          </p:nvSpPr>
          <p:spPr>
            <a:xfrm>
              <a:off x="2819520" y="4760640"/>
              <a:ext cx="709560" cy="64872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8"/>
          <p:cNvSpPr/>
          <p:nvPr/>
        </p:nvSpPr>
        <p:spPr>
          <a:xfrm>
            <a:off x="3276720" y="52578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21593400">
            <a:off x="4724280" y="68544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609480" y="25909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2819520" y="609480"/>
            <a:ext cx="4114080" cy="4799880"/>
            <a:chOff x="2819520" y="609480"/>
            <a:chExt cx="4114080" cy="4799880"/>
          </a:xfrm>
        </p:grpSpPr>
        <p:grpSp>
          <p:nvGrpSpPr>
            <p:cNvPr id="229" name="Group 3"/>
            <p:cNvGrpSpPr/>
            <p:nvPr/>
          </p:nvGrpSpPr>
          <p:grpSpPr>
            <a:xfrm>
              <a:off x="2819520" y="609480"/>
              <a:ext cx="4114080" cy="4799880"/>
              <a:chOff x="2819520" y="609480"/>
              <a:chExt cx="4114080" cy="4799880"/>
            </a:xfrm>
          </p:grpSpPr>
          <p:sp>
            <p:nvSpPr>
              <p:cNvPr id="230" name="Line 4"/>
              <p:cNvSpPr/>
              <p:nvPr/>
            </p:nvSpPr>
            <p:spPr>
              <a:xfrm>
                <a:off x="2819520" y="609480"/>
                <a:ext cx="411408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5"/>
              <p:cNvSpPr/>
              <p:nvPr/>
            </p:nvSpPr>
            <p:spPr>
              <a:xfrm>
                <a:off x="2819520" y="609480"/>
                <a:ext cx="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6"/>
              <p:cNvSpPr/>
              <p:nvPr/>
            </p:nvSpPr>
            <p:spPr>
              <a:xfrm flipH="1">
                <a:off x="2819520" y="5409360"/>
                <a:ext cx="4114080" cy="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Rectangle 7"/>
            <p:cNvSpPr/>
            <p:nvPr/>
          </p:nvSpPr>
          <p:spPr>
            <a:xfrm>
              <a:off x="2819520" y="4760640"/>
              <a:ext cx="709560" cy="64872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3505320" y="52578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752480" y="23623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2"/>
          <p:cNvGrpSpPr/>
          <p:nvPr/>
        </p:nvGrpSpPr>
        <p:grpSpPr>
          <a:xfrm>
            <a:off x="3884760" y="681480"/>
            <a:ext cx="5259240" cy="1566000"/>
            <a:chOff x="3884760" y="681480"/>
            <a:chExt cx="5259240" cy="1566000"/>
          </a:xfrm>
        </p:grpSpPr>
        <p:sp>
          <p:nvSpPr>
            <p:cNvPr id="237" name="Text Box 9"/>
            <p:cNvSpPr/>
            <p:nvPr/>
          </p:nvSpPr>
          <p:spPr>
            <a:xfrm rot="21593400">
              <a:off x="3886200" y="685800"/>
              <a:ext cx="4724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S=18</a:t>
              </a:r>
              <a:r>
                <a:rPr b="0" lang="ru-RU" sz="9600" spc="-1" strike="noStrike">
                  <a:solidFill>
                    <a:srgbClr val="000000"/>
                  </a:solidFill>
                  <a:latin typeface="Comic Sans MS"/>
                </a:rPr>
                <a:t>см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8077320" y="68580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581280" y="4267080"/>
            <a:ext cx="60984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7621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772400" y="4952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962520" y="380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358128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581280" y="243828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3 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819520" y="47242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5 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 rot="21593400">
            <a:off x="5867280" y="380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581280" y="4267080"/>
            <a:ext cx="60984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5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621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7772400" y="4952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2362320" y="5335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358128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3886200" y="23623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19520" y="47242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6 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"/>
          <p:cNvGrpSpPr/>
          <p:nvPr/>
        </p:nvGrpSpPr>
        <p:grpSpPr>
          <a:xfrm>
            <a:off x="4037040" y="376560"/>
            <a:ext cx="5259240" cy="1566000"/>
            <a:chOff x="4037040" y="376560"/>
            <a:chExt cx="5259240" cy="1566000"/>
          </a:xfrm>
        </p:grpSpPr>
        <p:sp>
          <p:nvSpPr>
            <p:cNvPr id="261" name="Text Box 13"/>
            <p:cNvSpPr/>
            <p:nvPr/>
          </p:nvSpPr>
          <p:spPr>
            <a:xfrm rot="21593400">
              <a:off x="4038480" y="380880"/>
              <a:ext cx="4724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S=</a:t>
              </a:r>
              <a:r>
                <a:rPr b="0" lang="ru-RU" sz="9600" spc="-1" strike="noStrike">
                  <a:solidFill>
                    <a:srgbClr val="000000"/>
                  </a:solidFill>
                  <a:latin typeface="Comic Sans MS"/>
                </a:rPr>
                <a:t>24см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8229600" y="3808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174320" y="1125360"/>
            <a:ext cx="65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∟В =30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⁰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АН=6:2=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838880" y="3141720"/>
            <a:ext cx="51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  =3*6 =18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м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Ромб 3"/>
          <p:cNvSpPr/>
          <p:nvPr/>
        </p:nvSpPr>
        <p:spPr>
          <a:xfrm>
            <a:off x="1979640" y="3789360"/>
            <a:ext cx="216000" cy="43164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581280" y="4267080"/>
            <a:ext cx="609840" cy="5335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"/>
          <p:cNvSpPr/>
          <p:nvPr/>
        </p:nvSpPr>
        <p:spPr>
          <a:xfrm flipH="1">
            <a:off x="1066320" y="1143000"/>
            <a:ext cx="251460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581280" y="1143000"/>
            <a:ext cx="4724640" cy="36576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"/>
          <p:cNvSpPr/>
          <p:nvPr/>
        </p:nvSpPr>
        <p:spPr>
          <a:xfrm flipH="1">
            <a:off x="1066320" y="4800600"/>
            <a:ext cx="7239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762120" y="5029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772400" y="4952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362320" y="5335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Comic Sans MS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3581280" y="1219320"/>
            <a:ext cx="0" cy="3581280"/>
          </a:xfrm>
          <a:prstGeom prst="line">
            <a:avLst/>
          </a:prstGeom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657600" y="23623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3с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581280" y="480060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3"/>
          <p:cNvGrpSpPr/>
          <p:nvPr/>
        </p:nvGrpSpPr>
        <p:grpSpPr>
          <a:xfrm>
            <a:off x="4037040" y="376560"/>
            <a:ext cx="5259240" cy="1566000"/>
            <a:chOff x="4037040" y="376560"/>
            <a:chExt cx="5259240" cy="1566000"/>
          </a:xfrm>
        </p:grpSpPr>
        <p:sp>
          <p:nvSpPr>
            <p:cNvPr id="274" name="Text Box 14"/>
            <p:cNvSpPr/>
            <p:nvPr/>
          </p:nvSpPr>
          <p:spPr>
            <a:xfrm rot="21593400">
              <a:off x="4038480" y="380880"/>
              <a:ext cx="4724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S=</a:t>
              </a:r>
              <a:r>
                <a:rPr b="0" lang="ru-RU" sz="9600" spc="-1" strike="noStrike">
                  <a:solidFill>
                    <a:srgbClr val="000000"/>
                  </a:solidFill>
                  <a:latin typeface="Comic Sans MS"/>
                </a:rPr>
                <a:t>36см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5"/>
            <p:cNvSpPr/>
            <p:nvPr/>
          </p:nvSpPr>
          <p:spPr>
            <a:xfrm>
              <a:off x="8229600" y="3808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cc33"/>
                </a:solidFill>
                <a:latin typeface="Comic Sans MS"/>
              </a:rPr>
              <a:t>№</a:t>
            </a:r>
            <a:r>
              <a:rPr b="1" lang="ru-RU" sz="6500" spc="-1" strike="noStrike">
                <a:solidFill>
                  <a:srgbClr val="33cc33"/>
                </a:solidFill>
                <a:latin typeface="Comic Sans MS"/>
              </a:rPr>
              <a:t>1</a:t>
            </a:r>
            <a:br>
              <a:rPr sz="6500"/>
            </a:b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Составить выражение для вычисления площади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"/>
          <p:cNvSpPr/>
          <p:nvPr/>
        </p:nvSpPr>
        <p:spPr>
          <a:xfrm>
            <a:off x="1295280" y="838080"/>
            <a:ext cx="5486400" cy="4496040"/>
          </a:xfrm>
          <a:prstGeom prst="parallelogram">
            <a:avLst>
              <a:gd name="adj" fmla="val 61652"/>
            </a:avLst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4038480" y="838080"/>
            <a:ext cx="0" cy="449604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038480" y="838080"/>
            <a:ext cx="457200" cy="457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24000" y="40464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981080" y="51814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971800" y="2666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2895480" y="50292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5334120" y="6094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4"/>
          <p:cNvSpPr/>
          <p:nvPr/>
        </p:nvSpPr>
        <p:spPr>
          <a:xfrm rot="21593400">
            <a:off x="6172200" y="3123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33520" y="49528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038480" y="49528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7010280" y="1522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2743200" y="2286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380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б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2286000" y="51814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019920" y="4952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 rot="21593400">
            <a:off x="6553080" y="1752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1447920" y="1447920"/>
            <a:ext cx="3962160" cy="3886200"/>
          </a:xfrm>
          <a:prstGeom prst="rect">
            <a:avLst/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3352680" y="11430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3352680" y="50292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1142640" y="33526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5410080" y="1523880"/>
            <a:ext cx="2286000" cy="3810240"/>
          </a:xfrm>
          <a:prstGeom prst="rtTriangle">
            <a:avLst/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4"/>
          <p:cNvSpPr/>
          <p:nvPr/>
        </p:nvSpPr>
        <p:spPr>
          <a:xfrm flipH="1">
            <a:off x="5105160" y="342900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952880" y="4876920"/>
            <a:ext cx="457200" cy="457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533520" y="49528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1447920" y="1522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5486400" y="2286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7772400" y="48006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cc33"/>
                </a:solidFill>
                <a:latin typeface="Comic Sans MS"/>
              </a:rPr>
              <a:t>№</a:t>
            </a:r>
            <a:r>
              <a:rPr b="1" lang="ru-RU" sz="6500" spc="-1" strike="noStrike">
                <a:solidFill>
                  <a:srgbClr val="33cc33"/>
                </a:solidFill>
                <a:latin typeface="Comic Sans MS"/>
              </a:rPr>
              <a:t>2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дин из катетов прямоугольного треугольника в 4 раза больше другого. Найти их, если площадь треугольника равна 72см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2819520" y="609480"/>
            <a:ext cx="4114080" cy="4799880"/>
            <a:chOff x="2819520" y="609480"/>
            <a:chExt cx="4114080" cy="4799880"/>
          </a:xfrm>
        </p:grpSpPr>
        <p:grpSp>
          <p:nvGrpSpPr>
            <p:cNvPr id="309" name="Group 3"/>
            <p:cNvGrpSpPr/>
            <p:nvPr/>
          </p:nvGrpSpPr>
          <p:grpSpPr>
            <a:xfrm>
              <a:off x="2819520" y="609480"/>
              <a:ext cx="4114080" cy="4799880"/>
              <a:chOff x="2819520" y="609480"/>
              <a:chExt cx="4114080" cy="4799880"/>
            </a:xfrm>
          </p:grpSpPr>
          <p:sp>
            <p:nvSpPr>
              <p:cNvPr id="310" name="Line 4"/>
              <p:cNvSpPr/>
              <p:nvPr/>
            </p:nvSpPr>
            <p:spPr>
              <a:xfrm>
                <a:off x="2819520" y="609480"/>
                <a:ext cx="411408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5"/>
              <p:cNvSpPr/>
              <p:nvPr/>
            </p:nvSpPr>
            <p:spPr>
              <a:xfrm>
                <a:off x="2819520" y="609480"/>
                <a:ext cx="0" cy="479988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6"/>
              <p:cNvSpPr/>
              <p:nvPr/>
            </p:nvSpPr>
            <p:spPr>
              <a:xfrm flipH="1">
                <a:off x="2819520" y="5409360"/>
                <a:ext cx="4114080" cy="0"/>
              </a:xfrm>
              <a:prstGeom prst="line">
                <a:avLst/>
              </a:prstGeom>
              <a:ln w="63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Rectangle 7"/>
            <p:cNvSpPr/>
            <p:nvPr/>
          </p:nvSpPr>
          <p:spPr>
            <a:xfrm>
              <a:off x="2819520" y="4760640"/>
              <a:ext cx="709560" cy="64872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Text Box 8"/>
          <p:cNvSpPr/>
          <p:nvPr/>
        </p:nvSpPr>
        <p:spPr>
          <a:xfrm>
            <a:off x="4114800" y="54244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09480" y="25909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12"/>
          <p:cNvGrpSpPr/>
          <p:nvPr/>
        </p:nvGrpSpPr>
        <p:grpSpPr>
          <a:xfrm>
            <a:off x="3884760" y="685800"/>
            <a:ext cx="5411520" cy="1638360"/>
            <a:chOff x="3884760" y="685800"/>
            <a:chExt cx="5411520" cy="1638360"/>
          </a:xfrm>
        </p:grpSpPr>
        <p:sp>
          <p:nvSpPr>
            <p:cNvPr id="317" name="Text Box 9"/>
            <p:cNvSpPr/>
            <p:nvPr/>
          </p:nvSpPr>
          <p:spPr>
            <a:xfrm rot="21593400">
              <a:off x="3886200" y="76176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S=72</a:t>
              </a:r>
              <a:r>
                <a:rPr b="0" lang="ru-RU" sz="9600" spc="-1" strike="noStrike">
                  <a:solidFill>
                    <a:srgbClr val="000000"/>
                  </a:solidFill>
                  <a:latin typeface="Comic Sans MS"/>
                </a:rPr>
                <a:t>см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1"/>
            <p:cNvSpPr/>
            <p:nvPr/>
          </p:nvSpPr>
          <p:spPr>
            <a:xfrm>
              <a:off x="8077320" y="685800"/>
              <a:ext cx="121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3cc33"/>
                </a:solidFill>
                <a:latin typeface="Comic Sans MS"/>
              </a:rPr>
              <a:t>№</a:t>
            </a:r>
            <a:r>
              <a:rPr b="1" lang="ru-RU" sz="6500" spc="-1" strike="noStrike">
                <a:solidFill>
                  <a:srgbClr val="33cc33"/>
                </a:solidFill>
                <a:latin typeface="Comic Sans MS"/>
              </a:rPr>
              <a:t>3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447920" y="1828800"/>
            <a:ext cx="6705360" cy="40384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5"/>
          <p:cNvSpPr/>
          <p:nvPr/>
        </p:nvSpPr>
        <p:spPr>
          <a:xfrm>
            <a:off x="1447920" y="3886200"/>
            <a:ext cx="6705360" cy="0"/>
          </a:xfrm>
          <a:prstGeom prst="line">
            <a:avLst/>
          </a:prstGeom>
          <a:ln w="63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4800600" y="1828800"/>
            <a:ext cx="0" cy="4038480"/>
          </a:xfrm>
          <a:prstGeom prst="line">
            <a:avLst/>
          </a:prstGeom>
          <a:ln w="63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1447920" y="1828800"/>
            <a:ext cx="6705360" cy="4038480"/>
          </a:xfrm>
          <a:prstGeom prst="line">
            <a:avLst/>
          </a:prstGeom>
          <a:ln w="63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"/>
          <p:cNvSpPr/>
          <p:nvPr/>
        </p:nvSpPr>
        <p:spPr>
          <a:xfrm flipV="1">
            <a:off x="1447920" y="1828800"/>
            <a:ext cx="6705360" cy="4038480"/>
          </a:xfrm>
          <a:prstGeom prst="line">
            <a:avLst/>
          </a:prstGeom>
          <a:ln w="63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80880" y="51055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8001000" y="49528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724280" y="2362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457200" y="6858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380880" y="3124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1447920" y="1828800"/>
            <a:ext cx="3352680" cy="2057400"/>
          </a:xfrm>
          <a:prstGeom prst="rtTriangle">
            <a:avLst/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15"/>
          <p:cNvSpPr/>
          <p:nvPr/>
        </p:nvSpPr>
        <p:spPr>
          <a:xfrm flipV="1">
            <a:off x="1447920" y="3885480"/>
            <a:ext cx="3276360" cy="1981080"/>
          </a:xfrm>
          <a:prstGeom prst="rtTriangle">
            <a:avLst/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18"/>
          <p:cNvGrpSpPr/>
          <p:nvPr/>
        </p:nvGrpSpPr>
        <p:grpSpPr>
          <a:xfrm>
            <a:off x="4341960" y="223920"/>
            <a:ext cx="4652640" cy="1566000"/>
            <a:chOff x="4341960" y="223920"/>
            <a:chExt cx="4652640" cy="1566000"/>
          </a:xfrm>
        </p:grpSpPr>
        <p:sp>
          <p:nvSpPr>
            <p:cNvPr id="333" name="Text Box 16"/>
            <p:cNvSpPr/>
            <p:nvPr/>
          </p:nvSpPr>
          <p:spPr>
            <a:xfrm rot="21593400">
              <a:off x="4343400" y="228240"/>
              <a:ext cx="4649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S=12</a:t>
              </a:r>
              <a:r>
                <a:rPr b="0" lang="ru-RU" sz="9600" spc="-1" strike="noStrike">
                  <a:solidFill>
                    <a:srgbClr val="000000"/>
                  </a:solidFill>
                  <a:latin typeface="Comic Sans MS"/>
                </a:rPr>
                <a:t>см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8229600" y="304920"/>
              <a:ext cx="47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21"/>
          <p:cNvGrpSpPr/>
          <p:nvPr/>
        </p:nvGrpSpPr>
        <p:grpSpPr>
          <a:xfrm>
            <a:off x="1523880" y="3809880"/>
            <a:ext cx="6629400" cy="2057400"/>
            <a:chOff x="1523880" y="3809880"/>
            <a:chExt cx="6629400" cy="2057400"/>
          </a:xfrm>
        </p:grpSpPr>
        <p:sp>
          <p:nvSpPr>
            <p:cNvPr id="336" name="AutoShape 19"/>
            <p:cNvSpPr/>
            <p:nvPr/>
          </p:nvSpPr>
          <p:spPr>
            <a:xfrm flipV="1" rot="10800000">
              <a:off x="1523880" y="3885120"/>
              <a:ext cx="3276720" cy="1981080"/>
            </a:xfrm>
            <a:prstGeom prst="rtTriangle">
              <a:avLst/>
            </a:prstGeom>
            <a:solidFill>
              <a:srgbClr val="00990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20"/>
            <p:cNvSpPr/>
            <p:nvPr/>
          </p:nvSpPr>
          <p:spPr>
            <a:xfrm>
              <a:off x="4800600" y="3809880"/>
              <a:ext cx="3352680" cy="2057400"/>
            </a:xfrm>
            <a:prstGeom prst="rtTriangle">
              <a:avLst/>
            </a:prstGeom>
            <a:solidFill>
              <a:srgbClr val="00990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179280" y="476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Найти площадь прямоугольного треугольника,    если его катеты равны 4 см и 11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468360" y="177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 Пусть а –основание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 –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сота,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– площадь треугольника.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Заполнить таблиц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6"/>
          <p:cNvGraphicFramePr/>
          <p:nvPr/>
        </p:nvGraphicFramePr>
        <p:xfrm>
          <a:off x="2268360" y="3191040"/>
          <a:ext cx="6875640" cy="38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191040"/>
                    <a:ext cx="687564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468360" y="333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6633"/>
                </a:solidFill>
                <a:latin typeface="Impact"/>
              </a:rPr>
              <a:t>Проверь решение задач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1476360" y="1628640"/>
          <a:ext cx="6048360" cy="334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0483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77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8" dur="770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198000" y="1773360"/>
            <a:ext cx="863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Comic Sans MS"/>
              </a:rPr>
              <a:t>Домашнее зада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Comic Sans MS"/>
              </a:rPr>
              <a:t>П.53,прочитать,выучит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Comic Sans MS"/>
              </a:rPr>
              <a:t>теорему и следств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cc33"/>
                </a:solidFill>
                <a:latin typeface="Comic Sans MS"/>
              </a:rPr>
              <a:t>№</a:t>
            </a:r>
            <a:r>
              <a:rPr b="0" lang="ru-RU" sz="5400" spc="-1" strike="noStrike">
                <a:solidFill>
                  <a:srgbClr val="33cc33"/>
                </a:solidFill>
                <a:latin typeface="Comic Sans MS"/>
              </a:rPr>
              <a:t>468(а, в), 47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000000"/>
                </a:solidFill>
                <a:latin typeface="Comic Sans MS"/>
              </a:rPr>
              <a:t>Площадь треугольника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304920" y="380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295280" y="4724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 rot="21593400">
            <a:off x="4648320" y="487656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=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"/>
          <p:cNvSpPr/>
          <p:nvPr/>
        </p:nvSpPr>
        <p:spPr>
          <a:xfrm flipH="1">
            <a:off x="5105160" y="342900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380880" y="1752480"/>
            <a:ext cx="4343400" cy="2743200"/>
          </a:xfrm>
          <a:prstGeom prst="parallelogram">
            <a:avLst>
              <a:gd name="adj" fmla="val 78976"/>
            </a:avLst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7"/>
          <p:cNvSpPr/>
          <p:nvPr/>
        </p:nvSpPr>
        <p:spPr>
          <a:xfrm rot="7711800">
            <a:off x="3583080" y="2286360"/>
            <a:ext cx="3497400" cy="4397400"/>
          </a:xfrm>
          <a:prstGeom prst="rtTriangle">
            <a:avLst/>
          </a:prstGeom>
          <a:solidFill>
            <a:srgbClr val="0099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1218960" y="30481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 flipH="1">
            <a:off x="1371240" y="2895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 flipH="1">
            <a:off x="3276360" y="30481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H="1">
            <a:off x="3200040" y="32004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>
            <a:off x="2514600" y="1752480"/>
            <a:ext cx="0" cy="2743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2209680" y="4114800"/>
            <a:ext cx="30492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2514600" y="1752480"/>
            <a:ext cx="30492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3429000" y="15238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1676520" y="426708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4"/>
          <p:cNvSpPr/>
          <p:nvPr/>
        </p:nvSpPr>
        <p:spPr>
          <a:xfrm rot="2124000">
            <a:off x="4495680" y="1828440"/>
            <a:ext cx="457200" cy="533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6324480" y="205740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762120" y="19810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7"/>
          <p:cNvSpPr/>
          <p:nvPr/>
        </p:nvSpPr>
        <p:spPr>
          <a:xfrm>
            <a:off x="2438280" y="213372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057400" y="609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4495680" y="6858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7772400" y="43434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1"/>
          <p:cNvSpPr/>
          <p:nvPr/>
        </p:nvSpPr>
        <p:spPr>
          <a:xfrm>
            <a:off x="2590920" y="45720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2"/>
          <p:cNvSpPr/>
          <p:nvPr/>
        </p:nvSpPr>
        <p:spPr>
          <a:xfrm>
            <a:off x="228600" y="43434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9900"/>
                </a:solidFill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539720" y="1890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Дополнительные зад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13"/>
          <p:cNvSpPr/>
          <p:nvPr/>
        </p:nvSpPr>
        <p:spPr>
          <a:xfrm>
            <a:off x="539640" y="2205000"/>
            <a:ext cx="2232000" cy="1295280"/>
          </a:xfrm>
          <a:prstGeom prst="parallelogram">
            <a:avLst>
              <a:gd name="adj" fmla="val 430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205092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1116000" y="2205000"/>
            <a:ext cx="1368360" cy="647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"/>
          <p:cNvSpPr/>
          <p:nvPr/>
        </p:nvSpPr>
        <p:spPr>
          <a:xfrm>
            <a:off x="1116000" y="2205000"/>
            <a:ext cx="0" cy="129528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826920" y="26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дачи и вопросы на повторение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297000" y="1413000"/>
            <a:ext cx="85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 Вычислить длину высот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параллелограмма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684360" y="1844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77164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05092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9"/>
          <p:cNvSpPr/>
          <p:nvPr/>
        </p:nvSpPr>
        <p:spPr>
          <a:xfrm>
            <a:off x="324000" y="350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0"/>
          <p:cNvSpPr/>
          <p:nvPr/>
        </p:nvSpPr>
        <p:spPr>
          <a:xfrm>
            <a:off x="262728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4356000" y="234936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780000" y="24098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=8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,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=7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м,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M=8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2843280" y="4941720"/>
            <a:ext cx="2448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7"/>
          <p:cNvSpPr/>
          <p:nvPr/>
        </p:nvSpPr>
        <p:spPr>
          <a:xfrm>
            <a:off x="2843280" y="4941720"/>
            <a:ext cx="3313080" cy="1295640"/>
          </a:xfrm>
          <a:prstGeom prst="parallelogram">
            <a:avLst>
              <a:gd name="adj" fmla="val 63927"/>
            </a:avLst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8"/>
          <p:cNvSpPr/>
          <p:nvPr/>
        </p:nvSpPr>
        <p:spPr>
          <a:xfrm flipV="1">
            <a:off x="5292720" y="4941360"/>
            <a:ext cx="0" cy="129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234000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241128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3492360" y="450864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5"/>
          <p:cNvSpPr/>
          <p:nvPr/>
        </p:nvSpPr>
        <p:spPr>
          <a:xfrm>
            <a:off x="3780000" y="45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5148360" y="443700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6227640" y="458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5435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206280" y="998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 Как найти площадь параллелограмм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5"/>
          <p:cNvSpPr/>
          <p:nvPr/>
        </p:nvSpPr>
        <p:spPr>
          <a:xfrm>
            <a:off x="250920" y="386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Сравнить площади параллелограм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прямоугольн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EF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500"/>
                            </p:stCondLst>
                            <p:childTnLst>
                              <p:par>
                                <p:cTn id="6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33cc33"/>
                </a:solidFill>
                <a:latin typeface="Comic Sans MS"/>
              </a:rPr>
              <a:t>Спасибо за внимание!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Це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omic Sans MS"/>
              </a:rPr>
              <a:t>1. Вывести формулу для вычисления площади треугольника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omic Sans MS"/>
              </a:rPr>
              <a:t>2. Научиться применять эту формулу при решении задач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omic Sans MS"/>
              </a:rPr>
              <a:t>3. Установить зависимость между площадью треугольника и площадями других фигур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7:11:53Z</dcterms:created>
  <dc:creator>Vika</dc:creator>
  <dc:description/>
  <dc:language>en-US</dc:language>
  <cp:lastModifiedBy>admin</cp:lastModifiedBy>
  <dcterms:modified xsi:type="dcterms:W3CDTF">2016-11-23T13:13:23Z</dcterms:modified>
  <cp:revision>90</cp:revision>
  <dc:subject/>
  <dc:title>Площадь треугольника</dc:title>
</cp:coreProperties>
</file>