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8.jpeg" ContentType="image/jpeg"/>
  <Override PartName="/ppt/media/image7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9.png" ContentType="image/png"/>
  <Override PartName="/ppt/media/image94.png" ContentType="image/png"/>
  <Override PartName="/ppt/media/image5.jpeg" ContentType="image/jpe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chimes.wav" ContentType="audio/x-wav"/>
  <Override PartName="/ppt/media/image72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4.png" ContentType="image/png"/>
  <Override PartName="/ppt/media/image61.jpeg" ContentType="image/jpeg"/>
  <Override PartName="/ppt/media/image78.png" ContentType="image/png"/>
  <Override PartName="/ppt/media/image105.png" ContentType="image/png"/>
  <Override PartName="/ppt/media/image98.png" ContentType="image/png"/>
  <Override PartName="/ppt/media/image104.png" ContentType="image/png"/>
  <Override PartName="/ppt/media/image9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0.jpeg" ContentType="image/jpeg"/>
  <Override PartName="/ppt/media/image64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0.png" ContentType="image/png"/>
  <Override PartName="/ppt/media/image17.png" ContentType="image/png"/>
  <Override PartName="/ppt/media/image82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56.jpeg" ContentType="image/jpe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6B7-9518-49F4-9B5D-47A6634E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BCB-65AF-4D69-9ADF-D3445785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FAA-DEF0-42AC-A0FD-EF5B50AA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3EE-3FF5-4EB0-B150-FE766EC5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FB24-52C7-4395-8114-F8E50999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FB2E-13D9-429B-AC95-10AF42B6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724E-1D41-4D27-8402-177F062B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CF1F-0724-49B7-B9E8-7A72F85F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D6A0-CADA-4985-AC88-0DD10461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B3C4-EF51-4297-94EB-418DAD14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52BC-EECB-4EEF-ACC8-15CF034F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7AB-DBC6-4B33-A833-8D15C01C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AE22-C4E5-4892-9A30-A4F4B5C8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71E-98F3-4884-BAAF-E7551652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9996-B293-48D5-B48A-7884A749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3EB5-4027-4BAB-A0BB-AAFD85ED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40AB-85BF-4A8E-81BB-CA8047CD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FDC3-AC01-4313-9CC8-5D6C9555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DD9A-0B8D-4C6E-A259-A5C88DBC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EF68-93BD-4ECD-8E28-93730F23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0B44-A4D9-41C5-9B5A-B365F788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53B7-5A82-486C-9B3A-9CFCF654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48A-163D-4043-BAF9-58319BBB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EE98-FBAF-44EA-B373-801F8F92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F108-5227-4E8F-880E-400DC6B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7C5F-B5EC-49E6-BA91-3563708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F268-AEC9-4206-9AD5-38DC2AD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D49A-ED20-4012-AF57-C762E3AF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4AE1-FC02-42EE-8694-1D1405DF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97DF-F61A-4EAE-A0E0-B61C8759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275F-D711-4377-A126-2CEDBED4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C454-ADF9-492D-A79D-3095AD68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9C320-7A24-419B-B009-3181BD91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C6F-36A1-4B0A-907C-E0FB255B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8B22-6765-498D-8BD6-4E489CF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2A31-8EF6-4D4E-B143-BA758894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8F66C-27D9-4840-ABDB-5AD5325B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B17C2-BD2E-4994-BBEB-6F89795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25E6-EBBA-4E20-A2D9-4D55479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A5EC3-5E1B-47C8-9857-703ACA4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D0E96-56C7-469A-8F74-9A34C89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8E51-F2F9-4BCF-9CDF-F0B4AA72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2069-5752-44CF-B621-06CF9234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990E-FEB9-44D4-9B53-4283760B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C5D-7097-4578-9815-3DE3F2FA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0E002-B4D1-4741-BDF0-8E1F60DA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E1ED-2431-48AB-9542-FECE67DC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35AD-48CA-4B52-B17D-08F85AAD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AF436-4030-43D3-8BA7-48FE03CB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50E9-BF20-4153-9B20-7643671B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483F-FD53-4C3F-A91A-EBE8D30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62B9-C1F1-45D8-845E-A89D709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93C16-682F-41B8-AC52-00E9CDC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C3296-AA78-4D45-ABA8-008809D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E8640-756B-4606-A84F-832B0AD4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597-4CC6-48EE-B3BB-0FB66614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423A-FC28-4904-9395-9FDEAAFF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7EE2D-C099-4F24-8556-B9CDA283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D367-75D3-4C8C-8EE1-286C6ECF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82150-8BBF-4951-82F8-896589DF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5A0E-F56E-48A0-9B33-69ADD388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ACBB-B995-48D8-ADCE-F79787AC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FD88D-D0C8-4E64-AE55-A29657AD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BE0AD-19CE-4EA2-A1C1-A43622C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CB04-A33E-4548-8E86-9FDF94E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85345-2DC2-468F-BC80-2530750A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674-EDD8-4434-9B48-A0864E5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909A-AC17-4615-A2F6-CF4E46B1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8D978-94ED-4B71-9844-D82CC6FD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9E87-071F-4C6D-AF2B-36B0CBDE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4E7BF-22EB-4235-92BA-FA617A22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8B2A8-B59E-4ADE-B690-9C102032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C606A-36C0-436C-9AF6-45EC7DC6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F83A-E019-4989-8080-5340E561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E409E-A204-4465-AC54-EABC48C3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22EE-1424-47B6-BBD9-FDAB46A8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2A0C-E8D7-4AE5-80A6-E373B71A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BC0-4288-4954-A665-0681A789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1F04-9A89-42F2-9877-C6EBA77B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B652-1DEA-4A75-9727-9A61001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F244-387A-4D45-9F1E-00992346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498D4-457D-4FCA-A121-CA17DBAF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D3802-9F83-4C35-A258-6B285359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70C-4C80-4982-AC0E-F42E36D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A0D8-BBDF-4CB7-9434-F22C17A5CA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993B-EF91-4384-B2F8-72DDC035F2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42FD-818D-4163-85A1-3DC4975BB4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0072-4DFF-4EFD-A30B-008365FEC0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06A9-39A2-4B09-857E-52E7BFD8D0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4A14-9EAA-491E-8A55-95759FF94D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3F2C-A7E3-4169-8F19-7D6FDA8082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image" Target="../media/image88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2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99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image" Target="../media/image102.png"/><Relationship Id="rId5" Type="http://schemas.openxmlformats.org/officeDocument/2006/relationships/image" Target="../media/image103.png"/><Relationship Id="rId6" Type="http://schemas.openxmlformats.org/officeDocument/2006/relationships/image" Target="../media/image104.png"/><Relationship Id="rId7" Type="http://schemas.openxmlformats.org/officeDocument/2006/relationships/image" Target="../media/image10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znaikak.ru/design/pic/visred/1237%20017.jpg" TargetMode="External"/><Relationship Id="rId3" Type="http://schemas.openxmlformats.org/officeDocument/2006/relationships/hyperlink" Target="http://www.irecommend.ru/sites/default/files/product-images/32253/t_2.jpg" TargetMode="External"/><Relationship Id="rId4" Type="http://schemas.openxmlformats.org/officeDocument/2006/relationships/hyperlink" Target="http://spetstorg.ru/upload/400/06879.jpg" TargetMode="External"/><Relationship Id="rId5" Type="http://schemas.openxmlformats.org/officeDocument/2006/relationships/hyperlink" Target="http://spetstorg.ru/upload/400/D1177.jpg" TargetMode="External"/><Relationship Id="rId6" Type="http://schemas.openxmlformats.org/officeDocument/2006/relationships/hyperlink" Target="http://ocenil.ru/photos/kastryulya-metalac-dekol-9696-sakura-35-l.jpg" TargetMode="External"/><Relationship Id="rId7" Type="http://schemas.openxmlformats.org/officeDocument/2006/relationships/hyperlink" Target="http://www.berghoff-posuda.com.ua/fotky6693/fotos/_vyrn_1951230320_enl.jpg" TargetMode="External"/><Relationship Id="rId8" Type="http://schemas.openxmlformats.org/officeDocument/2006/relationships/hyperlink" Target="http://atann.ru/upload/shop_3/2/2/9/item_2295/shop_items_catalog_image2295.jpg" TargetMode="External"/><Relationship Id="rId9" Type="http://schemas.openxmlformats.org/officeDocument/2006/relationships/hyperlink" Target="http://xvatit.com/upload/medialibrary/9c9/9c9dfc7e523e7a54410b1429f36fbe3c.jpg" TargetMode="External"/><Relationship Id="rId10" Type="http://schemas.openxmlformats.org/officeDocument/2006/relationships/hyperlink" Target="http://znaxidka.ck.ua/data/big/bg3220.jpg" TargetMode="External"/><Relationship Id="rId11" Type="http://schemas.openxmlformats.org/officeDocument/2006/relationships/hyperlink" Target="http://www.komplekt.in.ua/catalog/images/KAYALAR/polovnik_40_3.jpg" TargetMode="External"/><Relationship Id="rId12" Type="http://schemas.openxmlformats.org/officeDocument/2006/relationships/hyperlink" Target="http://img256.imageshack.us/img256/226/2010062154405.png" TargetMode="External"/><Relationship Id="rId13" Type="http://schemas.openxmlformats.org/officeDocument/2006/relationships/hyperlink" Target="http://demiart.ru/forum/uploads1/post-23430-1205854999.jpg" TargetMode="External"/><Relationship Id="rId14" Type="http://schemas.openxmlformats.org/officeDocument/2006/relationships/hyperlink" Target="http://www.wday.ru/images/docs/i/40765.jpg" TargetMode="External"/><Relationship Id="rId15" Type="http://schemas.openxmlformats.org/officeDocument/2006/relationships/hyperlink" Target="http://sunfood.com.ua/default/product_0/166/main_big.jpg" TargetMode="External"/><Relationship Id="rId16" Type="http://schemas.openxmlformats.org/officeDocument/2006/relationships/hyperlink" Target="http://www.cookinghintsfromchris.com/_files/image/L%20C%20Indiv%20cass.jpg" TargetMode="External"/><Relationship Id="rId17" Type="http://schemas.openxmlformats.org/officeDocument/2006/relationships/hyperlink" Target="http://im2-tub-ru.yandex.net/i?id=354065335-01-72&amp;n=17" TargetMode="External"/><Relationship Id="rId18" Type="http://schemas.openxmlformats.org/officeDocument/2006/relationships/hyperlink" Target="http://stilco.ucoz.ru/55.jpg" TargetMode="External"/><Relationship Id="rId19" Type="http://schemas.openxmlformats.org/officeDocument/2006/relationships/hyperlink" Target="http://cs10722.vk.com/u160982277/-14/x_0ce257e0.jpg" TargetMode="External"/><Relationship Id="rId20" Type="http://schemas.openxmlformats.org/officeDocument/2006/relationships/hyperlink" Target="http://www.posud.ru/image/cast_iron_dishes__6.jpg" TargetMode="External"/><Relationship Id="rId21" Type="http://schemas.openxmlformats.org/officeDocument/2006/relationships/hyperlink" Target="http://www.turistposuda.ru/images/little/224.jpg" TargetMode="External"/><Relationship Id="rId22" Type="http://schemas.openxmlformats.org/officeDocument/2006/relationships/hyperlink" Target="http://people2people.ru/ftp/Williams&amp;Oliver/Mario%20Batali/2%20Cup%20Essentials%20Pesto%200-48992.jpg" TargetMode="External"/><Relationship Id="rId23" Type="http://schemas.openxmlformats.org/officeDocument/2006/relationships/hyperlink" Target="http://www.comfort4u.ru/photo_tovar/big/470484.jpg" TargetMode="External"/><Relationship Id="rId24" Type="http://schemas.openxmlformats.org/officeDocument/2006/relationships/hyperlink" Target="http://artme.su/products_pictures/solonka-rybka-59-S.jpg" TargetMode="External"/><Relationship Id="rId25" Type="http://schemas.openxmlformats.org/officeDocument/2006/relationships/hyperlink" Target="http://samlib.ru/img/l/laki/dzhekpotdwa/supnica.jpg" TargetMode="External"/><Relationship Id="rId26" Type="http://schemas.openxmlformats.org/officeDocument/2006/relationships/hyperlink" Target="http://www.a-shop.ru/images/3031518.jpg" TargetMode="External"/><Relationship Id="rId27" Type="http://schemas.openxmlformats.org/officeDocument/2006/relationships/hyperlink" Target="http://www.bekker.ru/getimg/wb/2255" TargetMode="External"/><Relationship Id="rId28" Type="http://schemas.openxmlformats.org/officeDocument/2006/relationships/hyperlink" Target="http://www.boom-dom.ru/image/data/2/29/297/29772931_5593.jpg" TargetMode="External"/><Relationship Id="rId29" Type="http://schemas.openxmlformats.org/officeDocument/2006/relationships/hyperlink" Target="http://atann.ru/upload/shop_3/2/3/6/item_2366/shop_items_catalog_image2366.jpg" TargetMode="External"/><Relationship Id="rId30" Type="http://schemas.openxmlformats.org/officeDocument/2006/relationships/hyperlink" Target="http://www.ljplus.ru/img4/z/h/zh_zhitel/1117.jpg" TargetMode="External"/><Relationship Id="rId31" Type="http://schemas.openxmlformats.org/officeDocument/2006/relationships/hyperlink" Target="http://www.yaplakal.com/uploads/post-2-13158644894204.jpg" TargetMode="External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1k.by/images/site/shopsproductsimages/767/sd/8/3/2314429/iab69a5be4.jpg" TargetMode="External"/><Relationship Id="rId3" Type="http://schemas.openxmlformats.org/officeDocument/2006/relationships/hyperlink" Target="http://www.debuyer.com/images/product/051420.jpg" TargetMode="External"/><Relationship Id="rId4" Type="http://schemas.openxmlformats.org/officeDocument/2006/relationships/hyperlink" Target="http://www.peky.ru/tovary/kastruli/p_k_4,5.jpg" TargetMode="External"/><Relationship Id="rId5" Type="http://schemas.openxmlformats.org/officeDocument/2006/relationships/hyperlink" Target="http://www.posuda-suveniry.ru/pictures/5543_2.jpg" TargetMode="External"/><Relationship Id="rId6" Type="http://schemas.openxmlformats.org/officeDocument/2006/relationships/hyperlink" Target="http://www.domo-mir.ru/imageModul/chop/10000007777.jpg" TargetMode="External"/><Relationship Id="rId7" Type="http://schemas.openxmlformats.org/officeDocument/2006/relationships/hyperlink" Target="http://www.homeposuda.ru/foto1/02272.jpg" TargetMode="External"/><Relationship Id="rId8" Type="http://schemas.openxmlformats.org/officeDocument/2006/relationships/hyperlink" Target="http://www.instrumentom.ru/source/catalog/Stolyarnyy_instrument/Topor_kovanyy_IJ_ZUBR_/2808.jpg" TargetMode="External"/><Relationship Id="rId9" Type="http://schemas.openxmlformats.org/officeDocument/2006/relationships/hyperlink" Target="http://suvenir-optom.ru/imager.php/img/131/350/350/13_big_1190396785.jpg" TargetMode="External"/><Relationship Id="rId10" Type="http://schemas.openxmlformats.org/officeDocument/2006/relationships/hyperlink" Target="http://img.4pk.ru/300x10000/images/33/7249033.jpg" TargetMode="External"/><Relationship Id="rId11" Type="http://schemas.openxmlformats.org/officeDocument/2006/relationships/hyperlink" Target="http://s004.radikal.ru/i207/1004/a0/9c8db2ebf750.jpg" TargetMode="External"/><Relationship Id="rId12" Type="http://schemas.openxmlformats.org/officeDocument/2006/relationships/hyperlink" Target="http://www.vostok.ru/img/catalogue/middle/144-0010-01.jpg" TargetMode="External"/><Relationship Id="rId13" Type="http://schemas.openxmlformats.org/officeDocument/2006/relationships/hyperlink" Target="http://gourmet.boffo.ru/product_pictures/kastrjulja-s-kryshkoj-pensofal-inoxal-star-pen-6626-5-l-big-0.jpg" TargetMode="External"/><Relationship Id="rId14" Type="http://schemas.openxmlformats.org/officeDocument/2006/relationships/hyperlink" Target="http://www.galacentre.ru/Ftp/images/385JOAE.jpg" TargetMode="External"/><Relationship Id="rId15" Type="http://schemas.openxmlformats.org/officeDocument/2006/relationships/hyperlink" Target="http://posudca.ru/data/tarelki/obed/9713.jpg" TargetMode="External"/><Relationship Id="rId16" Type="http://schemas.openxmlformats.org/officeDocument/2006/relationships/hyperlink" Target="http://upload.fryazino.net/file/77428/gam9421.jpg" TargetMode="External"/><Relationship Id="rId17" Type="http://schemas.openxmlformats.org/officeDocument/2006/relationships/hyperlink" Target="http://ugabuga.ru/files/monsters/drev_mif/sahar1.jpg" TargetMode="External"/><Relationship Id="rId18" Type="http://schemas.openxmlformats.org/officeDocument/2006/relationships/hyperlink" Target="http://www.bellona.ru/imagearchive/Speisesalz.jpg" TargetMode="External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9.xml"/><Relationship Id="rId3" Type="http://schemas.openxmlformats.org/officeDocument/2006/relationships/image" Target="../media/image50.jpeg"/><Relationship Id="rId4" Type="http://schemas.openxmlformats.org/officeDocument/2006/relationships/slide" Target="slide9.xml"/><Relationship Id="rId5" Type="http://schemas.openxmlformats.org/officeDocument/2006/relationships/image" Target="../media/image51.jpeg"/><Relationship Id="rId6" Type="http://schemas.openxmlformats.org/officeDocument/2006/relationships/slide" Target="slide9.xml"/><Relationship Id="rId7" Type="http://schemas.openxmlformats.org/officeDocument/2006/relationships/image" Target="../media/image52.jpeg"/><Relationship Id="rId8" Type="http://schemas.openxmlformats.org/officeDocument/2006/relationships/slide" Target="slide8.xml"/><Relationship Id="rId9" Type="http://schemas.openxmlformats.org/officeDocument/2006/relationships/image" Target="../media/image53.jpeg"/><Relationship Id="rId10" Type="http://schemas.openxmlformats.org/officeDocument/2006/relationships/slide" Target="slide9.xml"/><Relationship Id="rId11" Type="http://schemas.openxmlformats.org/officeDocument/2006/relationships/image" Target="../media/image54.jpeg"/><Relationship Id="rId12" Type="http://schemas.openxmlformats.org/officeDocument/2006/relationships/slide" Target="slide9.xml"/><Relationship Id="rId13" Type="http://schemas.openxmlformats.org/officeDocument/2006/relationships/image" Target="../media/image55.jpeg"/><Relationship Id="rId14" Type="http://schemas.openxmlformats.org/officeDocument/2006/relationships/slide" Target="slide9.xml"/><Relationship Id="rId15" Type="http://schemas.openxmlformats.org/officeDocument/2006/relationships/image" Target="../media/image56.jpeg"/><Relationship Id="rId16" Type="http://schemas.openxmlformats.org/officeDocument/2006/relationships/slide" Target="slide8.xml"/><Relationship Id="rId17" Type="http://schemas.openxmlformats.org/officeDocument/2006/relationships/image" Target="../media/image57.jpeg"/><Relationship Id="rId18" Type="http://schemas.openxmlformats.org/officeDocument/2006/relationships/slide" Target="slide9.xml"/><Relationship Id="rId19" Type="http://schemas.openxmlformats.org/officeDocument/2006/relationships/image" Target="../media/image58.jpeg"/><Relationship Id="rId20" Type="http://schemas.openxmlformats.org/officeDocument/2006/relationships/slide" Target="slide9.xml"/><Relationship Id="rId21" Type="http://schemas.openxmlformats.org/officeDocument/2006/relationships/image" Target="../media/image59.jpeg"/><Relationship Id="rId22" Type="http://schemas.openxmlformats.org/officeDocument/2006/relationships/slide" Target="slide9.xml"/><Relationship Id="rId23" Type="http://schemas.openxmlformats.org/officeDocument/2006/relationships/image" Target="../media/image60.jpeg"/><Relationship Id="rId24" Type="http://schemas.openxmlformats.org/officeDocument/2006/relationships/slide" Target="slide8.xml"/><Relationship Id="rId25" Type="http://schemas.openxmlformats.org/officeDocument/2006/relationships/image" Target="../media/image61.jpeg"/><Relationship Id="rId26" Type="http://schemas.openxmlformats.org/officeDocument/2006/relationships/slide" Target="slide10.xml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71840" y="2571480"/>
            <a:ext cx="545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Bookman Old Style"/>
                <a:ea typeface="Times New Roman"/>
              </a:rPr>
              <a:t>ПОСУДА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866920" y="5516640"/>
            <a:ext cx="28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бунова О.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7" descr="http://www.playcast.ru/uploads/2015/06/30/14164827.png"/>
          <p:cNvPicPr/>
          <p:nvPr/>
        </p:nvPicPr>
        <p:blipFill>
          <a:blip r:embed="rId2"/>
          <a:stretch/>
        </p:blipFill>
        <p:spPr>
          <a:xfrm>
            <a:off x="-4680" y="3284640"/>
            <a:ext cx="4386240" cy="3560760"/>
          </a:xfrm>
          <a:prstGeom prst="rect">
            <a:avLst/>
          </a:prstGeom>
          <a:ln w="0">
            <a:noFill/>
          </a:ln>
        </p:spPr>
      </p:pic>
      <p:sp>
        <p:nvSpPr>
          <p:cNvPr id="322" name="Заголовок 1"/>
          <p:cNvSpPr/>
          <p:nvPr/>
        </p:nvSpPr>
        <p:spPr>
          <a:xfrm>
            <a:off x="368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ДЕТСКИЙ САД КОМБИНИРОВАННОГО ВИДА «РЯБИН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ьётся или не бьётся?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7" name="Picture 4" descr="C:\Users\Best\Desktop\посуда\souptureen_1924_thumb.jpg"/>
          <p:cNvPicPr/>
          <p:nvPr/>
        </p:nvPicPr>
        <p:blipFill>
          <a:blip r:embed="rId2"/>
          <a:stretch/>
        </p:blipFill>
        <p:spPr>
          <a:xfrm>
            <a:off x="309600" y="1192320"/>
            <a:ext cx="2809800" cy="1531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Users\Best\Desktop\посуда\55.jpg"/>
          <p:cNvPicPr/>
          <p:nvPr/>
        </p:nvPicPr>
        <p:blipFill>
          <a:blip r:embed="rId3"/>
          <a:stretch/>
        </p:blipFill>
        <p:spPr>
          <a:xfrm>
            <a:off x="3436920" y="5064120"/>
            <a:ext cx="1506600" cy="1504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C:\Users\Best\Desktop\посуда\f=550,0,ffffff_i.jpg"/>
          <p:cNvPicPr/>
          <p:nvPr/>
        </p:nvPicPr>
        <p:blipFill>
          <a:blip r:embed="rId4"/>
          <a:stretch/>
        </p:blipFill>
        <p:spPr>
          <a:xfrm>
            <a:off x="7126200" y="1192320"/>
            <a:ext cx="1414440" cy="1949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C:\Users\Best\Desktop\посуда\385JOAE.jpg"/>
          <p:cNvPicPr/>
          <p:nvPr/>
        </p:nvPicPr>
        <p:blipFill>
          <a:blip r:embed="rId5"/>
          <a:srcRect l="3896" t="6804" r="0" b="0"/>
          <a:stretch/>
        </p:blipFill>
        <p:spPr>
          <a:xfrm>
            <a:off x="3971880" y="1297080"/>
            <a:ext cx="2374920" cy="1427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C:\Users\Best\Desktop\посуда\02272.jpg"/>
          <p:cNvPicPr/>
          <p:nvPr/>
        </p:nvPicPr>
        <p:blipFill>
          <a:blip r:embed="rId6"/>
          <a:stretch/>
        </p:blipFill>
        <p:spPr>
          <a:xfrm>
            <a:off x="281160" y="5396040"/>
            <a:ext cx="2036520" cy="1171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C:\Users\Best\Desktop\посуда\9713.jpg"/>
          <p:cNvPicPr/>
          <p:nvPr/>
        </p:nvPicPr>
        <p:blipFill>
          <a:blip r:embed="rId7"/>
          <a:stretch/>
        </p:blipFill>
        <p:spPr>
          <a:xfrm>
            <a:off x="3462480" y="3619440"/>
            <a:ext cx="1674720" cy="9860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C:\Users\Best\Desktop\посуда\2010062154405.png"/>
          <p:cNvPicPr/>
          <p:nvPr/>
        </p:nvPicPr>
        <p:blipFill>
          <a:blip r:embed="rId8"/>
          <a:srcRect l="15389" t="5539" r="0" b="0"/>
          <a:stretch/>
        </p:blipFill>
        <p:spPr>
          <a:xfrm>
            <a:off x="546120" y="3141720"/>
            <a:ext cx="1457280" cy="1839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C:\Users\Best\Desktop\посуда\1.png"/>
          <p:cNvPicPr/>
          <p:nvPr/>
        </p:nvPicPr>
        <p:blipFill>
          <a:blip r:embed="rId9"/>
          <a:stretch/>
        </p:blipFill>
        <p:spPr>
          <a:xfrm>
            <a:off x="6431040" y="3619440"/>
            <a:ext cx="2109600" cy="1444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3" descr="C:\Users\Best\Desktop\посуда\gam9421.jpg"/>
          <p:cNvPicPr/>
          <p:nvPr/>
        </p:nvPicPr>
        <p:blipFill>
          <a:blip r:embed="rId10"/>
          <a:stretch/>
        </p:blipFill>
        <p:spPr>
          <a:xfrm>
            <a:off x="6292800" y="4991040"/>
            <a:ext cx="165096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4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25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 какого слова произошло название посуды?»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8" name="Picture 3" descr="C:\Users\Best\Desktop\посуда\solonka-rybka-59-S.jpg"/>
          <p:cNvPicPr/>
          <p:nvPr/>
        </p:nvPicPr>
        <p:blipFill>
          <a:blip r:embed="rId2"/>
          <a:stretch/>
        </p:blipFill>
        <p:spPr>
          <a:xfrm>
            <a:off x="4330800" y="2652840"/>
            <a:ext cx="1179360" cy="1179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Users\Best\Desktop\посуда\souptureen_1924_thumb.jpg"/>
          <p:cNvPicPr/>
          <p:nvPr/>
        </p:nvPicPr>
        <p:blipFill>
          <a:blip r:embed="rId3"/>
          <a:stretch/>
        </p:blipFill>
        <p:spPr>
          <a:xfrm>
            <a:off x="179280" y="1882800"/>
            <a:ext cx="3745080" cy="1949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C:\Users\Best\Desktop\посуда\470484.jpg"/>
          <p:cNvPicPr/>
          <p:nvPr/>
        </p:nvPicPr>
        <p:blipFill>
          <a:blip r:embed="rId4"/>
          <a:stretch/>
        </p:blipFill>
        <p:spPr>
          <a:xfrm>
            <a:off x="5867280" y="1778040"/>
            <a:ext cx="3149640" cy="2160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C:\Users\Best\Desktop\посуда\sahar1.jpg"/>
          <p:cNvPicPr/>
          <p:nvPr/>
        </p:nvPicPr>
        <p:blipFill>
          <a:blip r:embed="rId5"/>
          <a:stretch/>
        </p:blipFill>
        <p:spPr>
          <a:xfrm>
            <a:off x="3276720" y="4732200"/>
            <a:ext cx="2342880" cy="1733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C:\Users\Best\Desktop\посуда\Speisesalz.jpg"/>
          <p:cNvPicPr/>
          <p:nvPr/>
        </p:nvPicPr>
        <p:blipFill>
          <a:blip r:embed="rId6"/>
          <a:stretch/>
        </p:blipFill>
        <p:spPr>
          <a:xfrm>
            <a:off x="749160" y="5297400"/>
            <a:ext cx="1670040" cy="901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C:\Users\Best\Desktop\посуда\371.jpg"/>
          <p:cNvPicPr/>
          <p:nvPr/>
        </p:nvPicPr>
        <p:blipFill>
          <a:blip r:embed="rId7"/>
          <a:stretch/>
        </p:blipFill>
        <p:spPr>
          <a:xfrm>
            <a:off x="6402240" y="4537080"/>
            <a:ext cx="2079720" cy="207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6840" y="115560"/>
            <a:ext cx="7848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предели по контуру»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6" name="Picture 4" descr="C:\Users\Best\Desktop\посуда\i.jpg"/>
          <p:cNvPicPr/>
          <p:nvPr/>
        </p:nvPicPr>
        <p:blipFill>
          <a:blip r:embed="rId2"/>
          <a:stretch/>
        </p:blipFill>
        <p:spPr>
          <a:xfrm>
            <a:off x="3608280" y="4724280"/>
            <a:ext cx="2057400" cy="142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Best\Desktop\посуда\trafareti_posuda1.jpg"/>
          <p:cNvPicPr/>
          <p:nvPr/>
        </p:nvPicPr>
        <p:blipFill>
          <a:blip r:embed="rId3"/>
          <a:stretch/>
        </p:blipFill>
        <p:spPr>
          <a:xfrm>
            <a:off x="639720" y="1434960"/>
            <a:ext cx="2125800" cy="2011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Users\Best\Desktop\посуда\trafareti_posuda2.jpg"/>
          <p:cNvPicPr/>
          <p:nvPr/>
        </p:nvPicPr>
        <p:blipFill>
          <a:blip r:embed="rId4"/>
          <a:stretch/>
        </p:blipFill>
        <p:spPr>
          <a:xfrm>
            <a:off x="3664080" y="1752480"/>
            <a:ext cx="2001600" cy="1444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C:\Users\Best\Desktop\посуда\trafareti_posuda4.jpg"/>
          <p:cNvPicPr/>
          <p:nvPr/>
        </p:nvPicPr>
        <p:blipFill>
          <a:blip r:embed="rId5"/>
          <a:stretch/>
        </p:blipFill>
        <p:spPr>
          <a:xfrm>
            <a:off x="852480" y="4300560"/>
            <a:ext cx="1928880" cy="1762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:\Users\Best\Desktop\посуда\trafareti_posuda3.jpg"/>
          <p:cNvPicPr/>
          <p:nvPr/>
        </p:nvPicPr>
        <p:blipFill>
          <a:blip r:embed="rId6"/>
          <a:stretch/>
        </p:blipFill>
        <p:spPr>
          <a:xfrm>
            <a:off x="7159680" y="4149720"/>
            <a:ext cx="1415880" cy="1749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C:\Users\Best\Desktop\посуда\trafareti_posuda7.jpg"/>
          <p:cNvPicPr/>
          <p:nvPr/>
        </p:nvPicPr>
        <p:blipFill>
          <a:blip r:embed="rId7"/>
          <a:stretch/>
        </p:blipFill>
        <p:spPr>
          <a:xfrm>
            <a:off x="7050240" y="1297080"/>
            <a:ext cx="1260360" cy="1700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" descr="C:\Users\Best\Desktop\посуда\2254.jpg"/>
          <p:cNvPicPr/>
          <p:nvPr/>
        </p:nvPicPr>
        <p:blipFill>
          <a:blip r:embed="rId8"/>
          <a:stretch/>
        </p:blipFill>
        <p:spPr>
          <a:xfrm>
            <a:off x="82440" y="3371760"/>
            <a:ext cx="3240360" cy="2908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C:\Users\Best\Desktop\посуда\kuvshin.jpg"/>
          <p:cNvPicPr/>
          <p:nvPr/>
        </p:nvPicPr>
        <p:blipFill>
          <a:blip r:embed="rId9"/>
          <a:stretch/>
        </p:blipFill>
        <p:spPr>
          <a:xfrm>
            <a:off x="6948360" y="826920"/>
            <a:ext cx="2065320" cy="2641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3" descr="C:\Users\Best\Desktop\посуда\54434_PE159508_S4.jpg"/>
          <p:cNvPicPr/>
          <p:nvPr/>
        </p:nvPicPr>
        <p:blipFill>
          <a:blip r:embed="rId10"/>
          <a:stretch/>
        </p:blipFill>
        <p:spPr>
          <a:xfrm>
            <a:off x="3452760" y="3930480"/>
            <a:ext cx="2563920" cy="2563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4" descr="C:\Users\Best\Desktop\посуда\0_32dd1_7d87ccdf_L.jpg"/>
          <p:cNvPicPr/>
          <p:nvPr/>
        </p:nvPicPr>
        <p:blipFill>
          <a:blip r:embed="rId11"/>
          <a:stretch/>
        </p:blipFill>
        <p:spPr>
          <a:xfrm>
            <a:off x="241200" y="1316160"/>
            <a:ext cx="2922840" cy="21906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5" descr="C:\Users\Best\Desktop\посуда\kastrjulja-s-kryshkoj-pensofal-inoxal-star-pen-6626-5-l-big-0.jpg"/>
          <p:cNvPicPr/>
          <p:nvPr/>
        </p:nvPicPr>
        <p:blipFill>
          <a:blip r:embed="rId12"/>
          <a:stretch/>
        </p:blipFill>
        <p:spPr>
          <a:xfrm>
            <a:off x="3112920" y="1125360"/>
            <a:ext cx="3243600" cy="2241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C:\Users\Best\Desktop\посуда\samovar.gif"/>
          <p:cNvPicPr/>
          <p:nvPr/>
        </p:nvPicPr>
        <p:blipFill>
          <a:blip r:embed="rId13"/>
          <a:stretch/>
        </p:blipFill>
        <p:spPr>
          <a:xfrm>
            <a:off x="6659640" y="3827520"/>
            <a:ext cx="2152440" cy="2698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1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1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1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2" dur="1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1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1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9" name="Picture 3" descr="C:\Users\Best\Desktop\посуда\ab6f2abbf4d10b5546c4.jpg"/>
          <p:cNvPicPr/>
          <p:nvPr/>
        </p:nvPicPr>
        <p:blipFill>
          <a:blip r:embed="rId2"/>
          <a:stretch/>
        </p:blipFill>
        <p:spPr>
          <a:xfrm rot="1690200">
            <a:off x="801720" y="2563560"/>
            <a:ext cx="1660320" cy="1033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C:\Users\Best\Desktop\посуда\ab6f2abbf4d10b5546c4.jpg"/>
          <p:cNvPicPr/>
          <p:nvPr/>
        </p:nvPicPr>
        <p:blipFill>
          <a:blip r:embed="rId3"/>
          <a:stretch/>
        </p:blipFill>
        <p:spPr>
          <a:xfrm>
            <a:off x="6480000" y="4724280"/>
            <a:ext cx="2140200" cy="1332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82840" y="189000"/>
            <a:ext cx="61848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де находится?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2" name="Picture 2" descr="C:\Users\Best\Desktop\посуда\2010062154405.png"/>
          <p:cNvPicPr/>
          <p:nvPr/>
        </p:nvPicPr>
        <p:blipFill>
          <a:blip r:embed="rId4"/>
          <a:stretch/>
        </p:blipFill>
        <p:spPr>
          <a:xfrm>
            <a:off x="792000" y="1139760"/>
            <a:ext cx="1895760" cy="21448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Users\Best\Desktop\посуда\2010062154405.png"/>
          <p:cNvPicPr/>
          <p:nvPr/>
        </p:nvPicPr>
        <p:blipFill>
          <a:blip r:embed="rId5"/>
          <a:stretch/>
        </p:blipFill>
        <p:spPr>
          <a:xfrm>
            <a:off x="6562800" y="3981600"/>
            <a:ext cx="2057400" cy="2327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C:\Users\Best\Desktop\посуда\2010062154405.png"/>
          <p:cNvPicPr/>
          <p:nvPr/>
        </p:nvPicPr>
        <p:blipFill>
          <a:blip r:embed="rId6"/>
          <a:stretch/>
        </p:blipFill>
        <p:spPr>
          <a:xfrm>
            <a:off x="3633840" y="3927600"/>
            <a:ext cx="2104920" cy="2381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Users\Best\Desktop\посуда\2010062154405.png"/>
          <p:cNvPicPr/>
          <p:nvPr/>
        </p:nvPicPr>
        <p:blipFill>
          <a:blip r:embed="rId7"/>
          <a:stretch/>
        </p:blipFill>
        <p:spPr>
          <a:xfrm>
            <a:off x="657360" y="3981600"/>
            <a:ext cx="2057400" cy="23270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C:\Users\Best\Desktop\посуда\2010062154405.png"/>
          <p:cNvPicPr/>
          <p:nvPr/>
        </p:nvPicPr>
        <p:blipFill>
          <a:blip r:embed="rId8"/>
          <a:stretch/>
        </p:blipFill>
        <p:spPr>
          <a:xfrm>
            <a:off x="3678120" y="974880"/>
            <a:ext cx="2041560" cy="2309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C:\Users\Best\Desktop\посуда\2010062154405.png"/>
          <p:cNvPicPr/>
          <p:nvPr/>
        </p:nvPicPr>
        <p:blipFill>
          <a:blip r:embed="rId9"/>
          <a:stretch/>
        </p:blipFill>
        <p:spPr>
          <a:xfrm>
            <a:off x="6602400" y="1001880"/>
            <a:ext cx="2017800" cy="22827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C:\Users\Best\Desktop\посуда\ab6f2abbf4d10b5546c4.jpg"/>
          <p:cNvPicPr/>
          <p:nvPr/>
        </p:nvPicPr>
        <p:blipFill>
          <a:blip r:embed="rId10"/>
          <a:stretch/>
        </p:blipFill>
        <p:spPr>
          <a:xfrm rot="1543800">
            <a:off x="4032000" y="3749760"/>
            <a:ext cx="1693800" cy="10522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C:\Users\Best\Desktop\посуда\ab6f2abbf4d10b5546c4.jpg"/>
          <p:cNvPicPr/>
          <p:nvPr/>
        </p:nvPicPr>
        <p:blipFill>
          <a:blip r:embed="rId11"/>
          <a:stretch/>
        </p:blipFill>
        <p:spPr>
          <a:xfrm rot="16755000">
            <a:off x="597600" y="4383720"/>
            <a:ext cx="1727280" cy="10749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C:\Users\Best\Desktop\посуда\ab6f2abbf4d10b5546c4.jpg"/>
          <p:cNvPicPr/>
          <p:nvPr/>
        </p:nvPicPr>
        <p:blipFill>
          <a:blip r:embed="rId12"/>
          <a:stretch/>
        </p:blipFill>
        <p:spPr>
          <a:xfrm rot="12606000">
            <a:off x="6970680" y="414000"/>
            <a:ext cx="1889280" cy="1174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Users\Best\Desktop\посуда\ab6f2abbf4d10b5546c4.jpg"/>
          <p:cNvPicPr/>
          <p:nvPr/>
        </p:nvPicPr>
        <p:blipFill>
          <a:blip r:embed="rId13"/>
          <a:stretch/>
        </p:blipFill>
        <p:spPr>
          <a:xfrm rot="1409400">
            <a:off x="3825360" y="2727000"/>
            <a:ext cx="179568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6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зови одним словом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54" name="Picture 5" descr="C:\Users\Best\Desktop\посуда\bg3220.jpg"/>
          <p:cNvPicPr/>
          <p:nvPr/>
        </p:nvPicPr>
        <p:blipFill>
          <a:blip r:embed="rId2"/>
          <a:stretch/>
        </p:blipFill>
        <p:spPr>
          <a:xfrm>
            <a:off x="3171960" y="1311120"/>
            <a:ext cx="3004920" cy="2260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C:\Users\Best\Desktop\посуда\78916658_1152.jpg"/>
          <p:cNvPicPr/>
          <p:nvPr/>
        </p:nvPicPr>
        <p:blipFill>
          <a:blip r:embed="rId3"/>
          <a:stretch/>
        </p:blipFill>
        <p:spPr>
          <a:xfrm>
            <a:off x="6269040" y="789120"/>
            <a:ext cx="2424240" cy="34653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C:\Users\Best\Desktop\посуда\4436.jpg"/>
          <p:cNvPicPr/>
          <p:nvPr/>
        </p:nvPicPr>
        <p:blipFill>
          <a:blip r:embed="rId4"/>
          <a:stretch/>
        </p:blipFill>
        <p:spPr>
          <a:xfrm>
            <a:off x="6269040" y="4438800"/>
            <a:ext cx="2392200" cy="1996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http://s-media-cache-ak0.pinimg.com/736x/12/f7/bd/12f7bda9f2378b854816fc71f42fbd23.jpg"/>
          <p:cNvPicPr/>
          <p:nvPr/>
        </p:nvPicPr>
        <p:blipFill>
          <a:blip r:embed="rId5"/>
          <a:stretch/>
        </p:blipFill>
        <p:spPr>
          <a:xfrm>
            <a:off x="3687840" y="3571920"/>
            <a:ext cx="1747800" cy="2863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2" descr="http://0.tqn.com/d/webclipart/1/5/f/P/5/Tea-Kettle.png"/>
          <p:cNvPicPr/>
          <p:nvPr/>
        </p:nvPicPr>
        <p:blipFill>
          <a:blip r:embed="rId6"/>
          <a:stretch/>
        </p:blipFill>
        <p:spPr>
          <a:xfrm>
            <a:off x="563400" y="1297080"/>
            <a:ext cx="2370240" cy="2369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http://pngimg.com/upload/cooking_pan_PNG8408.png"/>
          <p:cNvPicPr/>
          <p:nvPr/>
        </p:nvPicPr>
        <p:blipFill>
          <a:blip r:embed="rId7"/>
          <a:stretch/>
        </p:blipFill>
        <p:spPr>
          <a:xfrm>
            <a:off x="182520" y="4189320"/>
            <a:ext cx="298944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1" name="Прямоугольник 6"/>
          <p:cNvSpPr/>
          <p:nvPr/>
        </p:nvSpPr>
        <p:spPr>
          <a:xfrm>
            <a:off x="192240" y="981000"/>
            <a:ext cx="878364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ображение «Посуд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http://www.znaikak.ru/design/pic/visred/1237%20017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ображение «Сковород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/>
              </a:rPr>
              <a:t>http://www.irecommend.ru/sites/default/files/product-images/32253/t_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ображение «Чайник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/>
              </a:rPr>
              <a:t>http://spetstorg.ru/upload/400/0687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ображение «Кастрюля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5"/>
              </a:rPr>
              <a:t>http://spetstorg.ru/upload/400/D1177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ображение «Кастрюля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6"/>
              </a:rPr>
              <a:t>http://ocenil.ru/photos/kastryulya-metalac-dekol-9696-sakura-35-l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ображение «Набор столовых приборов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7"/>
              </a:rPr>
              <a:t>http://www.berghoff-posuda.com.ua/fotky6693/fotos/_vyrn_1951230320_enl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зображение «Ложка десертная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8"/>
              </a:rPr>
              <a:t>http://atann.ru/upload/shop_3/2/2/9/item_2295/shop_items_catalog_image2295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Изображение «Лож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9"/>
              </a:rPr>
              <a:t>http://xvatit.com/upload/medialibrary/9c9/9c9dfc7e523e7a54410b1429f36fbe3c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Изображение «Половник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0"/>
              </a:rPr>
              <a:t>http://znaxidka.ck.ua/data/big/bg322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Изображение «Половник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1"/>
              </a:rPr>
              <a:t>http://www.komplekt.in.ua/catalog/images/KAYALAR/polovnik_40_3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Изображение «Стакан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2"/>
              </a:rPr>
              <a:t>http://img256.imageshack.us/img256/226/2010062154405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Изображение «Стакан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3"/>
              </a:rPr>
              <a:t>http://demiart.ru/forum/uploads1/post-23430-120585499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Изображение «Стакан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4"/>
              </a:rPr>
              <a:t>http://www.wday.ru/images/docs/i/40765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Изображение «Чайник»  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5"/>
              </a:rPr>
              <a:t>http://sunfood.com.ua/default/product_0/166/main_big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Изображение  «Кастрюль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6"/>
              </a:rPr>
              <a:t>http://www.cookinghintsfromchris.com/_files/image/L%20C%20Indiv%20cass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Изображение «Чаш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7"/>
              </a:rPr>
              <a:t>http://im2-tub-ru.yandex.net/i?id=354065335-01-72&amp;n=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Изображение «Кружка»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8"/>
              </a:rPr>
              <a:t>http://stilco.ucoz.ru/55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Изображение «Круж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9"/>
              </a:rPr>
              <a:t>http://cs10722.vk.com/u160982277/-14/x_0ce257e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Изображение «Кастрюля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0"/>
              </a:rPr>
              <a:t>http://www.posud.ru/image/cast_iron_dishes__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Изображение  «Сковород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1"/>
              </a:rPr>
              <a:t>http://www.turistposuda.ru/images/little/224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 Изображение «Кастрюля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2"/>
              </a:rPr>
              <a:t>http://people2people.ru/ftp/Williams&amp;Oliver/Mario%20Batali/2%20Cup%20Essentials%20Pesto%200-4899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 Изображение «Сахарниц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3"/>
              </a:rPr>
              <a:t>http://www.comfort4u.ru/photo_tovar/big/470484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 Изображение «Солон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4"/>
              </a:rPr>
              <a:t>http://artme.su/products_pictures/solonka-rybka-59-S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 Изображение «Супниц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5"/>
              </a:rPr>
              <a:t>http://samlib.ru/img/l/laki/dzhekpotdwa/supnica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. Изображение «Чайник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6"/>
              </a:rPr>
              <a:t>http://www.a-shop.ru/images/30315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 Изображение  «Чайник»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7"/>
              </a:rPr>
              <a:t>http://www.bekker.ru/getimg/wb/22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 Изображение «Нож столовый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8"/>
              </a:rPr>
              <a:t>http://www.boom-dom.ru/image/data/2/29/297/29772931_5593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. Изображение «Нож столовый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9"/>
              </a:rPr>
              <a:t>http://atann.ru/upload/shop_3/2/3/6/item_2366/shop_items_catalog_image236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 Изображение «Вил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0"/>
              </a:rPr>
              <a:t>http://www.ljplus.ru/img4/z/h/zh_zhitel/1117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 Изображение «Вил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1"/>
              </a:rPr>
              <a:t>http://www.yaplakal.com/uploads/post-2-13158644894204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772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интернет-источ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strips dir="r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4" name="Прямоугольник 3"/>
          <p:cNvSpPr/>
          <p:nvPr/>
        </p:nvSpPr>
        <p:spPr>
          <a:xfrm>
            <a:off x="324000" y="404640"/>
            <a:ext cx="85690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. Изображение «Крыш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http://1k.by/images/site/shopsproductsimages/767/sd/8/3/2314429/iab69a5be4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 Изображение «Кастрюля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/>
              </a:rPr>
              <a:t>http://www.debuyer.com/images/product/05142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 Изображение «Кастрюля»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/>
              </a:rPr>
              <a:t>http://www.peky.ru/tovary/kastruli/p_k_4,5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. Изображение «Тарел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5"/>
              </a:rPr>
              <a:t>http://www.posuda-suveniry.ru/pictures/5543_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. Изображение «Тарел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6"/>
              </a:rPr>
              <a:t>http://www.domo-mir.ru/imageModul/chop/10000007777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. Изображение «Тарел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7"/>
              </a:rPr>
              <a:t>http://www.homeposuda.ru/foto1/0227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. Изображение «Топор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8"/>
              </a:rPr>
              <a:t>http://www.instrumentom.ru/source/catalog/Stolyarnyy_instrument/Topor_kovanyy_IJ_ZUBR_/280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. Изображение «Круж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9"/>
              </a:rPr>
              <a:t>http://suvenir-optom.ru/imager.php/img/131/350/350/13_big_1190396785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. Изображение «Воздушный шарик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0"/>
              </a:rPr>
              <a:t>http://img.4pk.ru/300x10000/images/33/7249033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. Изображение «Тарелки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1"/>
              </a:rPr>
              <a:t>http://s004.radikal.ru/i207/1004/a0/9c8db2ebf75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. Изображение «Грабли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2"/>
              </a:rPr>
              <a:t>http://www.vostok.ru/img/catalogue/middle/144-0010-0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. Изображение «Кастрюля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3"/>
              </a:rPr>
              <a:t>http://gourmet.boffo.ru/product_pictures/kastrjulja-s-kryshkoj-pensofal-inoxal-star-pen-6626-5-l-big-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. Изображение «Кастрюля»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4"/>
              </a:rPr>
              <a:t>http://www.galacentre.ru/Ftp/images/385JOAE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. Изображение «Тарелка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5"/>
              </a:rPr>
              <a:t>http://posudca.ru/data/tarelki/obed/9713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. Изображение «Кружка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6"/>
              </a:rPr>
              <a:t>http://upload.fryazino.net/file/77428/gam942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. Изображение «Сахар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7"/>
              </a:rPr>
              <a:t>http://ugabuga.ru/files/monsters/drev_mif/sahar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 Изображение «Соль» </a:t>
            </a:r>
            <a:r>
              <a:rPr b="0" lang="en-US" sz="11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8"/>
              </a:rPr>
              <a:t>http://www.bellona.ru/imagearchive/Speisesalz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. Изображение «Суп в тарелке»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zelenogradskiy.ru/food/products/normal/37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. Изображение «Кувшин»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yuga.ru/media/kuvshin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. Изображение «Самовар»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0.liveinternet.ru/images/attach/c/4/78/916/78916658_115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. Изображение «Самовар»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ang.russe.free.fr/images/samovar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. Изображение «Чашка с блюдцем»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rogimp.ru/i/articles/upload/2011/11/997/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. Изображение «Набор посуды»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kroshka-havroshka.ru/products_pictures/nabor-posudy-631-B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6" name="TextBox 4"/>
          <p:cNvSpPr/>
          <p:nvPr/>
        </p:nvSpPr>
        <p:spPr>
          <a:xfrm>
            <a:off x="1647360" y="404640"/>
            <a:ext cx="563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09640" y="115920"/>
            <a:ext cx="58327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зови посуду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2" descr="C:\Users\Best\Desktop\посуда\L C Indiv cass.jpg"/>
          <p:cNvPicPr/>
          <p:nvPr/>
        </p:nvPicPr>
        <p:blipFill>
          <a:blip r:embed="rId2"/>
          <a:stretch/>
        </p:blipFill>
        <p:spPr>
          <a:xfrm>
            <a:off x="6237360" y="3767040"/>
            <a:ext cx="2857320" cy="2103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Users\Best\Desktop\посуда\ab6f2abbf4d10b5546c4.jpg"/>
          <p:cNvPicPr/>
          <p:nvPr/>
        </p:nvPicPr>
        <p:blipFill>
          <a:blip r:embed="rId3"/>
          <a:stretch/>
        </p:blipFill>
        <p:spPr>
          <a:xfrm>
            <a:off x="6486480" y="1341360"/>
            <a:ext cx="2112840" cy="1339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Users\Best\Desktop\посуда\1.png"/>
          <p:cNvPicPr/>
          <p:nvPr/>
        </p:nvPicPr>
        <p:blipFill>
          <a:blip r:embed="rId4"/>
          <a:stretch/>
        </p:blipFill>
        <p:spPr>
          <a:xfrm>
            <a:off x="324000" y="4343400"/>
            <a:ext cx="2762280" cy="1892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C:\Users\Best\Desktop\посуда\224.jpg"/>
          <p:cNvPicPr/>
          <p:nvPr/>
        </p:nvPicPr>
        <p:blipFill>
          <a:blip r:embed="rId5"/>
          <a:stretch/>
        </p:blipFill>
        <p:spPr>
          <a:xfrm>
            <a:off x="3086280" y="2381400"/>
            <a:ext cx="3298680" cy="16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Users\Best\Desktop\посуда\shop_items_catalog_image2366.jpg"/>
          <p:cNvPicPr/>
          <p:nvPr/>
        </p:nvPicPr>
        <p:blipFill>
          <a:blip r:embed="rId6"/>
          <a:stretch/>
        </p:blipFill>
        <p:spPr>
          <a:xfrm>
            <a:off x="3086280" y="3992400"/>
            <a:ext cx="2654280" cy="15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C:\Users\Best\Desktop\посуда\post-2-13158644894204.jpg"/>
          <p:cNvPicPr/>
          <p:nvPr/>
        </p:nvPicPr>
        <p:blipFill>
          <a:blip r:embed="rId7"/>
          <a:stretch/>
        </p:blipFill>
        <p:spPr>
          <a:xfrm>
            <a:off x="3209760" y="1341360"/>
            <a:ext cx="2592720" cy="789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http://www.coollady.ru/pic/0004/057/052.jpg"/>
          <p:cNvPicPr/>
          <p:nvPr/>
        </p:nvPicPr>
        <p:blipFill>
          <a:blip r:embed="rId8"/>
          <a:stretch/>
        </p:blipFill>
        <p:spPr>
          <a:xfrm>
            <a:off x="222120" y="1735200"/>
            <a:ext cx="2737080" cy="2136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7" descr="http://img-fotki.yandex.ru/get/4812/47407354.272/0_8e5b6_21c0944_orig.png"/>
          <p:cNvPicPr/>
          <p:nvPr/>
        </p:nvPicPr>
        <p:blipFill>
          <a:blip r:embed="rId9"/>
          <a:stretch/>
        </p:blipFill>
        <p:spPr>
          <a:xfrm rot="6537000">
            <a:off x="3610080" y="4629240"/>
            <a:ext cx="255240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зови части посуды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2" descr="C:\Users\Best\Desktop\посуда\2257.jpg"/>
          <p:cNvPicPr/>
          <p:nvPr/>
        </p:nvPicPr>
        <p:blipFill>
          <a:blip r:embed="rId2"/>
          <a:stretch/>
        </p:blipFill>
        <p:spPr>
          <a:xfrm>
            <a:off x="468360" y="361332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Users\Best\Desktop\посуда\051420.jpg"/>
          <p:cNvPicPr/>
          <p:nvPr/>
        </p:nvPicPr>
        <p:blipFill>
          <a:blip r:embed="rId3"/>
          <a:stretch/>
        </p:blipFill>
        <p:spPr>
          <a:xfrm>
            <a:off x="5508720" y="1511280"/>
            <a:ext cx="2516040" cy="1941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Best\Desktop\посуда\iab69a5be4.jpg"/>
          <p:cNvPicPr/>
          <p:nvPr/>
        </p:nvPicPr>
        <p:blipFill>
          <a:blip r:embed="rId4"/>
          <a:stretch/>
        </p:blipFill>
        <p:spPr>
          <a:xfrm>
            <a:off x="5326200" y="836640"/>
            <a:ext cx="2797200" cy="1887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C:\Users\Best\Desktop\посуда\p_k_4,5.jpg"/>
          <p:cNvPicPr/>
          <p:nvPr/>
        </p:nvPicPr>
        <p:blipFill>
          <a:blip r:embed="rId5"/>
          <a:stretch/>
        </p:blipFill>
        <p:spPr>
          <a:xfrm rot="21040200">
            <a:off x="5013000" y="2041200"/>
            <a:ext cx="625320" cy="636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C:\Users\Best\Desktop\посуда\p_k_4,5.jpg"/>
          <p:cNvPicPr/>
          <p:nvPr/>
        </p:nvPicPr>
        <p:blipFill>
          <a:blip r:embed="rId6"/>
          <a:stretch/>
        </p:blipFill>
        <p:spPr>
          <a:xfrm rot="907200">
            <a:off x="7949880" y="2039400"/>
            <a:ext cx="590400" cy="584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C:\Users\Best\Desktop\посуда\p_k_4,5.jpg"/>
          <p:cNvPicPr/>
          <p:nvPr/>
        </p:nvPicPr>
        <p:blipFill>
          <a:blip r:embed="rId7"/>
          <a:srcRect l="16263" t="20035" r="15330" b="21084"/>
          <a:stretch/>
        </p:blipFill>
        <p:spPr>
          <a:xfrm>
            <a:off x="415800" y="1119240"/>
            <a:ext cx="3392640" cy="2335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C:\Users\Best\Desktop\посуда\2257 - копия - копия.jpg"/>
          <p:cNvPicPr/>
          <p:nvPr/>
        </p:nvPicPr>
        <p:blipFill>
          <a:blip r:embed="rId8"/>
          <a:stretch/>
        </p:blipFill>
        <p:spPr>
          <a:xfrm>
            <a:off x="6099120" y="4143240"/>
            <a:ext cx="1644840" cy="798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C:\Users\Best\Desktop\посуда\2257 - копия.jpg"/>
          <p:cNvPicPr/>
          <p:nvPr/>
        </p:nvPicPr>
        <p:blipFill>
          <a:blip r:embed="rId9"/>
          <a:stretch/>
        </p:blipFill>
        <p:spPr>
          <a:xfrm>
            <a:off x="5684760" y="4941720"/>
            <a:ext cx="2471760" cy="1581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C:\Users\Best\Desktop\посуда\2257 - копия (2).jpg"/>
          <p:cNvPicPr/>
          <p:nvPr/>
        </p:nvPicPr>
        <p:blipFill>
          <a:blip r:embed="rId10"/>
          <a:stretch/>
        </p:blipFill>
        <p:spPr>
          <a:xfrm>
            <a:off x="4968720" y="4941720"/>
            <a:ext cx="795600" cy="1148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C:\Users\Best\Desktop\посуда\18470_18470_big.jpg"/>
          <p:cNvPicPr/>
          <p:nvPr/>
        </p:nvPicPr>
        <p:blipFill>
          <a:blip r:embed="rId11"/>
          <a:stretch/>
        </p:blipFill>
        <p:spPr>
          <a:xfrm rot="414000">
            <a:off x="5575320" y="3481560"/>
            <a:ext cx="269064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52760" y="43920"/>
            <a:ext cx="6014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Назови ласково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3" descr="C:\Users\Best\Desktop\посуда\7509385.jpg"/>
          <p:cNvPicPr/>
          <p:nvPr/>
        </p:nvPicPr>
        <p:blipFill>
          <a:blip r:embed="rId2"/>
          <a:stretch/>
        </p:blipFill>
        <p:spPr>
          <a:xfrm>
            <a:off x="179280" y="1181160"/>
            <a:ext cx="2946600" cy="2103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C:\Users\Best\Desktop\посуда\8001022.jpg"/>
          <p:cNvPicPr/>
          <p:nvPr/>
        </p:nvPicPr>
        <p:blipFill>
          <a:blip r:embed="rId3"/>
          <a:stretch/>
        </p:blipFill>
        <p:spPr>
          <a:xfrm>
            <a:off x="6254640" y="1820880"/>
            <a:ext cx="1482840" cy="91440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ая со стрелкой 4" descr=""/>
          <p:cNvPicPr/>
          <p:nvPr/>
        </p:nvPicPr>
        <p:blipFill>
          <a:blip r:embed="rId4"/>
          <a:stretch/>
        </p:blipFill>
        <p:spPr>
          <a:xfrm>
            <a:off x="3340080" y="2109960"/>
            <a:ext cx="2792520" cy="384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C:\Users\Best\Desktop\посуда\ist2_2890967_spoon.jpg"/>
          <p:cNvPicPr/>
          <p:nvPr/>
        </p:nvPicPr>
        <p:blipFill>
          <a:blip r:embed="rId5"/>
          <a:srcRect l="4804" t="4352" r="0" b="0"/>
          <a:stretch/>
        </p:blipFill>
        <p:spPr>
          <a:xfrm rot="2407800">
            <a:off x="423360" y="2900160"/>
            <a:ext cx="2471760" cy="1987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C:\Users\Best\Desktop\посуда\ist2_2890967_spoon.jpg"/>
          <p:cNvPicPr/>
          <p:nvPr/>
        </p:nvPicPr>
        <p:blipFill>
          <a:blip r:embed="rId6"/>
          <a:srcRect l="9135" t="8346" r="2627" b="4084"/>
          <a:stretch/>
        </p:blipFill>
        <p:spPr>
          <a:xfrm rot="2326200">
            <a:off x="6243120" y="3330360"/>
            <a:ext cx="1571760" cy="12459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ая со стрелкой 10" descr=""/>
          <p:cNvPicPr/>
          <p:nvPr/>
        </p:nvPicPr>
        <p:blipFill>
          <a:blip r:embed="rId7"/>
          <a:stretch/>
        </p:blipFill>
        <p:spPr>
          <a:xfrm>
            <a:off x="3260880" y="3670200"/>
            <a:ext cx="2792160" cy="384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C:\Users\Best\Desktop\посуда\40765.jpg"/>
          <p:cNvPicPr/>
          <p:nvPr/>
        </p:nvPicPr>
        <p:blipFill>
          <a:blip r:embed="rId8"/>
          <a:stretch/>
        </p:blipFill>
        <p:spPr>
          <a:xfrm>
            <a:off x="6443640" y="4772160"/>
            <a:ext cx="1401840" cy="1401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C:\Users\Best\Desktop\посуда\40765.jpg"/>
          <p:cNvPicPr/>
          <p:nvPr/>
        </p:nvPicPr>
        <p:blipFill>
          <a:blip r:embed="rId9"/>
          <a:stretch/>
        </p:blipFill>
        <p:spPr>
          <a:xfrm>
            <a:off x="539640" y="4226040"/>
            <a:ext cx="2448000" cy="244944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ая со стрелкой 13" descr=""/>
          <p:cNvPicPr/>
          <p:nvPr/>
        </p:nvPicPr>
        <p:blipFill>
          <a:blip r:embed="rId10"/>
          <a:stretch/>
        </p:blipFill>
        <p:spPr>
          <a:xfrm>
            <a:off x="3224160" y="5278320"/>
            <a:ext cx="2786040" cy="384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7" name="Picture 2" descr="C:\Users\Best\Desktop\посуда\post-2-13158644894204.jpg"/>
          <p:cNvPicPr/>
          <p:nvPr/>
        </p:nvPicPr>
        <p:blipFill>
          <a:blip r:embed="rId2"/>
          <a:stretch/>
        </p:blipFill>
        <p:spPr>
          <a:xfrm>
            <a:off x="285840" y="642960"/>
            <a:ext cx="3571920" cy="1087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Best\Desktop\посуда\post-2-13158644894204.jpg"/>
          <p:cNvPicPr/>
          <p:nvPr/>
        </p:nvPicPr>
        <p:blipFill>
          <a:blip r:embed="rId3"/>
          <a:stretch/>
        </p:blipFill>
        <p:spPr>
          <a:xfrm>
            <a:off x="6227640" y="934920"/>
            <a:ext cx="2449800" cy="74628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ая со стрелкой 5" descr=""/>
          <p:cNvPicPr/>
          <p:nvPr/>
        </p:nvPicPr>
        <p:blipFill>
          <a:blip r:embed="rId4"/>
          <a:stretch/>
        </p:blipFill>
        <p:spPr>
          <a:xfrm>
            <a:off x="3986280" y="1096920"/>
            <a:ext cx="2249280" cy="384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C:\Users\Best\Desktop\посуда\5543_2.jpg"/>
          <p:cNvPicPr/>
          <p:nvPr/>
        </p:nvPicPr>
        <p:blipFill>
          <a:blip r:embed="rId5"/>
          <a:stretch/>
        </p:blipFill>
        <p:spPr>
          <a:xfrm>
            <a:off x="262080" y="127800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C:\Users\Best\Desktop\посуда\5543_2.jpg"/>
          <p:cNvPicPr/>
          <p:nvPr/>
        </p:nvPicPr>
        <p:blipFill>
          <a:blip r:embed="rId6"/>
          <a:stretch/>
        </p:blipFill>
        <p:spPr>
          <a:xfrm>
            <a:off x="6948360" y="19764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ая со стрелкой 10" descr=""/>
          <p:cNvPicPr/>
          <p:nvPr/>
        </p:nvPicPr>
        <p:blipFill>
          <a:blip r:embed="rId7"/>
          <a:stretch/>
        </p:blipFill>
        <p:spPr>
          <a:xfrm>
            <a:off x="3578400" y="2597040"/>
            <a:ext cx="2968560" cy="384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C:\Users\Best\Desktop\посуда\x_0ce257e0.jpg"/>
          <p:cNvPicPr/>
          <p:nvPr/>
        </p:nvPicPr>
        <p:blipFill>
          <a:blip r:embed="rId8"/>
          <a:stretch/>
        </p:blipFill>
        <p:spPr>
          <a:xfrm>
            <a:off x="709560" y="364500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C:\Users\Best\Desktop\посуда\x_0ce257e0.jpg"/>
          <p:cNvPicPr/>
          <p:nvPr/>
        </p:nvPicPr>
        <p:blipFill>
          <a:blip r:embed="rId9"/>
          <a:stretch/>
        </p:blipFill>
        <p:spPr>
          <a:xfrm>
            <a:off x="6948360" y="4808520"/>
            <a:ext cx="1511280" cy="151308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ая со стрелкой 14" descr=""/>
          <p:cNvPicPr/>
          <p:nvPr/>
        </p:nvPicPr>
        <p:blipFill>
          <a:blip r:embed="rId10"/>
          <a:stretch/>
        </p:blipFill>
        <p:spPr>
          <a:xfrm>
            <a:off x="3578400" y="4809960"/>
            <a:ext cx="2968560" cy="38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41560" y="68400"/>
            <a:ext cx="563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гадай – ка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324000" y="4165560"/>
            <a:ext cx="281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пыхчу, пыхч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е греться не хоч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ышка громко зазвенел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ейте чай, вода вскипела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6195960" y="950760"/>
            <a:ext cx="25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я пуста быв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 себя не забыв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когда несу е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мо рта я не прой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5"/>
          <p:cNvSpPr/>
          <p:nvPr/>
        </p:nvSpPr>
        <p:spPr>
          <a:xfrm>
            <a:off x="6210360" y="41324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бывает глубо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бывает мел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ко, это не р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5869080" y="256536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хорошо заточен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легко он режет очень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леб, картошку, свеклу, мяс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у, яблоки и масл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Прямоугольник 7"/>
          <p:cNvSpPr/>
          <p:nvPr/>
        </p:nvSpPr>
        <p:spPr>
          <a:xfrm>
            <a:off x="3516480" y="5742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и ложек я полковни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зовут меня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250920" y="92376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йника подруж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ет два ушк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т кашу, суп для Юл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зовут её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9"/>
          <p:cNvSpPr/>
          <p:nvPr/>
        </p:nvSpPr>
        <p:spPr>
          <a:xfrm>
            <a:off x="250920" y="245268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ет вкусная е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золотою коркою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пользуешься ты…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о, сковородкою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2" descr="C:\Users\Best\Desktop\посуда\2 Cup Essentials Pesto 0-48992.jpg"/>
          <p:cNvPicPr/>
          <p:nvPr/>
        </p:nvPicPr>
        <p:blipFill>
          <a:blip r:embed="rId2"/>
          <a:stretch/>
        </p:blipFill>
        <p:spPr>
          <a:xfrm>
            <a:off x="2984400" y="950760"/>
            <a:ext cx="1960560" cy="1579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Best\Desktop\посуда\ab6f2abbf4d10b5546c4.jpg"/>
          <p:cNvPicPr/>
          <p:nvPr/>
        </p:nvPicPr>
        <p:blipFill>
          <a:blip r:embed="rId3"/>
          <a:stretch/>
        </p:blipFill>
        <p:spPr>
          <a:xfrm rot="17896200">
            <a:off x="4555800" y="1225080"/>
            <a:ext cx="1609560" cy="10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C:\Users\Best\Desktop\посуда\shop_items_catalog_image2366.jpg"/>
          <p:cNvPicPr/>
          <p:nvPr/>
        </p:nvPicPr>
        <p:blipFill>
          <a:blip r:embed="rId4"/>
          <a:stretch/>
        </p:blipFill>
        <p:spPr>
          <a:xfrm>
            <a:off x="4211640" y="2781360"/>
            <a:ext cx="1528920" cy="907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Users\Best\Desktop\посуда\2255.jpg"/>
          <p:cNvPicPr/>
          <p:nvPr/>
        </p:nvPicPr>
        <p:blipFill>
          <a:blip r:embed="rId5"/>
          <a:stretch/>
        </p:blipFill>
        <p:spPr>
          <a:xfrm>
            <a:off x="3929040" y="3978360"/>
            <a:ext cx="1663560" cy="1663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Users\Best\Desktop\посуда\10000007777.jpg"/>
          <p:cNvPicPr/>
          <p:nvPr/>
        </p:nvPicPr>
        <p:blipFill>
          <a:blip r:embed="rId6"/>
          <a:stretch/>
        </p:blipFill>
        <p:spPr>
          <a:xfrm>
            <a:off x="6622920" y="4903920"/>
            <a:ext cx="2124360" cy="2122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C:\Users\Best\Desktop\посуда\bg3220.jpg"/>
          <p:cNvPicPr/>
          <p:nvPr/>
        </p:nvPicPr>
        <p:blipFill>
          <a:blip r:embed="rId7"/>
          <a:stretch/>
        </p:blipFill>
        <p:spPr>
          <a:xfrm rot="19984800">
            <a:off x="757080" y="5200200"/>
            <a:ext cx="2482920" cy="1870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C:\Users\Best\Desktop\посуда\4436.jpg"/>
          <p:cNvPicPr/>
          <p:nvPr/>
        </p:nvPicPr>
        <p:blipFill>
          <a:blip r:embed="rId8"/>
          <a:stretch/>
        </p:blipFill>
        <p:spPr>
          <a:xfrm>
            <a:off x="2581200" y="2913120"/>
            <a:ext cx="1630440" cy="1479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210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етвёртый лишний»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Picture 2" descr="C:\Users\Best\Desktop\посуда\0227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65440" y="11937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Best\Desktop\посуда\05с1250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08720" y="1195560"/>
            <a:ext cx="1276560" cy="1488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Best\Desktop\посуда\GAM16104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11937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C:\Users\Best\Desktop\посуда\2808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859280" y="1198440"/>
            <a:ext cx="1971720" cy="1489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ая соединительная линия 4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6" descr="C:\Users\Best\Desktop\посуда\cast_iron_dishes__6.jp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195640" y="30146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C:\Users\Best\Desktop\посуда\9c8db2ebf750.jp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48360" y="303228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C:\Users\Best\Desktop\посуда\13_big_1190396785_350x350.jp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72000" y="30146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C:\Users\Best\Desktop\посуда\7249033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0920" y="2997360"/>
            <a:ext cx="1430280" cy="190656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ая соединительная линия 15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11" descr="C:\Users\Best\Desktop\посуда\29772931_5593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959520" y="5178600"/>
            <a:ext cx="1489320" cy="1488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C:\Users\Best\Desktop\посуда\ist2_2890967_spoon.jp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621320" y="5143680"/>
            <a:ext cx="1857240" cy="1485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C:\Users\Best\Desktop\посуда\1117.jpg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0920" y="51436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C:\Users\Best\Desktop\посуда\144-0010-01.jpg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2154240" y="5124600"/>
            <a:ext cx="2006640" cy="1523880"/>
          </a:xfrm>
          <a:prstGeom prst="rect">
            <a:avLst/>
          </a:prstGeom>
          <a:ln w="0">
            <a:noFill/>
          </a:ln>
        </p:spPr>
      </p:pic>
      <p:sp>
        <p:nvSpPr>
          <p:cNvPr id="398" name="Управляющая кнопка: далее 2">
            <a:hlinkClick r:id="rId26" action="ppaction://hlinksldjump"/>
          </p:cNvPr>
          <p:cNvSpPr/>
          <p:nvPr/>
        </p:nvSpPr>
        <p:spPr>
          <a:xfrm>
            <a:off x="8388360" y="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28920" y="23569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ец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Управляющая кнопка: далее 3">
            <a:hlinkClick r:id="rId2" action="ppaction://hlinksldjump"/>
          </p:cNvPr>
          <p:cNvSpPr/>
          <p:nvPr/>
        </p:nvSpPr>
        <p:spPr>
          <a:xfrm>
            <a:off x="8388360" y="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3" descr="http://buziza.ru/g/27/zelenaya_abstrakciya_multikolor_2560x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127080">
            <a:solidFill>
              <a:srgbClr val="7030a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28920" y="249984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Управляющая кнопка: далее 3">
            <a:hlinkClick r:id="rId2" action="ppaction://hlinksldjump"/>
          </p:cNvPr>
          <p:cNvSpPr/>
          <p:nvPr/>
        </p:nvSpPr>
        <p:spPr>
          <a:xfrm>
            <a:off x="8388360" y="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21859" y="10800"/>
                </a:lnTo>
                <a:lnTo>
                  <a:pt x="784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0:15:00Z</dcterms:created>
  <dc:creator>Best</dc:creator>
  <dc:description/>
  <dc:language>en-US</dc:language>
  <cp:lastModifiedBy>Инна</cp:lastModifiedBy>
  <dcterms:modified xsi:type="dcterms:W3CDTF">2016-11-23T17:56:17Z</dcterms:modified>
  <cp:revision>76</cp:revision>
  <dc:subject/>
  <dc:title>ПОСУДА</dc:title>
</cp:coreProperties>
</file>