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8C91-CEEF-46C8-BAE9-4D0473A9E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F64B-6521-4DCF-84BC-F1A22A48D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CC60-CE83-46E1-831B-992A4F655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4465-40AC-4F0D-99AC-46F01494F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B25E84-71AF-440F-80A1-DFBB9A278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DF5DF7-614C-48EF-AE4E-3A82F2472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E445E8-3ED0-4A87-8E7F-7E680BB23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A791CE-AC77-4FB2-8657-C86027B6D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4C8975-0076-4E55-9780-BD45B1A53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60A2C9-6446-4E55-9F2E-2097DCC22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9CC807-73F0-4BE2-BCF7-F312897A2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CFA3-11F2-4D56-A0A5-8F8783C14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65381A-050F-4627-AD63-83158A68A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18D6CE-E98D-4E18-9762-DDEFC6D30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9EFA6C-9B54-431B-BCE1-9602DE4B2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18276D-AF15-4A4B-98D9-090DEBEBC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FE5391-DFCD-4E11-B865-5F8CEB0DF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5540-27CB-41B8-BD03-A9FBCC17D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EC8D-3D85-4D9C-B4E3-CC5A53200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8D96-D743-4802-99FB-A1754F0FB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AFAA-FE4D-425B-919E-88E204F21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D0AE-D04C-4F2D-8B48-8BB0B2008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7F73-1294-4B08-AA79-35946E26F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C802-6E40-4D14-878E-8AAC64769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E00DC-96CA-4AEE-9BAF-F1CB93073A7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D9BF9-B661-4409-9724-54F51DF265D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15328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ffcc"/>
                </a:solidFill>
                <a:latin typeface="Arial"/>
              </a:rPr>
              <a:t>ГОУ ДПО ТО «ИПК и ППРО ТО» </a:t>
            </a:r>
            <a:br>
              <a:rPr sz="1600"/>
            </a:br>
            <a:r>
              <a:rPr b="1" i="1" lang="ru-RU" sz="1600" spc="-1" strike="noStrike">
                <a:solidFill>
                  <a:srgbClr val="00ffcc"/>
                </a:solidFill>
                <a:latin typeface="Arial"/>
              </a:rPr>
              <a:t>Кафедра технологий управления развитием образовательного учреждения и профессионального образования.</a:t>
            </a:r>
            <a:br>
              <a:rPr sz="1600"/>
            </a:br>
            <a:r>
              <a:rPr b="1" i="1" lang="ru-RU" sz="1600" spc="-1" strike="noStrike">
                <a:solidFill>
                  <a:srgbClr val="00ffcc"/>
                </a:solidFill>
                <a:latin typeface="Arial"/>
              </a:rPr>
              <a:t> Проект:                                                                                                                  «Внеурочная деятельность при введении ФГОС НОО второго поколения на первой ступени обучения». </a:t>
            </a:r>
            <a:br>
              <a:rPr sz="1600"/>
            </a:br>
            <a:r>
              <a:rPr b="1" i="1" lang="ru-RU" sz="1600" spc="-1" strike="noStrike">
                <a:solidFill>
                  <a:srgbClr val="00ffcc"/>
                </a:solidFill>
                <a:latin typeface="Arial"/>
              </a:rPr>
              <a:t>Слушатель курсов повышения квалификации по дополнительному профессиональному образованию по программе «Управление ОУ в условиях введения ФГОС» </a:t>
            </a:r>
            <a:br>
              <a:rPr sz="1600"/>
            </a:br>
            <a:r>
              <a:rPr b="1" i="1" lang="ru-RU" sz="1600" spc="-1" strike="noStrike">
                <a:solidFill>
                  <a:srgbClr val="00ffcc"/>
                </a:solidFill>
                <a:latin typeface="Arial"/>
              </a:rPr>
              <a:t>Щепанова Инесса Валериевна </a:t>
            </a:r>
            <a:br>
              <a:rPr sz="1600"/>
            </a:br>
            <a:r>
              <a:rPr b="1" i="1" lang="ru-RU" sz="1600" spc="-1" strike="noStrike">
                <a:solidFill>
                  <a:srgbClr val="00ffcc"/>
                </a:solidFill>
                <a:latin typeface="Arial"/>
              </a:rPr>
              <a:t>Тула, 2013</a:t>
            </a:r>
            <a:endParaRPr b="0" lang="en-US" sz="16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ffcc"/>
                </a:solidFill>
                <a:latin typeface="Arial"/>
              </a:rPr>
              <a:t>Организационное обеспечение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ожет в себя также включать создание ресурсных центров, например, для научно-технического творчества, интеграцию в открытое образовательное пространство на основе современных информационно-коммуникационных технологий, сетевое взаимодействие образовательных учреждений различных типов и видов для обеспечения максимального учета индивидуальных особенностей и потребностей обучающихс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ffcc"/>
                </a:solidFill>
                <a:latin typeface="Arial"/>
              </a:rPr>
              <a:t>Нормативное обеспечение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олжно создавать соответствующее правовое поле для организации взаимодействия школы с другими учреждениями и организациями, деятельности ее структурных подразделений, а также участников образовательного процесса, должно регулировать финансово-экономические процессы и оснащенность объектов инфраструктуры образовательного учрежд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ffcc"/>
                </a:solidFill>
                <a:latin typeface="Arial"/>
              </a:rPr>
              <a:t>Финансово-экономические условия</a:t>
            </a: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еспечение государственных гарантий прав граждан на получение общедоступного и бесплатного начального общего образования в ОУ посредством выделения субвенций местным бюджетам в размере, необходимом для реализации основных общеобразовательных программ, отнесено к полномочиям органов государственной власти субъекта Российской Федерации в сфере образования (пп. 6.1 п. 1 ст. 29 Закона Российской Федерации "Об образовании"). Согласно пункту 16 ФГОС НОО основная образовательная программа начального общего образования реализуется ОУ через учебный план и внеурочную деятельность. Таким образом, финансирование внеурочной деятельности отнесено к полномочиям органов государственной власти субъекта Российской Федерации в сфере образова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ffcc"/>
                </a:solidFill>
                <a:latin typeface="Arial"/>
              </a:rPr>
              <a:t>Научно-методическое обеспечение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Для образовательного учреждения это означает интеграцию в открытое научно-методическое пространство, обновление подходов к повышению профессиональной компетентности педагогов, в том числе через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иверсификацию форм методической работы в образовательном учреждени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иссеминацию передового педагогического опыта на основе новых информационно-коммуникационных технологи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недрение новых моделей повышения квалификации, в том числе на основе дистанционных образовательных технолог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ffcc"/>
                </a:solidFill>
                <a:latin typeface="Arial"/>
              </a:rPr>
              <a:t>Кадровые условия</a:t>
            </a:r>
            <a:r>
              <a:rPr b="0" lang="ru-RU" sz="3200" spc="-1" strike="noStrike">
                <a:solidFill>
                  <a:srgbClr val="00ffcc"/>
                </a:solidFill>
                <a:latin typeface="Arial"/>
              </a:rPr>
              <a:t> для реализации внеурочной деятельности: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комплектованность образовательного учреждения необходимыми педагогическими, руководящими и иными работникам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личие соответствующей квалификации педагогических и иных работников образовательного учреждени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епрерывность профессионального развития педагогических работников образовательного учрежд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ffcc"/>
                </a:solidFill>
                <a:latin typeface="Arial"/>
              </a:rPr>
              <a:t>В </a:t>
            </a:r>
            <a:r>
              <a:rPr b="1" i="1" lang="ru-RU" sz="3200" spc="-1" strike="noStrike">
                <a:solidFill>
                  <a:srgbClr val="00ffcc"/>
                </a:solidFill>
                <a:latin typeface="Arial"/>
              </a:rPr>
              <a:t>информационное обеспечение</a:t>
            </a:r>
            <a:r>
              <a:rPr b="0" lang="ru-RU" sz="3200" spc="-1" strike="noStrike">
                <a:solidFill>
                  <a:srgbClr val="00ffcc"/>
                </a:solidFill>
                <a:latin typeface="Arial"/>
              </a:rPr>
              <a:t> реализации внеурочной деятельности может быть включено: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ведение мониторинга профессионально-общественного мнения среди педагогов образовательного учреждения, обучающихся и родительской общественност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нформационно-коммуникационные технологии для организации взаимодействия образовательного учреждения с родительской общественностью, социальными партнерами, другими образовательными учреждениями, органами, осуществляющими управление в сфере образова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здание и ведение различных баз данных (нормативно-правовой, методической и других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нформационно-коммуникационные технологии, обеспечивающие процессы планирования, мотивации, контроля реализации внеурочной деятельно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ffcc"/>
                </a:solidFill>
                <a:latin typeface="Arial"/>
              </a:rPr>
              <a:t>Материально-техническое обеспечение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акон Российской Федерации "Об образовании" (в действующей редакции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Федеральный государственный образовательный стандарт начального общего образования (утвержден Приказом Минобрнауки России от 6 октября 2009 г. N 373, зарегистрирован в Минюсте России 22 декабря 2009 г., регистрационный номер 17785) с изменениями (утверждены Приказом Минобрнауки России от 26 ноября 2010 г. N 1241, зарегистрированы в Минюсте России 4 февраля 2011 г., регистрационный номер 19707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Федеральные требования к образовательным учреждениям в части минимальной оснащенности учебного процесса и оборудования учебных помещений (утверждены Приказом Минобрнауки России от 4 октября 2010 г. N 986, зарегистрированы в Минюсте России 3 февраля 2011 г., регистрационный номер 19682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ffcc"/>
                </a:solidFill>
                <a:latin typeface="Arial"/>
              </a:rPr>
              <a:t>Материально-техническое обеспечение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анПиН 2.4.2.2821-10 "Санитарно-эпидемиологические требования к условиям и организации обучения в общеобразовательных учреждениях" (утверждены Постановлением Главного государственного санитарного врача Российской Федерации от 29 декабря 2010 г. N 189, зарегистрированы в Минюсте России 3 марта 2011 г., регистрационный номер 19993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анитарно-эпидемиологические правила и нормативы "Санитарно-эпидемиологические требования к учреждениям дополнительного образования СанПиН 2.4.4.1251-03" (утверждены Постановлением Главного государственного санитарного врача Российской Федерации от 3 апреля 2003 г. N 27, зарегистрированы в Минюсте России 27 мая 2003 г., регистрационный номер 4594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Федеральные требования к образовательным учреждениям в части охраны здоровья обучающихся, воспитанников (утверждены Приказом Минобрнауки России от 28 декабря 2010 г. N 2106, зарегистрированы в Минюсте России 2 февраля 2011 г., регистрационный номер 19676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cccc"/>
                </a:solidFill>
                <a:latin typeface="Arial"/>
              </a:rPr>
              <a:t>Задачи: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беспечить благоприятную адаптацию ребенка в школе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птимизировать учебную нагрузку обучающихся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лучшить условия для развития ребенка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честь возрастные и индивидуальные особенности обучающихс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cccc"/>
                </a:solidFill>
                <a:latin typeface="Arial"/>
              </a:rPr>
              <a:t>Направления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7240" y="1750680"/>
            <a:ext cx="7769520" cy="434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портивно-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оздоровительно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духовно-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нравственно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оциально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общеинтеллектуально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общекультурное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3e3ff"/>
                </a:solidFill>
                <a:latin typeface="Arial"/>
              </a:rPr>
              <a:t>Согласно требованиям Федерального государственного образовательного стандарта начального общего образования ( ФГОС НОО) в Базисном учебном плане планируется до 10 часов ежегодно на организацию занятий по направлениям внеурочной деятельности, которые являются неотъемлемой частью образовательного процесса в школе.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19200" y="228240"/>
            <a:ext cx="80676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cccc"/>
                </a:solidFill>
                <a:latin typeface="Arial"/>
              </a:rPr>
              <a:t>Формы</a:t>
            </a: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кскурс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ружк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екц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нференци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испуты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школьные научные обществ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лимпиад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ревновани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исковые и научные исследовани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циальные проект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бщественно полезные практики и др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cccc"/>
                </a:solidFill>
                <a:latin typeface="Arial"/>
              </a:rPr>
              <a:t>Типы организационных моделей внеурочной деятельности</a:t>
            </a: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0760" y="1752120"/>
            <a:ext cx="8002440" cy="434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одель дополнительного образовани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одель «школы полного дня»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птимизационная модель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нновационно- образовательная модель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cccc"/>
                </a:solidFill>
                <a:latin typeface="Arial"/>
              </a:rPr>
              <a:t>Модель дополнительного образования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пирается на преимущественное использование потенциала внутришкольного дополнительного образования и на сотрудничество с учреждениями дополнительного образования дете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cccc"/>
                </a:solidFill>
                <a:latin typeface="Arial"/>
              </a:rPr>
              <a:t>Модель</a:t>
            </a:r>
            <a:br>
              <a:rPr sz="3200"/>
            </a:br>
            <a:r>
              <a:rPr b="1" lang="ru-RU" sz="3200" spc="-1" strike="noStrike">
                <a:solidFill>
                  <a:srgbClr val="33cccc"/>
                </a:solidFill>
                <a:latin typeface="Arial"/>
              </a:rPr>
              <a:t> «школы полного дня»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63320"/>
            <a:ext cx="8229600" cy="383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еализация внеурочной деятельности преимущественно воспитателями групп продленного дн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cccc"/>
                </a:solidFill>
                <a:latin typeface="Arial"/>
              </a:rPr>
              <a:t>Оптимизационная модель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7240" y="1600200"/>
            <a:ext cx="77695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одель внеурочной деятельности на основе оптимизации всех внутренних ресурсов образовательного учреждения предполагает, что в ее реализации принимают участие все педагогические работники данного учреждения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учителя, педагог-организатор, социальный педагог, педагог-психолог, учитель-дефектолог, учитель-логопед, воспитатель, старший вожатый, тьютор и другие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cccc"/>
                </a:solidFill>
                <a:latin typeface="Arial"/>
              </a:rPr>
              <a:t>Инновационно- образовательная модель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пирается на деятельность инновационной (экспериментальной, пилотной, внедренческой) площадки федерального, регионального, муниципального или институционального уровня, которая существует в образовательном учреждени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cccc"/>
                </a:solidFill>
                <a:latin typeface="Arial"/>
              </a:rPr>
              <a:t>Направления воспитательной работы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атриотическо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бразовательно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ектная деятельно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портивно-оздоровительно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Художественно-эстетическо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бщественно-полезная деятельно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cccc"/>
                </a:solidFill>
                <a:latin typeface="Arial"/>
              </a:rPr>
              <a:t>Патриотическое направление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120" y="8377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cccc"/>
                </a:solidFill>
                <a:latin typeface="Arial"/>
              </a:rPr>
              <a:t>Ведущие формы деятельности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бразовательные и краеведческие  экскурс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лассные часы на  изучение правовых норм государства, закон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ТД, праздники, викторины, познавательные игр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мотры-конкурсы, выстав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сследовательская деятельнос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Школьный муз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Этические беседы, уроки мужества, встречи с ветеранами ВОВ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cccc"/>
                </a:solidFill>
                <a:latin typeface="Arial"/>
              </a:rPr>
              <a:t>Образовательное направление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86800" cy="49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33cccc"/>
                </a:solidFill>
                <a:latin typeface="Arial"/>
              </a:rPr>
              <a:t>Ведущие формы деятельности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икторины, познавательные игры и бесед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етские исследовательские проект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нешкольные акции познавательной направленности (олимпиады, конференции учащихся, интеллектуальные марафоны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едметные недели, праздники, уроки Знаний, конкурсы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cccc"/>
                </a:solidFill>
                <a:latin typeface="Arial"/>
              </a:rPr>
              <a:t>Спортивно-оздоровительное направление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33cccc"/>
                </a:solidFill>
                <a:latin typeface="Arial"/>
              </a:rPr>
              <a:t>Ведущие формы деятельности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e3e3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 Narrow"/>
              </a:rPr>
              <a:t>Спортивно-массовые и физкультурно-оздоровительные общешкольные мероприятия: школьные спортивные турниры, соревнования, Дни Здоровь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e3e3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Narrow"/>
              </a:rPr>
              <a:t>Утренняя зарядка, физкультминутки на уроках, организация активных оздоровительных перемен и прогулок на свежем воздухе во время группы продленного дн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e3e3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Narrow"/>
              </a:rPr>
              <a:t>Контроль за соблюдением санитарно-гигиенических требован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e3e3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Narrow"/>
              </a:rPr>
              <a:t>Оформление уголков по технике безопасности, проведение инструктажа с детьм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e3e3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Narrow"/>
              </a:rPr>
              <a:t>Тематические беседы со школьным фельдшеро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e3e3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Narrow"/>
              </a:rPr>
              <a:t>Интерактивные игры, спортивные конкурсы в классе, викторины, проекты «Здоровье - плюс», обсуждение газетных и журнальных публикаций по теме «Спорт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e3e3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Narrow"/>
              </a:rPr>
              <a:t>Поощрение учащихся, демонстрирующих ответственное отношение к занятиям спортом, демонстрация спортивных достижений учащихся класс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e3e3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Narrow"/>
              </a:rPr>
              <a:t>Агитация и запись учащихся класса в спортивные сек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e3e3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Narrow"/>
              </a:rPr>
              <a:t>Организация походов выходного дн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05920" cy="556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Образовательное учреждение вправе самостоятельно выбирать направления внеурочной деятельности и увеличивать количество часов на определённый  вид деятельности, но не более чем 10 часов.</a:t>
            </a:r>
            <a:br>
              <a:rPr sz="4000"/>
            </a:b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cccc"/>
                </a:solidFill>
                <a:latin typeface="Arial"/>
              </a:rPr>
              <a:t>Художественно-эстетические направление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33cccc"/>
                </a:solidFill>
                <a:latin typeface="Arial"/>
              </a:rPr>
              <a:t>Ведущие формы деятельности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e3e3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Культпоходы в театры, музеи, выстав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e3e3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Концерты, инсценировки, праздники на уровне класса и школ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e3e3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Кружки художественного творчест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e3e3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Художественные выставки, фестивали искусств, спектакли в классе, школ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e3e3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Приглашение артистов театров города в школ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e3e3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Праздничное оформление школы и классных комнат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e3e3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55640" y="458640"/>
            <a:ext cx="7478640" cy="72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cccc"/>
                </a:solidFill>
                <a:latin typeface="Arial"/>
              </a:rPr>
              <a:t>Формы организации внеурочной деятельности по курсу «Технология»</a:t>
            </a:r>
            <a:br>
              <a:rPr sz="2400"/>
            </a:b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99ff"/>
                </a:solidFill>
                <a:latin typeface="Arial"/>
              </a:rPr>
              <a:t>индивидуальная творческая деятельность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по интересам в семье с последующим представлением творческих достижений на праздниках и выставках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99ff"/>
                </a:solidFill>
                <a:latin typeface="Arial"/>
              </a:rPr>
              <a:t>кружки, творческие группы и клубы по интересам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технические объединения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(ЛЕГО-клуб, техническое моделирование, авиамодельные, судомодельные, автомодельные кружки, «Юные конструкторы и изобретатели», «Оч. умелые ручки» и т. п.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художественно- прикладные кружки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(оригами, художественной вышивки, вязания, макраме, мягкой игрушки, бисероплетения, «Юный скульптор», «Золотая соломка», «Книжкина больница», «Куклы народов мира», «Букеты со всего света», «Украшения - своими руками», «Подарки и сувениры», «Театр на столе» и т. п.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cccc"/>
                </a:solidFill>
                <a:latin typeface="Arial"/>
              </a:rPr>
              <a:t>Варианты проектной деятельности в рамках курса «Литературное чтение»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99ff"/>
                </a:solidFill>
                <a:latin typeface="Arial"/>
              </a:rPr>
              <a:t>Тема: сказ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Проекты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здание сборника сказок об одном из животных (зайце, лисе, медведе, волке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ерои сказок в лепке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ерои сказок в рисунках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здание костюмов для сказочных персонажей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становка спектакля по мотивам одной из сказок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здание собственных сказок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ллаж «Заселим улицу сказочными домиками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cccc"/>
                </a:solidFill>
                <a:latin typeface="Arial"/>
              </a:rPr>
              <a:t>Примеры проектов в рамках курса «Математика»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99ff"/>
                </a:solidFill>
                <a:latin typeface="Arial"/>
              </a:rPr>
              <a:t>Темы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гры с числами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евозможные рисун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огические задачи.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агические квадра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таринные задачи.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«Фокусы с числами»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огические игр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«Развертки»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99ff"/>
                </a:solidFill>
                <a:latin typeface="Arial"/>
              </a:rPr>
              <a:t>Примеры проектов: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умажный домик с мебелью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умажные макеты транспорта (самолеты, корабли,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емпионат класса по логической игр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онкурс математических развлечений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Энциклопедия математических развлечений.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атематический праздник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cccc"/>
                </a:solidFill>
                <a:latin typeface="Arial"/>
              </a:rPr>
              <a:t>«Окружающий мир»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Проектная деятельность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способствует формированию общеучебных компетентностей: информационной, коммуникативной, социальной, а также включению учащихся в активный познавательный процесс, в ходе которого ученик сам формирует учебную проблему, осуществляет сбор необходимой информации, планирует варианты решения проблемы, делает выводы, анализирует свою деятельность (рефлексия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Внеурочная деятельность,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связанная с изучением курса «Окружающий мир», предусматривает организацию проектной деятельности, нацеленной на освоение содержания в процессе планирования и выполнения постепенно усложняющихся практических заданий, проектирование решения тех или иных проблем. Исследовательская проектная деятельность позволяет ученику самостоятельно осваивать содержание, работая с разнообразными источниками информации, приборами, лабораторным оборудованием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cccc"/>
                </a:solidFill>
                <a:latin typeface="Arial"/>
              </a:rPr>
              <a:t>Результативность воспитательного процесса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0769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остижение педагогом такого качества организации совместной деятельности воспитанников, ее видов и форм, при котором обеспечивается реальная возможность: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азностороннего 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личностного проявления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обогащения личного опыта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социально и личностно-значимым содержанием, 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продуктивности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их деятельности,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ыражаемой в соответствующих предметно-практических достижениях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147160" cy="76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cccc"/>
                </a:solidFill>
                <a:latin typeface="Arial"/>
              </a:rPr>
              <a:t>Образовательные результаты</a:t>
            </a:r>
            <a:r>
              <a:rPr b="1" lang="en-US" sz="2400" spc="-1" strike="noStrike">
                <a:solidFill>
                  <a:srgbClr val="33cccc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cccc"/>
                </a:solidFill>
                <a:latin typeface="Arial"/>
              </a:rPr>
              <a:t>внеучебной деятельности школьников</a:t>
            </a: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ервый уровень результатов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– приобретение школьником социальных знаний (об общественных нормах, об устройстве общества, о социально одобряемых и неодобряемых формах поведения в обществе и т.п.), понимания социальной реальности и повседневной жизни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торой уровень результатов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– формирование позитивных отношений школьника к базовым ценностям общества (человек, семья, Отечество, природа, мир, знания, труд, культура), ценностного отношения к социальной реальности в целом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ретий уровень результатов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– получение школьником опыта самостоятельного социального действи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«Действии для людей и на людях» (М.К. Мамардашвили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cccc"/>
                </a:solidFill>
                <a:latin typeface="Arial"/>
              </a:rPr>
              <a:t>Результаты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0769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1-й уровень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– школьник  знает и понимает общественную жизн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2-й уровень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– школьник ценит общественную жизн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3-й уровень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– школьник самостоятельно действует в общественной жизн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cccc"/>
                </a:solidFill>
                <a:latin typeface="Arial"/>
              </a:rPr>
              <a:t>Воспитательная работа </a:t>
            </a:r>
            <a:br>
              <a:rPr sz="2800"/>
            </a:br>
            <a:r>
              <a:rPr b="1" lang="ru-RU" sz="2800" spc="-1" strike="noStrike">
                <a:solidFill>
                  <a:srgbClr val="33cccc"/>
                </a:solidFill>
                <a:latin typeface="Arial"/>
              </a:rPr>
              <a:t>в классе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оцесс совместной деятельности классного руководителя, детей и взрослых по определению целей, содержания и способов организации воспитательного процесса и жизнедеятельности в классном сообществе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ffcc"/>
                </a:solidFill>
                <a:latin typeface="Arial"/>
              </a:rPr>
              <a:t>Заключение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дводя итог всему вышесказанному, хотелось бы сделать вывод о том, что модель «школы полного дня» обеспечивает все необходимые условия для реализации внеурочной деятельности в рамках федерального государственного образовательного стандарта начального общего образова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cccc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33cccc"/>
                </a:solidFill>
                <a:latin typeface="Arial"/>
              </a:rPr>
              <a:t>Внеурочная деятельность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бразовательная деятельность, осуществляемая в формах, отличных от классно-урочной, и направленная на достижение планируемых результатов освоения основной образовательной программы начального общего образовани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151920" y="533520"/>
            <a:ext cx="861084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истема внеурочной учебной деятельности рассматривается как неотъемлемый компонент образовательного процесса и школы, позволяющих не только расширить диапазон базового образования, но и получить специальные научные и профессиональные знания, навыки, умения, придать процессу образования творческий характер, обуславливая его целостность и многомерность в русле концепции непрерывного образова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ffcc"/>
                </a:solidFill>
                <a:latin typeface="Arial"/>
              </a:rPr>
              <a:t>Преимущества внеурочной деятельности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едоставление обучающимся возможности широкого спектра занятий, направленных на их развити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асы, отводимые на внеурочную деятельность, используются по желанию обучающихся и в формах, отличных от урочной системы обуч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147160" cy="669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cccc"/>
                </a:solidFill>
                <a:latin typeface="Arial"/>
              </a:rPr>
              <a:t>Внеурочная (внеучебная) деятельность учащихся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995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Деятельностная организация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на основе вариативной составляющей базисного учебного (образовательного) плана, организуемая участниками образовательного процесса, отличная от урочной системы обучения: экскурсии, кружки, секции, круглые столы, конференции, диспуты, КВНы, школьные научные сообщества, олимпиады, соревнования, поисковые и научные исследования и т.д.; занятия по направлениям внеучебной деятельности учащихся, позволяющие в полно мере реализовать Требования Федеральных государственных образовательных стандартов общего образования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Внеучебная деятельность школьников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– понятие, объединяющее все виды деятельности школьников (кроме учебной), в которых возможно и целесообразно решение задач их воспитания и социализации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cccc"/>
                </a:solidFill>
                <a:latin typeface="Arial"/>
              </a:rPr>
              <a:t>(Д.В. Григорьев, П.В. Степанов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cccc"/>
                </a:solidFill>
                <a:latin typeface="Arial"/>
              </a:rPr>
              <a:t>Центр теории воспитания ИТИП РАО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ffcc"/>
                </a:solidFill>
                <a:latin typeface="Arial"/>
              </a:rPr>
              <a:t>Внеурочная деятельность осуществляется  через: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ебный план ОУ, а именно, через часть, формируемую участниками образовательного процесса ( дополнительные образовательные модули, спецкурсы, школьные научные общества, учебные научные исследования, практикумы и т.д., проводимые в формах, отличных от урочной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ополнительные образовательные программы самого ОУ ( внутришкольная система дополнительного образования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разовательные программы учреждений дополнительного образования детей, а также учреждений культуры и спорт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533160" y="685800"/>
            <a:ext cx="83055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рганизацию деятельности групп продлённого дн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лассное руководство ( экскурсии, диспуты, круглые столы, соревнования, общественно полезные практики и т.д.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еятельность иных педагогических работников                 ( педагога-организатора, социального педагога, педагога-  психолога, старшего вожатого) в соответствии с должностными обязанностями квалификационных  характеристик должностей работников образова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нновационную ( экспериментальную) деятельность по разработке, апробации, внедрению новых образовательных программ, в том числе, учитывающих региональные особенно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05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ffcc"/>
                </a:solidFill>
                <a:latin typeface="Arial"/>
              </a:rPr>
              <a:t>Создание условий для реализации внеурочной деятельности</a:t>
            </a:r>
            <a:br>
              <a:rPr sz="3200"/>
            </a:br>
            <a:r>
              <a:rPr b="0" lang="ru-RU" sz="3200" spc="-1" strike="noStrike">
                <a:solidFill>
                  <a:srgbClr val="e3e3ff"/>
                </a:solidFill>
                <a:latin typeface="Arial"/>
              </a:rPr>
              <a:t> </a:t>
            </a: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ля успешного введения ФГОС НОО, в том числе и внеурочной деятельности необходимо проведение ряда мероприятий по следующим направлениям: организационному; нормативному; финансово-экономическому; информационному; научно-методическому; кадровому; материально-техническом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31T21:36:10Z</dcterms:created>
  <dc:creator>User</dc:creator>
  <dc:description/>
  <dc:language>en-US</dc:language>
  <cp:lastModifiedBy>школа</cp:lastModifiedBy>
  <dcterms:modified xsi:type="dcterms:W3CDTF">2013-12-12T18:05:22Z</dcterms:modified>
  <cp:revision>7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