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34AD-7A63-4C61-90CD-BA492B18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025E-C4C5-4FE4-B231-6E374FA8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5CD6-4B46-4C92-8B0F-96BBC2CEB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F59F-241B-467B-8B5A-63BBAB897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5325A-88A8-4905-AD65-8016A0B1F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FBED4-C7A6-484B-8705-4EAE018A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07DA7-F677-4D03-8457-B73E8D8B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EFF20-85D6-416A-98E4-45D32595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226B4-D06D-4C93-AA0F-CB28C427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62AB7-E85B-4827-9F28-4BDF2E0D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E22FD-3EAD-4068-9D44-6A158DB9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E95D-7E2D-4A94-AEF8-BB8890DA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04C7A-9C65-45E0-9667-857B4950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12A07-CC18-461A-88BA-9D3F26B9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E2C12-BB63-4098-81C5-4F26831A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3CA5F-1052-44D1-B101-554B4BB6A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CCD72-211C-4D2D-927F-85620118C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BA2C-53DD-4411-948E-05FE3BF7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EFFE-4952-460B-A1B3-27A1C990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DF4A-86D6-4433-AF1D-5E799F63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FD1A-817D-4510-8221-1D8B423A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B34D-C5F0-4BFD-8343-CAD0E6A0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846D-89AB-4589-B8B4-780E1CD4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CB38-6588-436D-8041-79E40419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DFA5-F622-4116-823D-5FFE9382B2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A3AB-9535-4123-B20F-B5C8B6F986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ffcc"/>
                </a:solidFill>
                <a:latin typeface="Arial"/>
              </a:rPr>
              <a:t>ГОУ ДПО ТО «ИПК и ППРО ТО» </a:t>
            </a:r>
            <a:br>
              <a:rPr sz="1600"/>
            </a:br>
            <a:r>
              <a:rPr b="1" i="1" lang="ru-RU" sz="1600" spc="-1" strike="noStrike">
                <a:solidFill>
                  <a:srgbClr val="00ffcc"/>
                </a:solidFill>
                <a:latin typeface="Arial"/>
              </a:rPr>
              <a:t>Кафедра технологий управления развитием образовательного учреждения и профессионального образования.</a:t>
            </a:r>
            <a:br>
              <a:rPr sz="1600"/>
            </a:br>
            <a:r>
              <a:rPr b="1" i="1" lang="ru-RU" sz="1600" spc="-1" strike="noStrike">
                <a:solidFill>
                  <a:srgbClr val="00ffcc"/>
                </a:solidFill>
                <a:latin typeface="Arial"/>
              </a:rPr>
              <a:t> Проект:                                                                                                                  «Внеурочная деятельность при введении ФГОС НОО второго поколения на первой ступени обучения». </a:t>
            </a:r>
            <a:br>
              <a:rPr sz="1600"/>
            </a:br>
            <a:r>
              <a:rPr b="1" i="1" lang="ru-RU" sz="1600" spc="-1" strike="noStrike">
                <a:solidFill>
                  <a:srgbClr val="00ffcc"/>
                </a:solidFill>
                <a:latin typeface="Arial"/>
              </a:rPr>
              <a:t>Слушатель курсов повышения квалификации по дополнительному профессиональному образованию по программе «Управление ОУ в условиях введения ФГОС» </a:t>
            </a:r>
            <a:br>
              <a:rPr sz="1600"/>
            </a:br>
            <a:r>
              <a:rPr b="1" i="1" lang="ru-RU" sz="1600" spc="-1" strike="noStrike">
                <a:solidFill>
                  <a:srgbClr val="00ffcc"/>
                </a:solidFill>
                <a:latin typeface="Arial"/>
              </a:rPr>
              <a:t>Щепанова Инесса Валериевна </a:t>
            </a:r>
            <a:br>
              <a:rPr sz="1600"/>
            </a:br>
            <a:r>
              <a:rPr b="1" i="1" lang="ru-RU" sz="1600" spc="-1" strike="noStrike">
                <a:solidFill>
                  <a:srgbClr val="00ffcc"/>
                </a:solidFill>
                <a:latin typeface="Arial"/>
              </a:rPr>
              <a:t>Тула, 2013</a:t>
            </a:r>
            <a:endParaRPr b="0" lang="en-US" sz="16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cc"/>
                </a:solidFill>
                <a:latin typeface="Arial"/>
              </a:rPr>
              <a:t>Организационное обеспечени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жет в себя также включать создание ресурсных центров, например, для научно-технического творчества, интеграцию в открытое образовательное пространство на основе современных информационно-коммуникационных технологий, сетевое взаимодействие образовательных учреждений различных типов и видов для обеспечения максимального учета индивидуальных особенностей и потребностей обучающих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cc"/>
                </a:solidFill>
                <a:latin typeface="Arial"/>
              </a:rPr>
              <a:t>Нормативное обеспечени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лжно создавать соответствующее правовое поле для организации взаимодействия школы с другими учреждениями и организациями, деятельности ее структурных подразделений, а также участников образовательного процесса, должно регулировать финансово-экономические процессы и оснащенность объектов инфраструктуры образовательного учрежд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cc"/>
                </a:solidFill>
                <a:latin typeface="Arial"/>
              </a:rPr>
              <a:t>Финансово-экономические условия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государственных гарантий прав граждан на получение общедоступного и бесплатного начального общего образования в ОУ посредством выделения субвенций местным бюджетам в размере, необходимом для реализации основных общеобразовательных программ, отнесено к полномочиям органов государственной власти субъекта Российской Федерации в сфере образования (пп. 6.1 п. 1 ст. 29 Закона Российской Федерации "Об образовании"). Согласно пункту 16 ФГОС НОО основная образовательная программа начального общего образования реализуется ОУ через учебный план и внеурочную деятельность. Таким образом, финансирование внеурочной деятельности отнесено к полномочиям органов государственной власти субъекта Российской Федерации в сфере образ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cc"/>
                </a:solidFill>
                <a:latin typeface="Arial"/>
              </a:rPr>
              <a:t>Научно-методическое обеспечени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ля образовательного учреждения это означает интеграцию в открытое научно-методическое пространство, обновление подходов к повышению профессиональной компетентности педагогов, в том числе через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версификацию форм методической работы в образовательном учрежден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ссеминацию передового педагогического опыта на основе новых информационно-коммуникационных технолог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едрение новых моделей повышения квалификации, в том числе на основе дистанционных образовательных технолог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cc"/>
                </a:solidFill>
                <a:latin typeface="Arial"/>
              </a:rPr>
              <a:t>Кадровые условия</a:t>
            </a: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для реализации внеурочной деятельности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комплектованность образовательного учреждения необходимыми педагогическими, руководящими и иными работника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личие соответствующей квалификации педагогических и иных работников образовательного учрежд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прерывность профессионального развития педагогических работников образовательного учрежд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cc"/>
                </a:solidFill>
                <a:latin typeface="Arial"/>
              </a:rPr>
              <a:t>В </a:t>
            </a:r>
            <a:r>
              <a:rPr b="1" i="1" lang="ru-RU" sz="3200" spc="-1" strike="noStrike">
                <a:solidFill>
                  <a:srgbClr val="00ffcc"/>
                </a:solidFill>
                <a:latin typeface="Arial"/>
              </a:rPr>
              <a:t>информационное обеспечение</a:t>
            </a: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реализации внеурочной деятельности может быть включено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дение мониторинга профессионально-общественного мнения среди педагогов образовательного учреждения, обучающихся и родительской обществен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ционно-коммуникационные технологии для организации взаимодействия образовательного учреждения с родительской общественностью, социальными партнерами, другими образовательными учреждениями, органами, осуществляющими управление в сфере образ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и ведение различных баз данных (нормативно-правовой, методической и других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ционно-коммуникационные технологии, обеспечивающие процессы планирования, мотивации, контроля реализации внеурочной дея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cc"/>
                </a:solidFill>
                <a:latin typeface="Arial"/>
              </a:rPr>
              <a:t>Материально-техническое обеспечени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кон Российской Федерации "Об образовании" (в действующей редакции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едеральный государственный образовательный стандарт начального общего образования (утвержден Приказом Минобрнауки России от 6 октября 2009 г. N 373, зарегистрирован в Минюсте России 22 декабря 2009 г., регистрационный номер 17785) с изменениями (утверждены Приказом Минобрнауки России от 26 ноября 2010 г. N 1241, зарегистрированы в Минюсте России 4 февраля 2011 г., регистрационный номер 19707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едеральные требования к образовательным учреждениям в части минимальной оснащенности учебного процесса и оборудования учебных помещений (утверждены Приказом Минобрнауки России от 4 октября 2010 г. N 986, зарегистрированы в Минюсте России 3 февраля 2011 г., регистрационный номер 19682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cc"/>
                </a:solidFill>
                <a:latin typeface="Arial"/>
              </a:rPr>
              <a:t>Материально-техническое обеспечени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нПиН 2.4.2.2821-10 "Санитарно-эпидемиологические требования к условиям и организации обучения в общеобразовательных учреждениях" (утверждены Постановлением Главного государственного санитарного врача Российской Федерации от 29 декабря 2010 г. N 189, зарегистрированы в Минюсте России 3 марта 2011 г., регистрационный номер 19993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нитарно-эпидемиологические правила и нормативы "Санитарно-эпидемиологические требования к учреждениям дополнительного образования СанПиН 2.4.4.1251-03" (утверждены Постановлением Главного государственного санитарного врача Российской Федерации от 3 апреля 2003 г. N 27, зарегистрированы в Минюсте России 27 мая 2003 г., регистрационный номер 4594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едеральные требования к образовательным учреждениям в части охраны здоровья обучающихся, воспитанников (утверждены Приказом Минобрнауки России от 28 декабря 2010 г. N 2106, зарегистрированы в Минюсте России 2 февраля 2011 г., регистрационный номер 19676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cc"/>
                </a:solidFill>
                <a:latin typeface="Arial"/>
              </a:rPr>
              <a:t>Задачи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спечить благоприятную адаптацию ребенка в школ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тимизировать учебную нагрузку обучающихс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лучшить условия для развития ребенк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сть возрастные и индивидуальные особенности обучающих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Arial"/>
              </a:rPr>
              <a:t>Направле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7240" y="1750680"/>
            <a:ext cx="7769520" cy="43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портивно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здоровительн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уховно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равственн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циальн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щеинтеллектуальн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щекультурно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Согласно требованиям Федерального государственного образовательного стандарта начального общего образования ( ФГОС НОО) в Базисном учебном плане планируется до 10 часов ежегодно на организацию занятий по направлениям внеурочной деятельности, которые являются неотъемлемой частью образовательного процесса в школе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9200" y="228240"/>
            <a:ext cx="80676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Arial"/>
              </a:rPr>
              <a:t>Формы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скурс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уж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ферен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спут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кольные научные обществ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лимпиа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ревнова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исковые и научные исследова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ые проек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щественно полезные практики и д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Arial"/>
              </a:rPr>
              <a:t>Типы организационных моделей внеурочной деятельности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0760" y="1752120"/>
            <a:ext cx="8002440" cy="434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одель дополнительного образова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одель «школы полного дня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тимизационная модел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новационно- образовательная модел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cc"/>
                </a:solidFill>
                <a:latin typeface="Arial"/>
              </a:rPr>
              <a:t>Модель дополнительного образования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ирается на преимущественное использование потенциала внутришкольного дополнительного образования и на сотрудничество с учреждениями дополнительного образования дет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cc"/>
                </a:solidFill>
                <a:latin typeface="Arial"/>
              </a:rPr>
              <a:t>Модель</a:t>
            </a:r>
            <a:br>
              <a:rPr sz="3200"/>
            </a:br>
            <a:r>
              <a:rPr b="1" lang="ru-RU" sz="3200" spc="-1" strike="noStrike">
                <a:solidFill>
                  <a:srgbClr val="33cccc"/>
                </a:solidFill>
                <a:latin typeface="Arial"/>
              </a:rPr>
              <a:t> «школы полного дня»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6332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ализация внеурочной деятельности преимущественно воспитателями групп продленного д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Arial"/>
              </a:rPr>
              <a:t>Оптимизационная модель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дель внеурочной деятельности на основе оптимизации всех внутренних ресурсов образовательного учреждения предполагает, что в ее реализации принимают участие все педагогические работники данного учреждения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учителя, педагог-организатор, социальный педагог, педагог-психолог, учитель-дефектолог, учитель-логопед, воспитатель, старший вожатый, тьютор и друг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Arial"/>
              </a:rPr>
              <a:t>Инновационно- образовательная модель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ирается на деятельность инновационной (экспериментальной, пилотной, внедренческой) площадки федерального, регионального, муниципального или институционального уровня, которая существует в образовательном учрежде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Arial"/>
              </a:rPr>
              <a:t>Направления воспитательной работы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триотичес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разователь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тная деятель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ртивно-оздоровитель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удожественно-эстетичес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щественно-полезная деятель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Arial"/>
              </a:rPr>
              <a:t>Патриотическое направление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cc"/>
                </a:solidFill>
                <a:latin typeface="Arial"/>
              </a:rPr>
              <a:t>Ведущие формы деятельност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разовательные и краеведческие  экскурс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ассные часы на  изучение правовых норм государства, закон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ТД, праздники, викторины, познавательные иг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мотры-конкурсы, выстав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следовательская деятель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кольный муз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ические беседы, уроки мужества, встречи с ветеранами В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Arial"/>
              </a:rPr>
              <a:t>Образовательное направление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8680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33cccc"/>
                </a:solidFill>
                <a:latin typeface="Arial"/>
              </a:rPr>
              <a:t>Ведущие формы деятельност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кторины, познавательные игры и бесе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тские исследовательские проек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школьные акции познавательной направленности (олимпиады, конференции учащихся, интеллектуальные марафоны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метные недели, праздники, уроки Знаний, конкурсы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Arial"/>
              </a:rPr>
              <a:t>Спортивно-оздоровительное направление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33cccc"/>
                </a:solidFill>
                <a:latin typeface="Arial"/>
              </a:rPr>
              <a:t>Ведущие формы деятельности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e3e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Спортивно-массовые и физкультурно-оздоровительные общешкольные мероприятия: школьные спортивные турниры, соревнования, Дни Здоров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e3e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Утренняя зарядка, физкультминутки на уроках, организация активных оздоровительных перемен и прогулок на свежем воздухе во время группы продленного дн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e3e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Контроль за соблюдением санитарно-гигиенических требов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e3e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Оформление уголков по технике безопасности, проведение инструктажа с деть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e3e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Тематические беседы со школьным фельдшер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e3e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Интерактивные игры, спортивные конкурсы в классе, викторины, проекты «Здоровье - плюс», обсуждение газетных и журнальных публикаций по теме «Спор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e3e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Поощрение учащихся, демонстрирующих ответственное отношение к занятиям спортом, демонстрация спортивных достижений учащихся клас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e3e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Агитация и запись учащихся класса в спортивные се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e3e3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Организация походов выходного дн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бразовательное учреждение вправе самостоятельно выбирать направления внеурочной деятельности и увеличивать количество часов на определённый  вид деятельности, но не более чем 10 часов.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Arial"/>
              </a:rPr>
              <a:t>Художественно-эстетические направление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33cccc"/>
                </a:solidFill>
                <a:latin typeface="Arial"/>
              </a:rPr>
              <a:t>Ведущие формы деятельности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ультпоходы в театры, музеи, выстав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нцерты, инсценировки, праздники на уровне класса и школ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ружки художественного творче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Художественные выставки, фестивали искусств, спектакли в классе, шко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иглашение артистов театров города в школ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аздничное оформление школы и классных комна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458640"/>
            <a:ext cx="7478640" cy="7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cc"/>
                </a:solidFill>
                <a:latin typeface="Arial"/>
              </a:rPr>
              <a:t>Формы организации внеурочной деятельности по курсу «Технология»</a:t>
            </a:r>
            <a:br>
              <a:rPr sz="24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99ff"/>
                </a:solidFill>
                <a:latin typeface="Arial"/>
              </a:rPr>
              <a:t>индивидуальная творческая деятельность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по интересам в семье с последующим представлением творческих достижений на праздниках и выставка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99ff"/>
                </a:solidFill>
                <a:latin typeface="Arial"/>
              </a:rPr>
              <a:t>кружки, творческие группы и клубы по интереса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ехнические объединения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(ЛЕГО-клуб, техническое моделирование, авиамодельные, судомодельные, автомодельные кружки, «Юные конструкторы и изобретатели», «Оч. умелые ручки» и т. п.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художественно- прикладные кружки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(оригами, художественной вышивки, вязания, макраме, мягкой игрушки, бисероплетения, «Юный скульптор», «Золотая соломка», «Книжкина больница», «Куклы народов мира», «Букеты со всего света», «Украшения - своими руками», «Подарки и сувениры», «Театр на столе» и т. п.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cc"/>
                </a:solidFill>
                <a:latin typeface="Arial"/>
              </a:rPr>
              <a:t>Варианты проектной деятельности в рамках курса «Литературное чтение»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Тема: ска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оек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сборника сказок об одном из животных (зайце, лисе, медведе, волк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рои сказок в лепке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рои сказок в рисунках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костюмов для сказочных персонаж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ановка спектакля по мотивам одной из сказо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собственных сказ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ллаж «Заселим улицу сказочными домикам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cc"/>
                </a:solidFill>
                <a:latin typeface="Arial"/>
              </a:rPr>
              <a:t>Примеры проектов в рамках курса «Математика»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99ff"/>
                </a:solidFill>
                <a:latin typeface="Arial"/>
              </a:rPr>
              <a:t>Тем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гры с числам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возможные рисун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огические задачи.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гические квадр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ринные задачи.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Фокусы с числами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огические иг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Развертки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Примеры проектов: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мажный домик с мебелью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мажные макеты транспорта (самолеты, корабли,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мпионат класса по логической игр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курс математических развлечений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нциклопедия математических развлечений.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й праздни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Arial"/>
              </a:rPr>
              <a:t>«Окружающий мир»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Проектная деятельно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пособствует формированию общеучебных компетентностей: информационной, коммуникативной, социальной, а также включению учащихся в активный познавательный процесс, в ходе которого ученик сам формирует учебную проблему, осуществляет сбор необходимой информации, планирует варианты решения проблемы, делает выводы, анализирует свою деятельность (рефлексия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Внеурочная деятельность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вязанная с изучением курса «Окружающий мир», предусматривает организацию проектной деятельности, нацеленной на освоение содержания в процессе планирования и выполнения постепенно усложняющихся практических заданий, проектирование решения тех или иных проблем. Исследовательская проектная деятельность позволяет ученику самостоятельно осваивать содержание, работая с разнообразными источниками информации, приборами, лабораторным оборудование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cc"/>
                </a:solidFill>
                <a:latin typeface="Arial"/>
              </a:rPr>
              <a:t>Результативность воспитательного процесса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стижение педагогом такого качества организации совместной деятельности воспитанников, ее видов и форм, при котором обеспечивается реальная возможность: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ностороннего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личностного проявлен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богащения личного опыт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социально и личностно-значимым содержанием,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одуктивност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их деятельности,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ражаемой в соответствующих предметно-практических достижения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147160" cy="76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cc"/>
                </a:solidFill>
                <a:latin typeface="Arial"/>
              </a:rPr>
              <a:t>Образовательные результаты</a:t>
            </a: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cccc"/>
                </a:solidFill>
                <a:latin typeface="Arial"/>
              </a:rPr>
              <a:t>внеучебной деятельности школьников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ый уровень результат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приобретение школьником социальных знаний (об общественных нормах, об устройстве общества, о социально одобряемых и неодобряемых формах поведения в обществе и т.п.), понимания социальной реальности и повседневной жизн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торой уровень результат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формирование позитивных отношений школьника к базовым ценностям общества (человек, семья, Отечество, природа, мир, знания, труд, культура), ценностного отношения к социальной реальности в цел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етий уровень результат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получение школьником опыта самостоятельного социального действ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Действии для людей и на людях» (М.К. Мамардашвили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Arial"/>
              </a:rPr>
              <a:t>Результаты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-й уровен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школьник  знает и понимает общественную жиз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-й уровен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школьник ценит общественную жиз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-й уровен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школьник самостоятельно действует в общественной жи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Arial"/>
              </a:rPr>
              <a:t>Воспитательная работа </a:t>
            </a:r>
            <a:br>
              <a:rPr sz="2800"/>
            </a:br>
            <a:r>
              <a:rPr b="1" lang="ru-RU" sz="2800" spc="-1" strike="noStrike">
                <a:solidFill>
                  <a:srgbClr val="33cccc"/>
                </a:solidFill>
                <a:latin typeface="Arial"/>
              </a:rPr>
              <a:t>в классе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цесс совместной деятельности классного руководителя, детей и взрослых по определению целей, содержания и способов организации воспитательного процесса и жизнедеятельности в классном сообществ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cc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водя итог всему вышесказанному, хотелось бы сделать вывод о том, что модель «школы полного дня» обеспечивает все необходимые условия для реализации внеурочной деятельности в рамках федерального государственного образовательного стандарта начального общего образ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33cccc"/>
                </a:solidFill>
                <a:latin typeface="Arial"/>
              </a:rPr>
              <a:t>Внеурочная деятельност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разовательная деятельность, осуществляемая в формах, отличных от классно-урочной, и направленная на достижение планируемых результатов освоения основной образовательной программы начального общего образова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51920" y="533520"/>
            <a:ext cx="86108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стема внеурочной учебной деятельности рассматривается как неотъемлемый компонент образовательного процесса и школы, позволяющих не только расширить диапазон базового образования, но и получить специальные научные и профессиональные знания, навыки, умения, придать процессу образования творческий характер, обуславливая его целостность и многомерность в русле концепции непрерывного образ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cc"/>
                </a:solidFill>
                <a:latin typeface="Arial"/>
              </a:rPr>
              <a:t>Преимущества внеурочной деятельности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оставление обучающимся возможности широкого спектра занятий, направленных на их развит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ы, отводимые на внеурочную деятельность, используются по желанию обучающихся и в формах, отличных от урочной системы обуч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14716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cc"/>
                </a:solidFill>
                <a:latin typeface="Arial"/>
              </a:rPr>
              <a:t>Внеурочная (внеучебная) деятельность учащихся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99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еятельностная организация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на основе вариативной составляющей базисного учебного (образовательного) плана, организуемая участниками образовательного процесса, отличная от урочной системы обучения: экскурсии, кружки, секции, круглые столы, конференции, диспуты, КВНы, школьные научные сообщества, олимпиады, соревнования, поисковые и научные исследования и т.д.; занятия по направлениям внеучебной деятельности учащихся, позволяющие в полно мере реализовать Требования Федеральных государственных образовательных стандартов общего образования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неучебная деятельность школьников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– понятие, объединяющее все виды деятельности школьников (кроме учебной), в которых возможно и целесообразно решение задач их воспитания и социализаци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cc"/>
                </a:solidFill>
                <a:latin typeface="Arial"/>
              </a:rPr>
              <a:t>(Д.В. Григорьев, П.В. Степанов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cc"/>
                </a:solidFill>
                <a:latin typeface="Arial"/>
              </a:rPr>
              <a:t>Центр теории воспитания ИТИП РАО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cc"/>
                </a:solidFill>
                <a:latin typeface="Arial"/>
              </a:rPr>
              <a:t>Внеурочная деятельность осуществляется  через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план ОУ, а именно, через часть, формируемую участниками образовательного процесса ( дополнительные образовательные модули, спецкурсы, школьные научные общества, учебные научные исследования, практикумы и т.д., проводимые в формах, отличных от урочной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полнительные образовательные программы самого ОУ ( внутришкольная система дополнительного образования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овательные программы учреждений дополнительного образования детей, а также учреждений культуры и спор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33160" y="68580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ганизацию деятельности групп продлённого дн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лассное руководство ( экскурсии, диспуты, круглые столы, соревнования, общественно полезные практики и т.д.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ятельность иных педагогических работников                 ( педагога-организатора, социального педагога, педагога-  психолога, старшего вожатого) в соответствии с должностными обязанностями квалификационных  характеристик должностей работников образ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новационную ( экспериментальную) деятельность по разработке, апробации, внедрению новых образовательных программ, в том числе, учитывающих региональные особен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cc"/>
                </a:solidFill>
                <a:latin typeface="Arial"/>
              </a:rPr>
              <a:t>Создание условий для реализации внеурочной деятельности</a:t>
            </a:r>
            <a:br>
              <a:rPr sz="3200"/>
            </a:b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успешного введения ФГОС НОО, в том числе и внеурочной деятельности необходимо проведение ряда мероприятий по следующим направлениям: организационному; нормативному; финансово-экономическому; информационному; научно-методическому; кадровому; материально-техническом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21:36:10Z</dcterms:created>
  <dc:creator>User</dc:creator>
  <dc:description/>
  <dc:language>en-US</dc:language>
  <cp:lastModifiedBy>школа</cp:lastModifiedBy>
  <dcterms:modified xsi:type="dcterms:W3CDTF">2013-12-12T18:05:22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