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9C8-1471-41E9-A145-9F9F9115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3D6-C9F1-4D74-B648-1172C31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432-C3CD-489A-89AC-167CB856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705-E94D-4AE1-9F8C-2B1292B4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AAB-E906-4792-943D-4F74BEEF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B5E-DD5C-4173-B574-68B52CF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AF3-1452-40F6-8A64-86E55696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366-98BF-4356-9889-E1689CCC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8A1-34F6-4323-AD46-47ADCB9D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2E3-2C57-4599-9D5F-F5CB707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AF8-29E8-4622-9F5F-38EED70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00E-6A6A-46E9-89B6-A9AF41A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C94-A22D-4E1C-AA93-4FB7C679D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ИЕМОВ ТЕХНОЛОГИИ РАЗВИТИЯ КРИТИЧЕСКОГО МЫШЛЕНИЯ НА УРОКАХ ЛИТЕРАТУРНОГО ЧТ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720" y="5105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Костина Н. 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-СОШ №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365640" y="45720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80880" y="99828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бе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ьшие, белоснеж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нуются, тоскуют, пережив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бединая верность, преданность, друж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крас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743200" y="282708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Calibri"/>
              </a:rPr>
              <a:t>Тар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Calibri"/>
              </a:rPr>
              <a:t>Добрый, стар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Calibri"/>
              </a:rPr>
              <a:t>Ухаживает, наблюдает, пережив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Calibri"/>
              </a:rPr>
              <a:t>Многое в жизни Тарас поним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Calibri"/>
              </a:rPr>
              <a:t>Г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676520" y="4579560"/>
            <a:ext cx="601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вная, мил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омнила, приехала, забр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ромная радость переполняет ме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асть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685800" y="23623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Желание маленькой  Нади увидеть слона – каприз или мечта?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кажется более невозможным: слон в комнате или выздоровление девочки благодаря слону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чем этот рассказ: о силе родительской любви или о том, что сбывшаяся мечта – самое лучшее лекарство?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33520" y="45720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«Перекрестная дискуссия»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едполагает столкновение противоположных точек зр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7200" y="709920"/>
            <a:ext cx="8153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емы технологии критического мышления способствуют лучшему запоминанию изученного материала, развитию познавательной деятельности, активизируют деятельность обучающихся на уроке. Дети учатся не только овладевать информацией, но и рассматривать ее с различных точек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рения, критически оценивать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мысливать, приме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дзаголовок 2"/>
          <p:cNvSpPr/>
          <p:nvPr/>
        </p:nvSpPr>
        <p:spPr>
          <a:xfrm>
            <a:off x="685800" y="53352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т ничего нового под солнцем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ть кое-что старое, чего мы не знаем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енс Пи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609480" y="170640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еводе с латинского языка «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нов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означает обновление, новшество или изменени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ельно к педагогическому процессу инновация означает введение нового в цели, содержание, методы и формы обучения и воспитания, организацию совместной деятельности учителя и учащего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685800" y="19051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й текст обладает свойством «выдавать различным читателям различную информацию  каждому в меру его понимания… именно ту, в которой он нуждается и к восприятию которой подготовлен»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 Линдс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38080" y="53352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содерж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608200" y="609480"/>
            <a:ext cx="34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инсе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609480" y="161208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«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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»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Я это знаю», в тексте ребенок встречает знаком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«–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, что читает ребенок, противоречит тому, что он знал или дум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«+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я является для ребенка н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«?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огое осталось неясным и хотелось бы получить более подробную информацию по данному вопрос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311120"/>
          <a:ext cx="7839000" cy="3421080"/>
        </p:xfrm>
        <a:graphic>
          <a:graphicData uri="http://schemas.openxmlformats.org/drawingml/2006/table">
            <a:tbl>
              <a:tblPr/>
              <a:tblGrid>
                <a:gridCol w="2438280"/>
                <a:gridCol w="2570400"/>
                <a:gridCol w="28303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ни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ня Эз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сня И.А. Кры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орон и лисиц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орона и Лисиц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рои 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рон, лис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рона, Лис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ози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аль в конце 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аль в начале 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чьих уст звуч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ал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уст лис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уст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но ли прочитать по роля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эзия (стихотвор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0" y="45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нцептуальная таб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440520" y="434880"/>
            <a:ext cx="20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ласт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"/>
          <p:cNvSpPr/>
          <p:nvPr/>
        </p:nvSpPr>
        <p:spPr>
          <a:xfrm>
            <a:off x="1600200" y="114300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 ночи в произведениях искус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609480" y="2057400"/>
            <a:ext cx="21337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581280" y="20574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6553080" y="2057400"/>
            <a:ext cx="15354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6"/>
          <p:cNvSpPr/>
          <p:nvPr/>
        </p:nvSpPr>
        <p:spPr>
          <a:xfrm>
            <a:off x="380880" y="2895480"/>
            <a:ext cx="25909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А. С. Пушкин «Тиха украинская ночь…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6"/>
          <p:cNvSpPr/>
          <p:nvPr/>
        </p:nvSpPr>
        <p:spPr>
          <a:xfrm>
            <a:off x="3200400" y="2895480"/>
            <a:ext cx="25909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уинджи «Лунная ночь на Днепр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6"/>
          <p:cNvSpPr/>
          <p:nvPr/>
        </p:nvSpPr>
        <p:spPr>
          <a:xfrm>
            <a:off x="6019920" y="2895480"/>
            <a:ext cx="259056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ван Бетховен «Лунная сонат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380880" y="41911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581280" y="41911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т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943600" y="411480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сть, темп, то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286000" y="5410080"/>
            <a:ext cx="5181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ёмы создания обр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AutoShape 9"/>
          <p:cNvCxnSpPr/>
          <p:nvPr/>
        </p:nvCxnSpPr>
        <p:spPr>
          <a:xfrm flipH="1">
            <a:off x="4419360" y="5005440"/>
            <a:ext cx="2160" cy="40536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4" name="AutoShape 9"/>
          <p:cNvCxnSpPr/>
          <p:nvPr/>
        </p:nvCxnSpPr>
        <p:spPr>
          <a:xfrm flipH="1">
            <a:off x="6171480" y="4952880"/>
            <a:ext cx="764280" cy="45792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5" name="AutoShape 9"/>
          <p:cNvCxnSpPr/>
          <p:nvPr/>
        </p:nvCxnSpPr>
        <p:spPr>
          <a:xfrm>
            <a:off x="2287440" y="4952880"/>
            <a:ext cx="913680" cy="45792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6" name="AutoShape 9"/>
          <p:cNvCxnSpPr/>
          <p:nvPr/>
        </p:nvCxnSpPr>
        <p:spPr>
          <a:xfrm flipH="1">
            <a:off x="4341600" y="3962160"/>
            <a:ext cx="2160" cy="23076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7" name="AutoShape 9"/>
          <p:cNvCxnSpPr>
            <a:stCxn id="58" idx="4"/>
            <a:endCxn id="61" idx="0"/>
          </p:cNvCxnSpPr>
          <p:nvPr/>
        </p:nvCxnSpPr>
        <p:spPr>
          <a:xfrm flipH="1">
            <a:off x="7276680" y="3962160"/>
            <a:ext cx="38880" cy="15300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8" name="AutoShape 9"/>
          <p:cNvCxnSpPr>
            <a:stCxn id="56" idx="4"/>
            <a:endCxn id="59" idx="0"/>
          </p:cNvCxnSpPr>
          <p:nvPr/>
        </p:nvCxnSpPr>
        <p:spPr>
          <a:xfrm flipH="1">
            <a:off x="1674000" y="3963600"/>
            <a:ext cx="3960" cy="22932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69" name="AutoShape 9"/>
          <p:cNvCxnSpPr/>
          <p:nvPr/>
        </p:nvCxnSpPr>
        <p:spPr>
          <a:xfrm flipH="1">
            <a:off x="4341600" y="2592000"/>
            <a:ext cx="3600" cy="30564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70" name="AutoShape 9"/>
          <p:cNvCxnSpPr>
            <a:stCxn id="55" idx="2"/>
            <a:endCxn id="58" idx="0"/>
          </p:cNvCxnSpPr>
          <p:nvPr/>
        </p:nvCxnSpPr>
        <p:spPr>
          <a:xfrm flipH="1">
            <a:off x="7314840" y="2590920"/>
            <a:ext cx="7200" cy="30528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71" name="AutoShape 9"/>
          <p:cNvCxnSpPr/>
          <p:nvPr/>
        </p:nvCxnSpPr>
        <p:spPr>
          <a:xfrm flipH="1">
            <a:off x="1599840" y="2590560"/>
            <a:ext cx="2160" cy="30672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72" name="AutoShape 9"/>
          <p:cNvCxnSpPr/>
          <p:nvPr/>
        </p:nvCxnSpPr>
        <p:spPr>
          <a:xfrm>
            <a:off x="6095520" y="1676520"/>
            <a:ext cx="1218600" cy="38160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73" name="AutoShape 9"/>
          <p:cNvCxnSpPr/>
          <p:nvPr/>
        </p:nvCxnSpPr>
        <p:spPr>
          <a:xfrm flipH="1">
            <a:off x="1676160" y="1676520"/>
            <a:ext cx="915120" cy="38160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  <p:cxnSp>
        <p:nvCxnSpPr>
          <p:cNvPr id="74" name="AutoShape 9"/>
          <p:cNvCxnSpPr/>
          <p:nvPr/>
        </p:nvCxnSpPr>
        <p:spPr>
          <a:xfrm flipH="1">
            <a:off x="4343040" y="1676520"/>
            <a:ext cx="2160" cy="381600"/>
          </a:xfrm>
          <a:prstGeom prst="straightConnector1">
            <a:avLst/>
          </a:prstGeom>
          <a:ln cap="rnd" w="3816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619280" y="6094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Calibri"/>
              </a:rPr>
              <a:t>Чтение с остановка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85800" y="13716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при знакомстве с произведением. Задания и различные виды вопросов (простые, уточняющие, интерпретационные, творческие, оценочные, практические) формулируются с учетом уровней познавательной деятель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533520" y="632880"/>
            <a:ext cx="8001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адия вызов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бращение к личному опыту детей, помогает подготовить обучающихся к личностному восприятию произведения. Повышают интерес к чтению обсуждение заглавия, которое может многое сообщить о предлагаемом для чтения произведении, а также прогноз его содерж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адия осмысления содерж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текст читается фрагментами, анализируется и осуществляется прогноз дальнейшего развития сюжета. Всегда хочется заглянуть вперед, узнать, что произойдет с героями, какие впереди неожиданные повороты сюжета, а читая дальше, проверить свое предположение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адия рефлекс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ажно осмысление текста как единого целого, с использованием различных форм работы: творческого письма, эссе по впечатлениям от рассказа, сочинения-рассуждения, дискуссии, совместного поиска. Можно предложить выбрать пословицу, которая могла бы послужить эпиграфом к произвед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---</cp:lastModifiedBy>
  <dcterms:modified xsi:type="dcterms:W3CDTF">2016-02-18T18:48:18Z</dcterms:modified>
  <cp:revision>8</cp:revision>
  <dc:subject/>
  <dc:title>При использовании шаблона ссылка на Pedsovet.su обязательна</dc:title>
</cp:coreProperties>
</file>