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EF9-B11D-4BFF-B669-FC3BB2D6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F07-49BC-41B6-8B4C-D7959E43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FFF-A282-44FB-AAC3-A671ECF3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607-F6F7-43BA-A611-A9269759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E2F-F2E9-4F8C-B8BA-3712CA49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DC6-F5DC-499B-85CC-5EE50213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0BD-D40F-4188-B93D-4A1D7B8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4C2-A463-4BFA-8712-1B913D7E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BD7-397E-481A-8AAF-E81A7E0B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C04-756C-4399-AF90-954DC85A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1B4-3D37-4CE7-8531-DEFD3B6F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DE8-AE2B-4B06-9B64-FB52FD96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552C-1106-4930-9615-7965D03EF5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479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395280" y="40464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6659640" y="270828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еятельность логопе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76464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Диагност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с таблицами, списками, отчетами (создание базы данных по итогам диагностики; проведение мониторинга работы; отслеживание динамики работы; составление графиков и диаграм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рофилактика, коррекция речевых нарушений, развитие ре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ые пособия для демонстрации на компьютерной технике, мультимедийном проекторе, видео и аудиотехни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компьютерные игры («Развитие речи. Учимся говорить правильно», «Игры для «Тигры», «Домашний логопед», игры – раскрас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ы - презен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собственных презент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Работа с родителя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ен с коллегами информацией с помощью электронной поч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ие в работе сетевых профессиональных сообществ, чатов, on-line конфер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ие на дистанционных курсах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 на сайтах необходимых информационных матери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ются презентаций при подготовке к совместным мероприятиям  педагогов с  родител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можность консультирования родителей, педагогов, используя возможности Интерн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9280" y="98100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бор иллюстративного материала к занятиям и для оформления стендов, группы, кабинетов (сканирование, интернет, принтер, презентация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Компьютер позволит не писать отчеты и анализы каждый раз, а достаточно набрать один раз схему и в дальнейшем только вносить необходимые измен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Создание презентаций в программе Рower Рoint для повышения эффективности образовательных занятий с детьми и педагогической компетенции у родителей в процессе проведения родительских собран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 ставят в центр всей системы дошкольного образования личность ребенка, обеспечение комфортных условий в семье и дошкольном учреждении, бесконфликтных и безопасных условий ее развития, реализация имеющихся природных потенци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технология реализуется в развивающей среде, отвечающей требованиям содержания новых образовательных пр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348000" y="4627440"/>
            <a:ext cx="2303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4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7143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ения индивидуального образовательного маршрута воспит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проведения даёт свои положительные результа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ет толерантное отношение к личности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ует базис личностной культуры с сохранением индивидуальности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траивание между педагогом и ребенком партнерских  отно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 уровень мотивации ребёнка к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164360" y="5351400"/>
            <a:ext cx="1955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ся как целостное образование, охватывающее определенную часть учебного процесса и объединенное общим содержанием, сюжетом, персонажем. 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ление игровых технологий из отдельных игр и элементов - забота каждого воспитател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716120" y="458640"/>
            <a:ext cx="624060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окументы ДО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Основная образовательная програм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чебный-пл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лендарный план графи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чая программа педаг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ТРИЗ- технологии в дошкольном возрасте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то привить ребенку радость творческих открыт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«Мнемотехнологи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мотехника-  это своего рода схемы в основе их лежат ассоциации, которые помогают запоминать и воспроизводить информаци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3466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Результа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и могут придумывать сказки на любую тему, используя лексику, соблюдая общие принципы построения сюж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ее воспринимают и перерабатывают зрительную информацию с последующим воспроизведе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ы работы с мнемотаблицами значительно сокращают время обучения до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опорных рисунков способствуют быстрому   заучиванию стихотвор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635280" y="442908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мотехнолог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Здоровьесберегающие педагогические технологи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Технологии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678816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о отметить, что применение проектных технологий не может существовать без использования ТРИЗ-технологии (технологии решения изобретательских задач). Поэтому при организации работы над творческим проектом воспитанникам предлагается проблемная  задача, которую можно решить, что-то исследуя или проводя экспери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1584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погружение» в краски, звуки, запахи и образы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удовые поручения, действ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р, в котором развивается современный  ребенок,  коренным образом отличается от мира,   в котором выросли его родители. Это предъявляет качественно новые требования к дошкольному воспитанию как первому звену непрерывного образования: образования с использованием современных информационных технологий (компьютер, интерактивная доска, планшет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21589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тизация общества ставит перед педагогами-дошкольникам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ти в ногу со времен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ть для ребенка проводником  в мир новых технолог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авником в выборе  компьютерных программ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основы информационной культуры его лич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сить профессиональный уровень педагогов и компетентность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этих задач  не возможно без актуализации и пересмотра всех направлений работы детского сада в контексте информат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4716360" y="4941720"/>
            <a:ext cx="17272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RePack by Diakov</cp:lastModifiedBy>
  <dcterms:modified xsi:type="dcterms:W3CDTF">2016-04-16T20:09:44Z</dcterms:modified>
  <cp:revision>133</cp:revision>
  <dc:subject/>
  <dc:title>Слайд 1</dc:title>
</cp:coreProperties>
</file>