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284-85BB-46AC-A837-E44294C81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7EA-D8C1-4948-B111-6146E2D51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4B7-A822-4FBF-8A7F-07682EAD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449-C3DD-4C61-AAF2-CA97AD82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F85-9394-45FE-8C9D-5B9883F2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F62-81FF-48E2-B904-F9A23B8A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CE25-C40C-4DA8-8A3D-A57DAEC6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0FEF-1428-4CC2-B94D-3FEC6957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2A5-85C0-460C-B6F1-CA2ED435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BAA-6A38-4CC1-BAC2-9BB63804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F1A-7D58-4B62-9930-2571460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9D5-B324-446B-86E8-4AF3D37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50E-7062-46EE-B864-195D6C1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D06-0324-4B6A-A812-2D71517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3B5-C07C-4EAC-BA50-4A04CB05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8B68-ADE6-4B5E-AAA4-09A6B82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3E97-38AA-4227-B5C5-640ABB0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D42-BEA3-4F4A-B98E-9E0FE735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7F2-DD19-46AA-85B4-3D10791B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4117-B1FB-4B36-90CC-359C35F2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4CE8-3332-4439-97A4-398B73D2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F873-421E-4C83-A6E2-4C78EF24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9E84-7EA7-4B62-B157-F9AF8D8A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010D-F375-46B3-8023-6161CB22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ECD-9289-49B0-B39C-AADB36F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72CD-3DB2-4FE7-9BA8-F2801690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6F78-B1A9-43F3-8C4A-3557954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B6A3-C8BC-4B7F-B3E0-217C9B4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9E07-D932-40B8-B703-00FF799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116F-1D69-4A8C-A45A-7EAAB1B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EE6C-A6CB-4C84-87E8-46F0C206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03F2-9ECD-478D-ADC1-C0AE5D89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1A4-9659-4597-98D8-69A9BC90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C62-8DB0-41B7-975D-62C6CEF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7E2-9879-438B-B539-A9DB1E28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549-9086-4252-BE77-AD51C808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FDF-A498-4444-99C1-DDF9F70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583-3119-41C8-81AE-8F0BD38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27C-999A-4EB2-B4CB-0B3F67E6EE6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DED-39D6-4FB9-88CE-0AF6991ADD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DE6-EAE2-4D1D-8DD3-B6BB521D012F}" type="slidenum">
              <a:rPr b="0" lang="ru-R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Tahoma"/>
              </a:rPr>
              <a:t>ЗДОРОВЬЕСБЕРЕГАЮЩИЕ ТЕХНОЛОГИИ В ДОУ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190760" y="411480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НТСТРУКТОР П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ИЗИЧЕСКОЙ КУЛЬТУР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СКОВЫХ Н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ДЕТСКИЙ САД № 259 ОАО «РЖ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Т. НОВЫЙ УРГА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P1010071"/>
          <p:cNvPicPr/>
          <p:nvPr/>
        </p:nvPicPr>
        <p:blipFill>
          <a:blip r:embed="rId1"/>
          <a:stretch/>
        </p:blipFill>
        <p:spPr>
          <a:xfrm>
            <a:off x="380880" y="3657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50" name="Безымянный.wma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оздание экологически чистого (адаптационного, реабилитационного, образовательного) пространства для каждого ребенка. Только в этих условиях ДОУ сможет раскрыть индивидуальность каждого воспитанника. Задачей педагога становится не формирование личности с заданными свойствами, а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мощь ребенку в познании и сотворении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учение и воспитание детей сообразно природе каждого, приспособление содержания, технологий и условий воспитания и обучения к ребенку, а не наобор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51920" y="228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Воспитание у детей потребности в здоровье, формирование у них элементарных представлений о здоровом образе жизни и выработка индивидуального способа валеологически  обоснован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C:\Users\наташа\Desktop\ФОТО ДОСУГ\WP_20131115_037.jpg"/>
          <p:cNvPicPr/>
          <p:nvPr/>
        </p:nvPicPr>
        <p:blipFill>
          <a:blip r:embed="rId1"/>
          <a:stretch/>
        </p:blipFill>
        <p:spPr>
          <a:xfrm>
            <a:off x="2514600" y="3200400"/>
            <a:ext cx="6058080" cy="3402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alibri"/>
              </a:rPr>
              <a:t>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ретч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итб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итмопл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зыкально-ритмическая гимна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инамические па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вижные и спортивны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здоровительный бе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лакс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хнологии эстетической направл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пальчико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для г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дыхатель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бодрящ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корригирующ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имнастика ортопед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наташа\Desktop\ФОТО ДОСУГ\WP_20131115_024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98880" cy="22464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a1"/>
                </a:solidFill>
                <a:latin typeface="Calibri"/>
              </a:rPr>
              <a:t>Технологии обучения здоровому образу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культурное за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блемно-игровые (игротренинги и игротерап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оммуникативны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нятия из серии «Здоровь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амо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очечный масс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иологическая обратная связь (БО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3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alibri"/>
              </a:rPr>
              <a:t>Коррекционн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т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и музыкального воздейств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зк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и воздействия цв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и коррекции по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гимн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етическая рит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кл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ималотера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терапевтические прогу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тогенная тренир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6" descr="P1010071"/>
          <p:cNvPicPr/>
          <p:nvPr/>
        </p:nvPicPr>
        <p:blipFill>
          <a:blip r:embed="rId1"/>
          <a:stretch/>
        </p:blipFill>
        <p:spPr>
          <a:xfrm>
            <a:off x="6019920" y="30481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da1"/>
                </a:solidFill>
                <a:latin typeface="Calibri"/>
              </a:rPr>
              <a:t>Главный критерий результативности здоровьесберегающих педагогических технологий 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240" y="21337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лияние на развитие ребенка, увеличение резервов его здоровья и, как частный вариант, готовность ребенка легко адаптироваться к школьным нагруз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P1010139"/>
          <p:cNvPicPr/>
          <p:nvPr/>
        </p:nvPicPr>
        <p:blipFill>
          <a:blip r:embed="rId1"/>
          <a:stretch/>
        </p:blipFill>
        <p:spPr>
          <a:xfrm>
            <a:off x="5410080" y="22860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ОЕДИНИЕ УСИЛИЙ ПЕДАГОГОВ, ПСИХОЛОГОВ, МЕДИКОВ И РОДИТЕЛЕЙ – ВОТ САМАЯ ГЛАВНАЯ ЗАДАЧА ДЛЯ ВОСПИТАНИЯ ЗДОРОВЫХ МАЛЫШЕЙ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4000" spc="-1" strike="noStrike">
                <a:solidFill>
                  <a:srgbClr val="fffda1"/>
                </a:solidFill>
                <a:latin typeface="Calibri"/>
              </a:rPr>
              <a:t>Согласно определению Всемирной организации здравоохранения (ВОЗ),  ЗДОРОВЬЕ – 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r>
              <a:rPr b="1" lang="ru-RU" sz="40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4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93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итут гигиены детей и подростков АМН рекомендует использовать для оценки состояния здоровья детей 4 показате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2514600"/>
            <a:ext cx="89917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и отсутствие на момент осмотра хронических болезн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функционального состояния основных систем организ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сопротивляемости организма неблагоприятным воздействи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психического и физического развития и степень его гармон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0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274680"/>
            <a:ext cx="6324480" cy="1325520"/>
          </a:xfrm>
          <a:prstGeom prst="rect">
            <a:avLst/>
          </a:prstGeom>
          <a:gradFill rotWithShape="0">
            <a:gsLst>
              <a:gs pos="0">
                <a:srgbClr val="fffda1"/>
              </a:gs>
              <a:gs pos="100000">
                <a:srgbClr val="800080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Модель здоров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" y="2057400"/>
            <a:ext cx="3048120" cy="1447920"/>
          </a:xfrm>
          <a:prstGeom prst="rect">
            <a:avLst/>
          </a:prstGeom>
          <a:solidFill>
            <a:srgbClr val="ff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физ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52280" y="4876920"/>
            <a:ext cx="3124440" cy="1447560"/>
          </a:xfrm>
          <a:prstGeom prst="rect">
            <a:avLst/>
          </a:prstGeom>
          <a:solidFill>
            <a:srgbClr val="ff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сих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791320" y="4876920"/>
            <a:ext cx="2971800" cy="1447560"/>
          </a:xfrm>
          <a:prstGeom prst="rect">
            <a:avLst/>
          </a:prstGeom>
          <a:solidFill>
            <a:srgbClr val="ff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рав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791320" y="2057400"/>
            <a:ext cx="2895480" cy="1371600"/>
          </a:xfrm>
          <a:prstGeom prst="rect">
            <a:avLst/>
          </a:prstGeom>
          <a:solidFill>
            <a:srgbClr val="ff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оци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3276720" y="160020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952880" y="160020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1600200"/>
            <a:ext cx="15238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2895120" y="1600200"/>
            <a:ext cx="1676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Calibri"/>
              </a:rPr>
              <a:t>Факторы, влияющие на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Наследственность (биологические факторы) определяют здоровье на 2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Calibri"/>
              </a:rPr>
              <a:t>Условия внешней среды (природные и социальные) на 2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Деятельность системы здравоохранения – на 1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alibri"/>
              </a:rPr>
              <a:t>Образ жизни человека – на 5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9000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Users\наташа\Desktop\ФОТО ДОСУГ\WP_20131115_028.jpg"/>
          <p:cNvPicPr/>
          <p:nvPr/>
        </p:nvPicPr>
        <p:blipFill>
          <a:blip r:embed="rId1"/>
          <a:stretch/>
        </p:blipFill>
        <p:spPr>
          <a:xfrm>
            <a:off x="838080" y="990720"/>
            <a:ext cx="7899480" cy="4437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libri"/>
              </a:rPr>
              <a:t>Здоровьесберегающи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вокупность мероприятий, направленных на сохранение и укрепление здоровь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P1010064"/>
          <p:cNvPicPr/>
          <p:nvPr/>
        </p:nvPicPr>
        <p:blipFill>
          <a:blip r:embed="rId1"/>
          <a:stretch/>
        </p:blipFill>
        <p:spPr>
          <a:xfrm>
            <a:off x="304920" y="36576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P1010138"/>
          <p:cNvPicPr/>
          <p:nvPr/>
        </p:nvPicPr>
        <p:blipFill>
          <a:blip r:embed="rId2"/>
          <a:stretch/>
        </p:blipFill>
        <p:spPr>
          <a:xfrm>
            <a:off x="5334120" y="36576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сновные условия природосообразного, здоровьесберегающего образ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1295280"/>
            <a:ext cx="5791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довлетворение базовых потребностей ребенка. В этом случае он наиболее полно развивает свои способности, познает собственную уникальность; в процессе самоактуализации у него непроизвольно формируются основные компоненты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C:\Users\наташа\Desktop\ФОТО ДОСУГ\WP_20131115_004.jpg"/>
          <p:cNvPicPr/>
          <p:nvPr/>
        </p:nvPicPr>
        <p:blipFill>
          <a:blip r:embed="rId1"/>
          <a:stretch/>
        </p:blipFill>
        <p:spPr>
          <a:xfrm>
            <a:off x="5181480" y="1981080"/>
            <a:ext cx="3299040" cy="185256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6-11-23T04:11:08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