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01E-C0D6-46AA-9ABF-B84B8BD3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E1F-D06E-4C31-8F1E-F86AA5BE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DE3-CBDC-4D62-8193-7D4118B3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774-FA4B-4861-A7F4-4F426EB0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2A8B-D24E-46A9-87BF-88BE2DBE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65CE-DF19-48BC-8B39-B4457864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1EC8-C066-4967-8F46-E0AD0048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CABC-8C4E-4EFC-9685-4B9B2AD0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9DEE-152C-47AE-B255-41688E96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FD79-D440-4380-BC07-E10E9D2D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6C63-2EA3-4D4D-B750-DE85D8CC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ED2-FB74-4FF1-AD4F-FA75895C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9501-D02B-4054-ACAC-12B8AE47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8846-597D-4F5E-8AFA-9F1C0A93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DF39-0610-4136-84ED-805EEF3E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CB69-E81E-41C8-BAC3-1EAF3F29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81A6-AE40-49A2-B543-ED2962C1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5B36B-70B7-48D5-A0E8-89E01A25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5196D5-6AB5-4C8E-AAB9-8013489C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37648-79D9-441E-9BA9-CB611AC3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14EA7-EB7C-42E2-A5AB-94D5EC30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6CCBA-5B83-453A-BB44-1576BCAD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E3E-662E-494B-A1B6-F861208A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529D3-3358-4ABE-B756-E93641F2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AE928-F508-4D7B-90A2-7CF52C73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7AD74-68A1-4EDD-A086-314F4373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9AD18-1F34-4656-8AC4-DD0B33C7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4433F-8536-49DC-9328-990393FC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3456E-6831-4F28-929A-31ACB782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A08DA-B7DC-4B9B-844B-3F7ACA76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225E3-D6A5-41C4-B23A-E7D51A40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CE17A-1408-4F4C-AC58-F8ED0203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60A7F-6B95-442F-99BD-D6CACCE1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58D-6F6D-447A-929E-E096726C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9A40D-0FCE-48D0-8888-C1DB8977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6DA5E-DA94-4663-81BE-FBCAF6A7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EF1AA-55E8-408E-BB0A-3C52ED13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A3FE9-33D6-415A-B0C5-943051BA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7CB3D-6D04-472B-9218-0CEED89E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BCF40-7908-4ECB-8C3C-C055F37F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FA474-6DB0-4D3B-9FBE-9D794662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B1CB6-A052-44B8-AD80-DA78418B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D6BC5-87D3-447E-8871-10EB0005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F5BB4-8192-4507-9663-44F6DD7B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A83-EB7B-4988-A4C2-FF636ABC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56594-ACDA-4D99-90AF-75560DD2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6FAEF-E74E-4F6E-B1A6-5049D6DA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7B8B2-C11B-4D46-8A89-F7C77CB0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D02959-5695-45E5-B3C7-4F05C413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E9E7A9-8D72-422D-8FDD-1706AE7F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C3FCE-A68B-47F3-8D9E-6091BFA5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6A085-6C43-4025-AC5D-9C084E56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89ECF-F914-4038-988C-2CA88AB6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EA62F-D005-40BE-B94E-B1FF2DBC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40DAB-A7A8-43CA-A226-7B9FB705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7879-A46F-4790-AC67-83D7EA01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C05D22-97E4-41E6-9A54-B08286C5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964E6-7848-4F45-A2F4-1589E406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5458D7-02F1-4638-A566-6C5670DA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39DAD5-00FA-4538-94A8-659F5192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70053C-5715-4A0F-BFB0-50E70DD5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833D8E-9289-4163-B1EA-88905067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2D8BAE-20EA-4D61-946C-88D47FF8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029B3-5A71-4DEF-8B18-A96F94DA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AD2BF3-A9E3-4370-B1B0-ECBBCB96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C46EA-79B9-4E34-B7C5-367E237B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38A8-B324-4CBC-8419-CB27BAE0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83F7ED-8C9F-47FD-BA56-27E065C5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06E20-525B-4755-831A-8916C61B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F439D-9B4A-4AF7-A9F0-64CF6DE7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FDE2B8-ECD9-4DFF-8F4E-D6DA8C59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8D7BF4-60A9-492E-AEB5-4867FF2B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06979C-F6E0-4ED7-9336-8F65F5A0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3D3B6B-F4D3-4E6F-95EA-37186963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389B7-6F22-4DCC-BA78-8AB41C32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C0A0C5-44AA-4840-8C24-49530E87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734EE8-1E43-4E0A-86EA-914513D0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FAF-9965-4654-A72A-79B91E8A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F6E56-7AC2-435A-AC29-2A0EF42E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94334-E8B6-487D-8158-CEDE4A52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1D5197-39C4-4BE8-8EE7-B1FCA3CB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D8734C-2092-48CF-AEBF-C6071748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34EFAF-414A-4E9A-AEC9-CE39442C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719-93B4-4DD2-939A-AE6D87CF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FF2D-C30F-43C3-9EE1-58E093D7B87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4A65-B3FE-4BE6-BC82-55097C1F9DC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1DAB-54E9-4EB5-AB5A-D66701C3AF9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8B31-5494-44A1-A8E1-155A457E42A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0D0A-BEBE-416F-96C3-BDD6016751D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AA38-0CEB-40BE-8F77-D3052C03BB1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8C87-7F5F-4A2D-8A33-5BFF4E906BC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42560" y="500040"/>
            <a:ext cx="8744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1" lang="ru-RU" sz="5400" spc="-1" strike="noStrike">
                <a:solidFill>
                  <a:srgbClr val="575f6d"/>
                </a:solidFill>
                <a:latin typeface="Century Schoolbook"/>
              </a:rPr>
              <a:t>Приглашение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ru-RU" sz="5400" spc="-1" strike="noStrike">
                <a:solidFill>
                  <a:srgbClr val="575f6d"/>
                </a:solidFill>
                <a:latin typeface="Century Schoolbook"/>
              </a:rPr>
              <a:t>      </a:t>
            </a:r>
            <a:r>
              <a:rPr b="1" lang="ru-RU" sz="5400" spc="-1" strike="noStrike">
                <a:solidFill>
                  <a:srgbClr val="575f6d"/>
                </a:solidFill>
                <a:latin typeface="Century Schoolbook"/>
              </a:rPr>
              <a:t>в удивительный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ru-RU" sz="54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ru-RU" sz="54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ru-RU" sz="54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ru-RU" sz="5400" spc="-1" strike="noStrike">
                <a:solidFill>
                  <a:srgbClr val="575f6d"/>
                </a:solidFill>
                <a:latin typeface="Century Schoolbook"/>
              </a:rPr>
              <a:t>город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Содержимое 4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РОЛЬ ПРИЛАГАТЕЛЬНЫХ В РЕЧ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700280"/>
            <a:ext cx="7467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мена прилагательные придают тексту яркость, выразительнос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мена прилагательные создают конкретный образ, определяя цвет, размер, запах, форму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Содержимое 4" descr="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РОЛЬ ПРИЛАГАТЕЛЬНЫХ В РЕЧ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052280"/>
            <a:ext cx="7931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мена прилагательные придают тексту яркость, выразительнос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мена прилагательные создают конкретный образ, определяя цвет, размер, запах, форму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мена прилагательные передают характер предмета, чувства и настроение автор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3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Рисунок 2" descr="leontopodiumherb.jpg"/>
          <p:cNvPicPr/>
          <p:nvPr/>
        </p:nvPicPr>
        <p:blipFill>
          <a:blip r:embed="rId1"/>
          <a:stretch/>
        </p:blipFill>
        <p:spPr>
          <a:xfrm>
            <a:off x="357120" y="142920"/>
            <a:ext cx="1817640" cy="1363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214200" y="856800"/>
            <a:ext cx="87868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Эдельвейс – символ любви, счастья и мужества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…………………..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красотой обладает это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нежный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…………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цветок, растущий среди громоздящихся вокруг него скал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…………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…..……..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рзинки не сразу привлекают к себе внимание. Они окружен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……………………………..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листьями, это придает особую прелесть этому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……………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растению. Рискующие жизнью путешественники ползут за ним по скалам. Человек, дотянувшийся до эдельвейса, обретает мужество и удач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Рисунок 3" descr="post-5-11403409552.jpg"/>
          <p:cNvPicPr/>
          <p:nvPr/>
        </p:nvPicPr>
        <p:blipFill>
          <a:blip r:embed="rId2"/>
          <a:stretch/>
        </p:blipFill>
        <p:spPr>
          <a:xfrm>
            <a:off x="342900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4" descr="F.Angelini_02.JPG"/>
          <p:cNvPicPr/>
          <p:nvPr/>
        </p:nvPicPr>
        <p:blipFill>
          <a:blip r:embed="rId3"/>
          <a:stretch/>
        </p:blipFill>
        <p:spPr>
          <a:xfrm>
            <a:off x="6429240" y="214200"/>
            <a:ext cx="2143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Содержимое 4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23640" y="980640"/>
            <a:ext cx="8358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дельвейс – символ любви, счастья и мужества.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Необыкновенной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асотой обладает этот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нежны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хрупки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цветок, растущий среди громоздящихся вокруг него скал.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Мелкие белые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рзинки не сразу привлекают к себе внимание. Они окружены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серебристо-сероватым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листьями, это придает особую прелесть этому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горном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растению. Рискующие жизнью путешественники ползут за ним по скалам. Человек, дотянувшийся до эдельвейса, обретает мужество и удач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Содержимое 4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Содержимое 4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Содержимое 4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Содержимое 4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РОЛЬ ПРИЛАГАТЕЛЬНЫХ В РЕЧ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мена прилагательные придают тексту яркость, выразительнос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Содержимое 4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Содержимое 4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20:35:36Z</dcterms:created>
  <dc:creator>iseb</dc:creator>
  <dc:description/>
  <dc:language>en-US</dc:language>
  <cp:lastModifiedBy>Надежда</cp:lastModifiedBy>
  <dcterms:modified xsi:type="dcterms:W3CDTF">2016-11-23T11:26:09Z</dcterms:modified>
  <cp:revision>26</cp:revision>
  <dc:subject/>
  <dc:title>Слайд 1</dc:title>
</cp:coreProperties>
</file>