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4.wmf" ContentType="image/x-wmf"/>
  <Override PartName="/ppt/media/image2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96B-E417-41EC-966B-D9B4E3BD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858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3746160"/>
            <a:ext cx="6858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B76-A452-4B44-A437-D8D18821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320" y="167652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374616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320" y="374616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C40-0E59-442D-AC2B-213406AC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220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1760" y="1676520"/>
            <a:ext cx="220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0160" y="1676520"/>
            <a:ext cx="220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3746160"/>
            <a:ext cx="220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1760" y="3746160"/>
            <a:ext cx="220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0160" y="3746160"/>
            <a:ext cx="220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B28-F9DA-4467-8DB0-F9ADB98F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06A-2FA3-4585-BB76-C9DF159F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A6C-ED45-4B2D-9C07-F03EE93E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46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320" y="1676520"/>
            <a:ext cx="3346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60D-62AA-446C-A570-238FDB0E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2F4-33C5-4EB3-A5CB-F4F1B1AC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A00-AF43-48CB-8C11-21D30B00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320" y="1676520"/>
            <a:ext cx="3346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374616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27B-2A78-49B3-B098-FD09F646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46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320" y="167652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320" y="374616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48F-B9F0-4946-A5CE-B56A93A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320" y="1676520"/>
            <a:ext cx="33465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746160"/>
            <a:ext cx="6858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8E6-8D27-4A32-A028-A6B98E53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6765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5638680"/>
            <a:ext cx="34290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DC0D-0E52-423E-9BEF-581E21C62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ир1705.wav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Фотография: Зеленый лес"/>
          <p:cNvPicPr/>
          <p:nvPr/>
        </p:nvPicPr>
        <p:blipFill>
          <a:blip r:embed="rId2"/>
          <a:stretch/>
        </p:blipFill>
        <p:spPr>
          <a:xfrm>
            <a:off x="-152280" y="-12600"/>
            <a:ext cx="9296280" cy="687060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6476760" cy="146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Georgia"/>
              </a:rPr>
              <a:t>Проект :</a:t>
            </a:r>
            <a:br>
              <a:rPr sz="6000"/>
            </a:br>
            <a:br>
              <a:rPr sz="4000"/>
            </a:br>
            <a:r>
              <a:rPr b="1" lang="ru-RU" sz="5400" spc="-1" strike="noStrike">
                <a:solidFill>
                  <a:srgbClr val="2d2d8a"/>
                </a:solidFill>
                <a:latin typeface="Monotype Corsiva"/>
                <a:ea typeface="Cambria Math"/>
              </a:rPr>
              <a:t>Комнатные растения </a:t>
            </a:r>
            <a:r>
              <a:rPr b="1" lang="en-US" sz="5400" spc="-1" strike="noStrike">
                <a:solidFill>
                  <a:srgbClr val="2d2d8a"/>
                </a:solidFill>
                <a:latin typeface="Monotype Corsiva"/>
                <a:ea typeface="Cambria Math"/>
              </a:rPr>
              <a:t> </a:t>
            </a:r>
            <a:r>
              <a:rPr b="1" lang="ru-RU" sz="5400" spc="-1" strike="noStrike">
                <a:solidFill>
                  <a:srgbClr val="2d2d8a"/>
                </a:solidFill>
                <a:latin typeface="Monotype Corsiva"/>
                <a:ea typeface="Cambria Math"/>
              </a:rPr>
              <a:t>и цветы</a:t>
            </a: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3580920"/>
            <a:ext cx="7162920" cy="259092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БОУ ЦЛП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уководит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читель Попова Н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бучающийся 7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тенков Дан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70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838080" y="644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626000"/>
                <a:tab algn="l" pos="7277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Мы сделали вывод: растения – живые существа,  о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838080" y="2211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457200"/>
                <a:tab algn="ctr" pos="4626000"/>
                <a:tab algn="l" pos="7277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ыш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838080" y="2897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457200"/>
                <a:tab algn="ctr" pos="4626000"/>
                <a:tab algn="l" pos="7277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838080" y="36590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457200"/>
                <a:tab algn="ctr" pos="4626000"/>
                <a:tab algn="l" pos="7277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838080" y="44211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457200"/>
                <a:tab algn="ctr" pos="4626000"/>
                <a:tab algn="l" pos="7277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таются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609480" y="384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ыяснили  влияние комнатных растений на здоровье челове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57200" y="2039400"/>
            <a:ext cx="8001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ие растения  лечат внутренние болезн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ищают возду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огащают воздух кислород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ыщают ароматическими веществами и фитонцида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ьный подбор растений, выделяющих фитонциды, способен полностью оздоровить атмосферу в комнат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914400" y="792360"/>
            <a:ext cx="76201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 ухода за комнатными растени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ивай растения водой комнатной температуры. Кроме того, вода должна отстояться в течение нескольких часов. Летом цветы поливают вечером, зимой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т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Рыхли палочкой поверхность земли в горшочке, чтобы к корням поступал воздух. Будь осторожен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повреди корни раст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тирай пыль с крупных гладких листьев влажной тряпкой или губкой. Растения с мелкими листьями и листьями опушенными очищают от пыли мягкой кисточ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орожно срезай с растений сухие листья и веточки. Следи за чистотой цветочных горшков и подстав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" descr=""/>
          <p:cNvPicPr/>
          <p:nvPr/>
        </p:nvPicPr>
        <p:blipFill>
          <a:blip r:embed="rId1"/>
          <a:stretch/>
        </p:blipFill>
        <p:spPr>
          <a:xfrm>
            <a:off x="944640" y="476280"/>
            <a:ext cx="2054160" cy="743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6" descr="MP900341692[2]"/>
          <p:cNvPicPr/>
          <p:nvPr/>
        </p:nvPicPr>
        <p:blipFill>
          <a:blip r:embed="rId2"/>
          <a:stretch/>
        </p:blipFill>
        <p:spPr>
          <a:xfrm>
            <a:off x="7047000" y="3657600"/>
            <a:ext cx="2097000" cy="2946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609480" y="1437480"/>
            <a:ext cx="792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е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живые существа. Растения дышат, растут, двигаются, питаются. Растения насыщают воздух кислородом, очищают воздух в комнате, обогащают его ароматическими веществами и фитонцидами, а некоторые растения имеют целительные свойства. И чтобы комнатное растение чувствовало себя в нашей комнате как дома, надо создать особые усло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838080" y="479880"/>
            <a:ext cx="754380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основе исследования  комнатных растений создать модель комнаты с комнатными растениями, расположенными в зонах, благоприятных для их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ЗАДАЧИ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ь многообразие комнат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рать информацию о целебных свойствах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лубить знания по уходу за растениям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C:\Documents and Settings\Соколовы\Local Settings\Temporary Internet Files\Content.IE5\S1WPEXEP\dglxasset[1].aspx"/>
          <p:cNvPicPr/>
          <p:nvPr/>
        </p:nvPicPr>
        <p:blipFill>
          <a:blip r:embed="rId1"/>
          <a:stretch/>
        </p:blipFill>
        <p:spPr>
          <a:xfrm>
            <a:off x="3581280" y="5181480"/>
            <a:ext cx="16750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914400" y="53496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3520" y="256464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В результате исследования мы доказали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растения 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 живые существа. Многие ученые всего мира искали доказательства, что растения способны чувствовать и понимать мысл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838080" y="2286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04920" y="228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Georgia"/>
              </a:rPr>
              <a:t>Как увидеть дыхание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838080" y="594360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Georgia"/>
              </a:rPr>
              <a:t>Стекло запотело, значит,-  растение дыш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8" descr="F:\DCIM\100OLYMP\P4120003.JPG"/>
          <p:cNvPicPr/>
          <p:nvPr/>
        </p:nvPicPr>
        <p:blipFill>
          <a:blip r:embed="rId1"/>
          <a:stretch/>
        </p:blipFill>
        <p:spPr>
          <a:xfrm>
            <a:off x="914400" y="1600200"/>
            <a:ext cx="294012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F:\DCIM\100OLYMP\P4120042.JPG"/>
          <p:cNvPicPr/>
          <p:nvPr/>
        </p:nvPicPr>
        <p:blipFill>
          <a:blip r:embed="rId2"/>
          <a:stretch/>
        </p:blipFill>
        <p:spPr>
          <a:xfrm>
            <a:off x="4952880" y="1600200"/>
            <a:ext cx="3168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ак проследить за ростом растени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В горшки посадили семена цвет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отмечали изменения в его ро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в течение трех не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086600" y="1828800"/>
          <a:ext cx="1328760" cy="2263680"/>
        </p:xfrm>
        <a:graphic>
          <a:graphicData uri="http://schemas.openxmlformats.org/drawingml/2006/table">
            <a:tbl>
              <a:tblPr/>
              <a:tblGrid>
                <a:gridCol w="1328760"/>
              </a:tblGrid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14 дней</a:t>
                      </a: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9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7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Calibri"/>
                        </a:rPr>
                        <a:t>3 д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Рисунок 7" descr="d006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17760" y="1835280"/>
            <a:ext cx="4114800" cy="2628720"/>
          </a:xfrm>
          <a:prstGeom prst="rect">
            <a:avLst/>
          </a:prstGeom>
          <a:ln w="0">
            <a:noFill/>
          </a:ln>
        </p:spPr>
      </p:pic>
      <p:cxnSp>
        <p:nvCxnSpPr>
          <p:cNvPr id="58" name="AutoShape 2"/>
          <p:cNvCxnSpPr/>
          <p:nvPr/>
        </p:nvCxnSpPr>
        <p:spPr>
          <a:xfrm>
            <a:off x="6324120" y="2057040"/>
            <a:ext cx="521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59" name="AutoShape 5"/>
          <p:cNvCxnSpPr/>
          <p:nvPr/>
        </p:nvCxnSpPr>
        <p:spPr>
          <a:xfrm>
            <a:off x="6324120" y="2590560"/>
            <a:ext cx="521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0" name="AutoShape 4"/>
          <p:cNvCxnSpPr/>
          <p:nvPr/>
        </p:nvCxnSpPr>
        <p:spPr>
          <a:xfrm>
            <a:off x="6324120" y="3149280"/>
            <a:ext cx="521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61" name="AutoShape 3"/>
          <p:cNvCxnSpPr/>
          <p:nvPr/>
        </p:nvCxnSpPr>
        <p:spPr>
          <a:xfrm>
            <a:off x="6324120" y="3746160"/>
            <a:ext cx="521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6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004640" y="28566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Как увидеть движ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Горшок с рассадой поставили на подоконник, растения повернулись в сторону сол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7514333"/>
          <p:cNvPicPr/>
          <p:nvPr/>
        </p:nvPicPr>
        <p:blipFill>
          <a:blip r:embed="rId1"/>
          <a:stretch/>
        </p:blipFill>
        <p:spPr>
          <a:xfrm>
            <a:off x="5715000" y="434340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73160" y="3429000"/>
            <a:ext cx="56386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А когда развернули его другой стороной, то через некоторое время растения снова повернулись   к    солнц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Как проследить за питанием растени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1828440"/>
            <a:ext cx="4952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Поставили  бел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хризантему  в  вазу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добавили  в  в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пищевой  крас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синего 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C:\Documents and Settings\Соколовы\Рабочий стол\Мама\P4160003.JPG"/>
          <p:cNvPicPr/>
          <p:nvPr/>
        </p:nvPicPr>
        <p:blipFill>
          <a:blip r:embed="rId1"/>
          <a:stretch/>
        </p:blipFill>
        <p:spPr>
          <a:xfrm>
            <a:off x="762120" y="1219320"/>
            <a:ext cx="2133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G_0509"/>
          <p:cNvPicPr/>
          <p:nvPr/>
        </p:nvPicPr>
        <p:blipFill>
          <a:blip r:embed="rId1"/>
          <a:stretch/>
        </p:blipFill>
        <p:spPr>
          <a:xfrm>
            <a:off x="914400" y="-20520"/>
            <a:ext cx="7162920" cy="687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MG_0501"/>
          <p:cNvPicPr/>
          <p:nvPr/>
        </p:nvPicPr>
        <p:blipFill>
          <a:blip r:embed="rId2"/>
          <a:stretch/>
        </p:blipFill>
        <p:spPr>
          <a:xfrm>
            <a:off x="914400" y="0"/>
            <a:ext cx="7391520" cy="6875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51688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Через неделю хризантема изменила цвет. Следовательно, растения впитали окрашенную воду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762120" y="38556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сивые стихи о комна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80880" y="1606680"/>
            <a:ext cx="4038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***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ничего прекраснее цве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шедших в наши тихие жилищ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пришли из глубины ве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 сделать жизнь возвышенней и ч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715000" y="3467880"/>
            <a:ext cx="2514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***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ят на подоконни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ие цв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весны поклонни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слуги крас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бирают энергети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солнечных лу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дарят нам эстети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и домашних д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1911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user</cp:lastModifiedBy>
  <dcterms:modified xsi:type="dcterms:W3CDTF">2016-11-23T11:21:44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