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C38-D92C-44DE-8BF9-9C26D49D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B38-AF44-4A3E-AE92-3DA70DC2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BE2-910D-4AA4-9D58-5A6C5323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77F-4C57-4BA8-BCBD-B39D6875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D2B-8524-475B-9D61-D3EF82E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B16-652E-4073-9BCB-777B6ED9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6BF-2F16-448E-A792-C7596FF8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7C4-935D-46D2-B1C6-355818DB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202-C0D0-4CB2-89D2-08BAB12A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743-E140-44FD-B91C-06007435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DCB-0250-42DA-9883-01E830D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E6B-3AA5-4110-84AB-716B28E7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9C2D-8769-4499-8E44-67D243266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43000" y="12193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Развитие форм рельеф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ural3"/>
          <p:cNvPicPr/>
          <p:nvPr/>
        </p:nvPicPr>
        <p:blipFill>
          <a:blip r:embed="rId1"/>
          <a:stretch/>
        </p:blipFill>
        <p:spPr>
          <a:xfrm>
            <a:off x="457200" y="3733920"/>
            <a:ext cx="4191120" cy="279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6" descr="kuz-alatau7"/>
          <p:cNvPicPr/>
          <p:nvPr/>
        </p:nvPicPr>
        <p:blipFill>
          <a:blip r:embed="rId2"/>
          <a:stretch/>
        </p:blipFill>
        <p:spPr>
          <a:xfrm>
            <a:off x="6629400" y="685800"/>
            <a:ext cx="20527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Text Box 7"/>
          <p:cNvSpPr/>
          <p:nvPr/>
        </p:nvSpPr>
        <p:spPr>
          <a:xfrm>
            <a:off x="5181480" y="6095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55760" y="722160"/>
            <a:ext cx="672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66680" y="2362320"/>
            <a:ext cx="784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ветри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ревние оледе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мо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текучих вод (эроз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ве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цессы, вызванные действием силы тяж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62120" y="60948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нешним процессам, оказывающим влияние на формирование рельефа, относ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uslide.ru/images/24/30418/736/img8.jpg"/>
          <p:cNvPicPr/>
          <p:nvPr/>
        </p:nvPicPr>
        <p:blipFill>
          <a:blip r:embed="rId1"/>
          <a:stretch/>
        </p:blipFill>
        <p:spPr>
          <a:xfrm>
            <a:off x="1066680" y="9144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590920" y="228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ревние олед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990720"/>
            <a:ext cx="79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четвертичный период было 4 эпохи оледенения: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алдайское, Московское, Днепровское, Ок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Центрами оледенения служили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Скандинавские горы, Полярный Урал, плато Путорана, горы Бырранга (Таймы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oledenenie"/>
          <p:cNvPicPr/>
          <p:nvPr/>
        </p:nvPicPr>
        <p:blipFill>
          <a:blip r:embed="rId1"/>
          <a:stretch/>
        </p:blipFill>
        <p:spPr>
          <a:xfrm>
            <a:off x="1600200" y="2514600"/>
            <a:ext cx="62485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ятельность лед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Бараньи лбы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круглые ска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льский п-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ор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олмы из принесенного ледником рыхл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алдайская и  Смоленско-Московская возвышенности, Северные Ува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ндровые равн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внины, образовавшиеся на окраинах ле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зёра ледникового происхож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адожское и Онежское, а также многочисленные озёра Карелии и Кольского п-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непровское оледен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амое крупное оледенение четвертичного пери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Центры оледе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Скандина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олярный У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лато Путо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Горы Бырра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600200" y="457200"/>
            <a:ext cx="5943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едниковый (гляциальный) рель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7200" y="1523880"/>
            <a:ext cx="3429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кзорацио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257800" y="1523880"/>
            <a:ext cx="3429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ккумуля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04920" y="2438280"/>
            <a:ext cx="15238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барань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лб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урча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к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438280" y="2438280"/>
            <a:ext cx="1600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цир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рог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71600" y="388620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зе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тло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105520" y="2438280"/>
            <a:ext cx="14475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нд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во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леднико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вн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7238880" y="2438280"/>
            <a:ext cx="1600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ор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гряд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ол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друм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 flipH="1">
            <a:off x="2133360" y="106668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4495680" y="1066680"/>
            <a:ext cx="2514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133720" y="20574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 flipH="1">
            <a:off x="990360" y="2057400"/>
            <a:ext cx="11430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133720" y="2057400"/>
            <a:ext cx="10666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H="1">
            <a:off x="5790960" y="2057400"/>
            <a:ext cx="10666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6858000" y="2057400"/>
            <a:ext cx="11430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4" descr="lednik-relef2"/>
          <p:cNvPicPr/>
          <p:nvPr/>
        </p:nvPicPr>
        <p:blipFill>
          <a:blip r:embed="rId1"/>
          <a:stretch/>
        </p:blipFill>
        <p:spPr>
          <a:xfrm>
            <a:off x="3505320" y="3733920"/>
            <a:ext cx="4749840" cy="2973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rani-lby"/>
          <p:cNvPicPr/>
          <p:nvPr/>
        </p:nvPicPr>
        <p:blipFill>
          <a:blip r:embed="rId1"/>
          <a:stretch/>
        </p:blipFill>
        <p:spPr>
          <a:xfrm>
            <a:off x="457200" y="304920"/>
            <a:ext cx="2652840" cy="2819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9" name="Picture 3" descr="cirk-dolina"/>
          <p:cNvPicPr/>
          <p:nvPr/>
        </p:nvPicPr>
        <p:blipFill>
          <a:blip r:embed="rId2"/>
          <a:stretch/>
        </p:blipFill>
        <p:spPr>
          <a:xfrm>
            <a:off x="4191120" y="304920"/>
            <a:ext cx="4038480" cy="3028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0" name="Picture 5" descr="led-ozero11"/>
          <p:cNvPicPr/>
          <p:nvPr/>
        </p:nvPicPr>
        <p:blipFill>
          <a:blip r:embed="rId3"/>
          <a:stretch/>
        </p:blipFill>
        <p:spPr>
          <a:xfrm>
            <a:off x="380880" y="3657600"/>
            <a:ext cx="3594240" cy="256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Picture 7" descr="drumlin1"/>
          <p:cNvPicPr/>
          <p:nvPr/>
        </p:nvPicPr>
        <p:blipFill>
          <a:blip r:embed="rId4"/>
          <a:stretch/>
        </p:blipFill>
        <p:spPr>
          <a:xfrm>
            <a:off x="4800600" y="3962520"/>
            <a:ext cx="3638520" cy="2219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Text Box 8"/>
          <p:cNvSpPr/>
          <p:nvPr/>
        </p:nvSpPr>
        <p:spPr>
          <a:xfrm>
            <a:off x="457200" y="32767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3124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араньи лб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533412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ки и тр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066680" y="6248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дников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5943600" y="6172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м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3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3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2590920" y="304920"/>
            <a:ext cx="4114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Деятельность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3520" y="1295280"/>
            <a:ext cx="373356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лоские низкие примор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авнины, возникшие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ступлении мо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послеледниковы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952880" y="1295280"/>
            <a:ext cx="35816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счаные к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pechora"/>
          <p:cNvPicPr/>
          <p:nvPr/>
        </p:nvPicPr>
        <p:blipFill>
          <a:blip r:embed="rId1"/>
          <a:stretch/>
        </p:blipFill>
        <p:spPr>
          <a:xfrm>
            <a:off x="4648320" y="3429000"/>
            <a:ext cx="3914640" cy="2382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rikaspi 1"/>
          <p:cNvPicPr/>
          <p:nvPr/>
        </p:nvPicPr>
        <p:blipFill>
          <a:blip r:embed="rId2"/>
          <a:stretch/>
        </p:blipFill>
        <p:spPr>
          <a:xfrm>
            <a:off x="609480" y="3429000"/>
            <a:ext cx="3594240" cy="240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2" name="Line 12"/>
          <p:cNvSpPr/>
          <p:nvPr/>
        </p:nvSpPr>
        <p:spPr>
          <a:xfrm flipH="1">
            <a:off x="2209680" y="914400"/>
            <a:ext cx="23623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4572000" y="914400"/>
            <a:ext cx="21337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838080" y="5791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спий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5410080" y="5791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ор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4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752480" y="380880"/>
            <a:ext cx="56390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еятельность текучи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80880" y="1447920"/>
            <a:ext cx="36576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вражно-балочный релье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876920" y="1447920"/>
            <a:ext cx="39621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Флювиальный рельеф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143000" y="25909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оро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1143000" y="35053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мо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1143000" y="4419720"/>
            <a:ext cx="2209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вр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143000" y="5410080"/>
            <a:ext cx="2209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3809880" y="2590920"/>
            <a:ext cx="2286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розио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6400800" y="2590920"/>
            <a:ext cx="2438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ккумуля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114800" y="3505320"/>
            <a:ext cx="609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5334120" y="3505320"/>
            <a:ext cx="609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6477120" y="3505320"/>
            <a:ext cx="5331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4"/>
          <p:cNvSpPr/>
          <p:nvPr/>
        </p:nvSpPr>
        <p:spPr>
          <a:xfrm>
            <a:off x="7391520" y="3505320"/>
            <a:ext cx="609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5"/>
          <p:cNvSpPr/>
          <p:nvPr/>
        </p:nvSpPr>
        <p:spPr>
          <a:xfrm>
            <a:off x="8305920" y="3505320"/>
            <a:ext cx="5331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 flipV="1">
            <a:off x="5318280" y="4822920"/>
            <a:ext cx="32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 rot="5400000">
            <a:off x="3939840" y="45165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у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0"/>
          <p:cNvSpPr/>
          <p:nvPr/>
        </p:nvSpPr>
        <p:spPr>
          <a:xfrm rot="5400000">
            <a:off x="4769280" y="444888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ечная д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1"/>
          <p:cNvSpPr/>
          <p:nvPr/>
        </p:nvSpPr>
        <p:spPr>
          <a:xfrm rot="5400000">
            <a:off x="6233040" y="438228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3"/>
          <p:cNvSpPr/>
          <p:nvPr/>
        </p:nvSpPr>
        <p:spPr>
          <a:xfrm rot="5400000">
            <a:off x="7275960" y="44568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ель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5"/>
          <p:cNvSpPr/>
          <p:nvPr/>
        </p:nvSpPr>
        <p:spPr>
          <a:xfrm rot="5400000">
            <a:off x="8155440" y="4374360"/>
            <a:ext cx="8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6"/>
          <p:cNvSpPr/>
          <p:nvPr/>
        </p:nvSpPr>
        <p:spPr>
          <a:xfrm flipH="1">
            <a:off x="2133360" y="91440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7"/>
          <p:cNvSpPr/>
          <p:nvPr/>
        </p:nvSpPr>
        <p:spPr>
          <a:xfrm>
            <a:off x="4572000" y="914400"/>
            <a:ext cx="2362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8"/>
          <p:cNvSpPr/>
          <p:nvPr/>
        </p:nvSpPr>
        <p:spPr>
          <a:xfrm>
            <a:off x="2209680" y="2286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9"/>
          <p:cNvSpPr/>
          <p:nvPr/>
        </p:nvSpPr>
        <p:spPr>
          <a:xfrm>
            <a:off x="220968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2209680" y="4038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1"/>
          <p:cNvSpPr/>
          <p:nvPr/>
        </p:nvSpPr>
        <p:spPr>
          <a:xfrm>
            <a:off x="2209680" y="4952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 flipH="1">
            <a:off x="4876920" y="2286000"/>
            <a:ext cx="1752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6629400" y="2286000"/>
            <a:ext cx="10666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4"/>
          <p:cNvSpPr/>
          <p:nvPr/>
        </p:nvSpPr>
        <p:spPr>
          <a:xfrm>
            <a:off x="44197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5"/>
          <p:cNvSpPr/>
          <p:nvPr/>
        </p:nvSpPr>
        <p:spPr>
          <a:xfrm>
            <a:off x="55627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6"/>
          <p:cNvSpPr/>
          <p:nvPr/>
        </p:nvSpPr>
        <p:spPr>
          <a:xfrm>
            <a:off x="67057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769608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8"/>
          <p:cNvSpPr/>
          <p:nvPr/>
        </p:nvSpPr>
        <p:spPr>
          <a:xfrm>
            <a:off x="8534520" y="320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655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1066680" y="457200"/>
            <a:ext cx="7162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Эоловый рельеф – деятельность в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066680" y="1523880"/>
            <a:ext cx="28958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Дю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образуются по берег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рек и мо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486400" y="1523880"/>
            <a:ext cx="27432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Б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озникают в пусты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2514600" y="1066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6781680" y="1066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3" descr="duna 1"/>
          <p:cNvPicPr/>
          <p:nvPr/>
        </p:nvPicPr>
        <p:blipFill>
          <a:blip r:embed="rId1"/>
          <a:stretch/>
        </p:blipFill>
        <p:spPr>
          <a:xfrm>
            <a:off x="228600" y="3276720"/>
            <a:ext cx="4114800" cy="2747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5" name="Picture 14" descr="barhan1"/>
          <p:cNvPicPr/>
          <p:nvPr/>
        </p:nvPicPr>
        <p:blipFill>
          <a:blip r:embed="rId2"/>
          <a:stretch/>
        </p:blipFill>
        <p:spPr>
          <a:xfrm>
            <a:off x="4876920" y="3276720"/>
            <a:ext cx="3962160" cy="2778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41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ермины и понятия 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догенные проце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зогенные проце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улк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ейшие тектонические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ед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оловый 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юны, осыпи, оползни, лавины, сели. эро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762120" y="457200"/>
            <a:ext cx="7772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цессы, вызванные действием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62120" y="1752480"/>
            <a:ext cx="1904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валы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657600" y="1752480"/>
            <a:ext cx="2057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пол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6705720" y="1752480"/>
            <a:ext cx="18288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4648320" y="1371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 flipH="1">
            <a:off x="1676160" y="13716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4648320" y="13716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Деятельность челове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Человек – мощная рельефообразующая с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арьеры и терриконы – при добыче полезных ископаемых (создают «лунный» кратерный ландшафт - п. Горный, г.Пугачё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ороги, плотины, тоннели – образование оползней, селей, обвалов, наво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981080" y="457200"/>
            <a:ext cx="5257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Антропогенный 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04920" y="1600200"/>
            <a:ext cx="1981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отлов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666880" y="16002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ерри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952880" y="16002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рь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086600" y="16002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1294920" y="1143000"/>
            <a:ext cx="3429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 flipH="1">
            <a:off x="3580920" y="114300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4724280" y="114300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>
            <a:off x="4724280" y="1143000"/>
            <a:ext cx="3276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0" descr="kotlovan 1"/>
          <p:cNvPicPr/>
          <p:nvPr/>
        </p:nvPicPr>
        <p:blipFill>
          <a:blip r:embed="rId1"/>
          <a:stretch/>
        </p:blipFill>
        <p:spPr>
          <a:xfrm>
            <a:off x="152280" y="2362320"/>
            <a:ext cx="2971800" cy="2236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5" name="Picture 22" descr="karer1"/>
          <p:cNvPicPr/>
          <p:nvPr/>
        </p:nvPicPr>
        <p:blipFill>
          <a:blip r:embed="rId2"/>
          <a:stretch/>
        </p:blipFill>
        <p:spPr>
          <a:xfrm>
            <a:off x="4114800" y="2286000"/>
            <a:ext cx="3092400" cy="2327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6" name="Picture 23" descr="nasyip 1"/>
          <p:cNvPicPr/>
          <p:nvPr/>
        </p:nvPicPr>
        <p:blipFill>
          <a:blip r:embed="rId3"/>
          <a:stretch/>
        </p:blipFill>
        <p:spPr>
          <a:xfrm>
            <a:off x="6172200" y="4495680"/>
            <a:ext cx="2743200" cy="210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7" name="Picture 24" descr="terrikon1"/>
          <p:cNvPicPr/>
          <p:nvPr/>
        </p:nvPicPr>
        <p:blipFill>
          <a:blip r:embed="rId4"/>
          <a:stretch/>
        </p:blipFill>
        <p:spPr>
          <a:xfrm>
            <a:off x="1600200" y="4495680"/>
            <a:ext cx="3594240" cy="2171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Стихийные бед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Землетрясения – Кавказские горы, Алтай, Саяны, Прибайкалье, о.Сах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звержения вулканов – п-ов Камчатка и Курильские о-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ели – юг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ползни – Саратов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241280" y="22860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ьеф постоянно меняется под действием внешни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экзогенны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внутренни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эндогенных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land07"/>
          <p:cNvPicPr/>
          <p:nvPr/>
        </p:nvPicPr>
        <p:blipFill>
          <a:blip r:embed="rId1"/>
          <a:stretch/>
        </p:blipFill>
        <p:spPr>
          <a:xfrm>
            <a:off x="2895480" y="1981080"/>
            <a:ext cx="34480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58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Эндогенные процесс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– 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это неотектонические или новейшие процессы, которые могут проявляться 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 горах и на равни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95480" y="2152800"/>
            <a:ext cx="758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11280" y="157644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4360" y="21272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участках земной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жения земной коры наиболее актив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35080" y="3505320"/>
            <a:ext cx="856908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имеры эндогенных проце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авказе происходят движения со скор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8 см/год, которые сопровождаются образованием скл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Урале, Алтае, Саянах образуются разломы: одни глыбы поднимаются, другие опуск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латформах происходят медленные колебания земной коры со скоростью 1см/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920" y="380520"/>
            <a:ext cx="897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Экзогенные процессы-</a:t>
            </a:r>
            <a:br>
              <a:rPr sz="3200"/>
            </a:b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это процессы, происходящие под влиянием текучих вод (реки, ледники, сели), вечной мерзлоты,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700360" y="1989000"/>
            <a:ext cx="3456000" cy="64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кзогенны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3213000"/>
            <a:ext cx="2016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леде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411280" y="3213000"/>
            <a:ext cx="201636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екучи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43280" y="3213000"/>
            <a:ext cx="201636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е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6877080" y="3213000"/>
            <a:ext cx="2016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H="1">
            <a:off x="1331640" y="2637000"/>
            <a:ext cx="1368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3492360" y="2637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5364000" y="2637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6156360" y="2637000"/>
            <a:ext cx="1655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169200" y="393372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ор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андровые равн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бараньи л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з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05928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557080" y="3933720"/>
            <a:ext cx="20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речные доли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вр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ложб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493236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4705560" y="38815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эоловые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рельеф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(барха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ю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7144560" y="38815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арь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террик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тонн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819520" y="2666880"/>
            <a:ext cx="37335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проце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38080" y="3886200"/>
            <a:ext cx="3353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ейшие тектон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029200" y="3886200"/>
            <a:ext cx="3352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лк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819520" y="5257800"/>
            <a:ext cx="3809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886200" y="32767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3429000" y="45720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4191120" y="41911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daiki2"/>
          <p:cNvPicPr/>
          <p:nvPr/>
        </p:nvPicPr>
        <p:blipFill>
          <a:blip r:embed="rId1"/>
          <a:stretch/>
        </p:blipFill>
        <p:spPr>
          <a:xfrm>
            <a:off x="304920" y="228600"/>
            <a:ext cx="4152960" cy="221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7" name="Picture 11" descr="volcano"/>
          <p:cNvPicPr/>
          <p:nvPr/>
        </p:nvPicPr>
        <p:blipFill>
          <a:blip r:embed="rId2"/>
          <a:stretch/>
        </p:blipFill>
        <p:spPr>
          <a:xfrm>
            <a:off x="5257800" y="228600"/>
            <a:ext cx="3352680" cy="222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676520" y="609480"/>
            <a:ext cx="5715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ейшие тектонические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914400" y="1828800"/>
            <a:ext cx="3124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изонт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876920" y="1828800"/>
            <a:ext cx="3581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ленные верти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0880" y="2971800"/>
            <a:ext cx="19814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лад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743200" y="297180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ы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380880" y="3962520"/>
            <a:ext cx="198144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йо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йнозо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Кавк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743200" y="3962520"/>
            <a:ext cx="19051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ла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о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лтай, Сая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л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5257800" y="3124080"/>
            <a:ext cx="31240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я 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 испы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н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скаются цент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й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падно-Сиби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нины, Прикаспий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веро-Сибир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но-Индигирска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лымская низ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H="1">
            <a:off x="2514240" y="1295280"/>
            <a:ext cx="1981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4495680" y="1295280"/>
            <a:ext cx="22860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 flipH="1">
            <a:off x="1294920" y="251460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2514600" y="2514600"/>
            <a:ext cx="11430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137160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365760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6705720" y="2514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457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видетельством продолжающихся в настоящее время тектонических движений служат 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ЗЕМЛЕТРЯС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zemletryasenie"/>
          <p:cNvPicPr/>
          <p:nvPr/>
        </p:nvPicPr>
        <p:blipFill>
          <a:blip r:embed="rId1"/>
          <a:stretch/>
        </p:blipFill>
        <p:spPr>
          <a:xfrm>
            <a:off x="1143000" y="1600200"/>
            <a:ext cx="70102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da10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819520" y="380880"/>
            <a:ext cx="3352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улк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152388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нусы вулк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505320" y="1523880"/>
            <a:ext cx="23619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акко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324480" y="152388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авовые пла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lakkolit11"/>
          <p:cNvPicPr/>
          <p:nvPr/>
        </p:nvPicPr>
        <p:blipFill>
          <a:blip r:embed="rId1"/>
          <a:stretch/>
        </p:blipFill>
        <p:spPr>
          <a:xfrm>
            <a:off x="3276720" y="2666880"/>
            <a:ext cx="2832120" cy="19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14" descr="lavovye-plato1"/>
          <p:cNvPicPr/>
          <p:nvPr/>
        </p:nvPicPr>
        <p:blipFill>
          <a:blip r:embed="rId2"/>
          <a:stretch/>
        </p:blipFill>
        <p:spPr>
          <a:xfrm>
            <a:off x="6248520" y="2666880"/>
            <a:ext cx="2724120" cy="19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15" descr="vulkanK"/>
          <p:cNvPicPr/>
          <p:nvPr/>
        </p:nvPicPr>
        <p:blipFill>
          <a:blip r:embed="rId3"/>
          <a:stretch/>
        </p:blipFill>
        <p:spPr>
          <a:xfrm>
            <a:off x="304920" y="2666880"/>
            <a:ext cx="2832120" cy="19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16" descr="lakkolit41"/>
          <p:cNvPicPr/>
          <p:nvPr/>
        </p:nvPicPr>
        <p:blipFill>
          <a:blip r:embed="rId4"/>
          <a:stretch/>
        </p:blipFill>
        <p:spPr>
          <a:xfrm>
            <a:off x="2819520" y="4876920"/>
            <a:ext cx="3593880" cy="10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 Box 17"/>
          <p:cNvSpPr/>
          <p:nvPr/>
        </p:nvSpPr>
        <p:spPr>
          <a:xfrm>
            <a:off x="228600" y="62485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ющие вулканы в России есть только на Камчатке и Кури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4572000" y="1066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 flipH="1">
            <a:off x="1752480" y="1066680"/>
            <a:ext cx="2819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4572000" y="1066680"/>
            <a:ext cx="2971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175248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75438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4648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9:06:11Z</dcterms:created>
  <dc:creator>HP</dc:creator>
  <dc:description/>
  <dc:language>en-US</dc:language>
  <cp:lastModifiedBy>кура</cp:lastModifiedBy>
  <dcterms:modified xsi:type="dcterms:W3CDTF">2016-11-23T08:50:4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