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5F8-D19B-4066-BF7B-2557E6EF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5A9-F7F4-4390-8878-A8CE6A3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6FF-9A1B-4CC6-A39B-22567F02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F82-EB83-4742-9330-EBEA29CE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657-A6F9-42D8-A18E-372E2AD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B0C-16F0-46A1-8556-F95F1DF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8D8-22B9-4AA8-ACD2-77192BC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92C-EA71-4DA3-97FE-BCE0BFCB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172-C404-4D2F-AA9E-CE9F50D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AC0-7E26-49BA-8B3B-7C09FD1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C7C-11B5-4153-BC34-75DE7C3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931-FA95-461F-9102-AE2553B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A08-C0DF-4547-8673-D50D9330A0E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4360" y="40464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рочитайте и скажите, как образованы собирательные имена числительны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ва – двое, три - трое, четыре – четверо, пять –пятеро, шесть – шестеро, семь – семеро, восемь – восьмеро, девять – девятеро, десять – десяте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7"/>
          <p:cNvSpPr/>
          <p:nvPr/>
        </p:nvSpPr>
        <p:spPr>
          <a:xfrm>
            <a:off x="4788000" y="1628640"/>
            <a:ext cx="2089080" cy="403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Собирательные числительные сочет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1"/>
          <p:cNvSpPr/>
          <p:nvPr/>
        </p:nvSpPr>
        <p:spPr>
          <a:xfrm>
            <a:off x="10954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0"/>
          <p:cNvSpPr/>
          <p:nvPr/>
        </p:nvSpPr>
        <p:spPr>
          <a:xfrm flipH="1">
            <a:off x="2843280" y="162864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332000" y="2492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4427280" y="1628640"/>
            <a:ext cx="36036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6300720" y="2060640"/>
            <a:ext cx="255600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существительными, употребляющимися только во множественном числе: двое суток, семеро сан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788000" y="1628640"/>
            <a:ext cx="1800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665960" y="5661000"/>
            <a:ext cx="408528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званиями парных предмет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е сапог, трое рукав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1258560" y="1628640"/>
            <a:ext cx="3529080" cy="273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24000" y="4365720"/>
            <a:ext cx="216036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личны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име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орме множественного числа: нас двое, их было семер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700360" y="3645000"/>
            <a:ext cx="280836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ами существительными, обозначающими  детей и детенышей животных: трое щенят, трое малыш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060640"/>
            <a:ext cx="345600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ами существительными, обозначающими лиц мужского пола: пятеро друзей, четверо юнош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9280" y="189000"/>
            <a:ext cx="8842320" cy="174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Рассмотрите схему, подберите свои примеры. Составьте и запишите четыре предложения с именами числительными и существитель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вое, трое, четверо, пятеро, шестеро, семер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5"/>
          <p:cNvSpPr/>
          <p:nvPr/>
        </p:nvSpPr>
        <p:spPr>
          <a:xfrm flipH="1">
            <a:off x="1115640" y="2060640"/>
            <a:ext cx="280836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3924360" y="2060640"/>
            <a:ext cx="1079280" cy="21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7"/>
          <p:cNvSpPr/>
          <p:nvPr/>
        </p:nvSpPr>
        <p:spPr>
          <a:xfrm>
            <a:off x="3924360" y="2060640"/>
            <a:ext cx="360036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8"/>
          <p:cNvSpPr/>
          <p:nvPr/>
        </p:nvSpPr>
        <p:spPr>
          <a:xfrm>
            <a:off x="3924360" y="2060640"/>
            <a:ext cx="396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-197280" y="3645000"/>
            <a:ext cx="39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Товарищей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школьнико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878280" y="4221000"/>
            <a:ext cx="253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отят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щеня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357240" y="4365720"/>
            <a:ext cx="28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Ножниц,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сан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093080" y="2708280"/>
            <a:ext cx="19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Нас, их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155736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(машинист, зайчонок, девочка, ножницы)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 (ученик, ученица, мастерица, сани)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о (лисята, очки, подруга, малыш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324000" y="98100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Palatino Linotype"/>
              </a:rPr>
              <a:t>Подберите к числительным существительные и просклоняйте словосочет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. оба, обе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. обоих, обеи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. обоим, обеи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. Оба(обоих), обе (обеи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Т. обоими, обе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. об обоих,  об обеи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549360"/>
            <a:ext cx="835164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На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нках висели стенды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Хорошие отношения установились между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м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нами, межд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им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ми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, брата и сестру, приняли в секцию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«Держись крепче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м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ами», - сказала мам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 нависали густые кроны деревьев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и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ят отличные оценки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06:41Z</dcterms:created>
  <dc:creator>1</dc:creator>
  <dc:description/>
  <dc:language>en-US</dc:language>
  <cp:lastModifiedBy>Надежда</cp:lastModifiedBy>
  <dcterms:modified xsi:type="dcterms:W3CDTF">2016-11-15T08:43:17Z</dcterms:modified>
  <cp:revision>15</cp:revision>
  <dc:subject/>
  <dc:title>Дробные числительные</dc:title>
</cp:coreProperties>
</file>