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8B1-F49F-455D-B756-17033B79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7D9-7A5E-4C99-B7D8-6AD8845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ACE-9C7B-43F2-8EA2-6F290659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FE9-2685-4051-8A75-CA065806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3A1-C659-4A1C-A1D4-DE1D384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4DF-1DB7-4227-9A12-CAE81D7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C59-2D77-4982-B1AE-26BF352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AF0-B4BD-40DB-8D53-63D7C98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94D-8B5F-47F4-86C0-0B23211B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39D-AC03-4CA9-8855-A379532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E97-033E-4B03-86DC-74F44F9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3CF-9F1E-4937-BE0A-386CAC63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BD3-CA15-4266-889C-BBF13C891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Documents and Settings\Удобенская СОШ\Мои документы\Мои рисунки\2009-02-12\Изображение.JPG"/>
          <p:cNvPicPr/>
          <p:nvPr/>
        </p:nvPicPr>
        <p:blipFill>
          <a:blip r:embed="rId1"/>
          <a:srcRect l="15717" t="4378" r="4286" b="74095"/>
          <a:stretch/>
        </p:blipFill>
        <p:spPr>
          <a:xfrm>
            <a:off x="642960" y="1071720"/>
            <a:ext cx="8137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Удобенская СОШ\Мои документы\Мои рисунки\2009-02-02\Shishkin_23.jpg"/>
          <p:cNvPicPr/>
          <p:nvPr/>
        </p:nvPicPr>
        <p:blipFill>
          <a:blip r:embed="rId1"/>
          <a:stretch/>
        </p:blipFill>
        <p:spPr>
          <a:xfrm>
            <a:off x="306360" y="500040"/>
            <a:ext cx="85312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Удобенская СОШ\Мои документы\Мои рисунки\2009-02-12\Изображение0001.JPG"/>
          <p:cNvPicPr/>
          <p:nvPr/>
        </p:nvPicPr>
        <p:blipFill>
          <a:blip r:embed="rId1"/>
          <a:srcRect l="5239" t="4378" r="8096" b="70054"/>
          <a:stretch/>
        </p:blipFill>
        <p:spPr>
          <a:xfrm>
            <a:off x="500040" y="1000080"/>
            <a:ext cx="7939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Удобенская СОШ\Мои документы\Мои рисунки\2009-02-12\Изображение0002.JPG"/>
          <p:cNvPicPr/>
          <p:nvPr/>
        </p:nvPicPr>
        <p:blipFill>
          <a:blip r:embed="rId1"/>
          <a:srcRect l="14288" t="7409" r="9525" b="68706"/>
          <a:stretch/>
        </p:blipFill>
        <p:spPr>
          <a:xfrm rot="60000">
            <a:off x="515880" y="717120"/>
            <a:ext cx="85266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Удобенская СОШ\Мои документы\Мои рисунки\2009-02-12\Изображение0003.JPG"/>
          <p:cNvPicPr/>
          <p:nvPr/>
        </p:nvPicPr>
        <p:blipFill>
          <a:blip r:embed="rId1"/>
          <a:srcRect l="17145" t="1684" r="42863" b="85882"/>
          <a:stretch/>
        </p:blipFill>
        <p:spPr>
          <a:xfrm>
            <a:off x="500040" y="1000080"/>
            <a:ext cx="8271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Удобенская СОШ\Мои документы\Мои рисунки\2009-02-12\Изображение0005.JPG"/>
          <p:cNvPicPr/>
          <p:nvPr/>
        </p:nvPicPr>
        <p:blipFill>
          <a:blip r:embed="rId1"/>
          <a:srcRect l="13335" t="5725" r="3810" b="64328"/>
          <a:stretch/>
        </p:blipFill>
        <p:spPr>
          <a:xfrm>
            <a:off x="428760" y="642960"/>
            <a:ext cx="8629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Надежда</cp:lastModifiedBy>
  <dcterms:modified xsi:type="dcterms:W3CDTF">2016-11-15T07:48:53Z</dcterms:modified>
  <cp:revision>8</cp:revision>
  <dc:subject/>
  <dc:title>Слайд 1</dc:title>
</cp:coreProperties>
</file>