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2fa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078E-F7F2-4E82-B717-BE4863D678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69D3-FAC8-41B4-AB1A-0C4A2BCB0E83}" type="slidenum">
              <a:rPr b="0" lang="en-GB" sz="12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02F1-9F08-46FA-AF04-5722C28F2718}" type="slidenum">
              <a:rPr b="0" lang="en-GB" sz="12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E4A7-C692-4342-8117-CE67CD0A6E86}" type="slidenum">
              <a:rPr b="0" lang="en-GB" sz="12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806-F799-4339-8002-28A1AAB3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151-6C68-46D7-BF05-64A7D69E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8B70-18E6-4534-BF07-801ED909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A45-954D-4095-9B8C-D4DBE832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A1A0-D119-4F04-9577-21FAC20A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73E8-C1FF-449B-89BE-D3B4DC06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E8A9-F89F-4A2C-A738-E8DD7279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4DC0-A8C6-4BC2-811C-56DCEC12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8DC3-C3B3-4372-A02F-2717138A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0C18-90F2-4CFB-88DF-0C031897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F89F-D632-4AAF-97A9-2842C756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65A-0AE6-4FBC-8D75-0109786C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A4B5-1BAB-40F2-A847-180E9D69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B7FA-9CD8-459F-85DD-3374C5E4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FFD4-D3BC-4AFA-A87D-282B9A94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D78A-FFC6-4011-B2FB-53C0BBB2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A4BD-6C70-4942-9D0E-6CFFF0E9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346-8F3E-4D67-85AB-B7C4BE18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3658-B36E-4EF0-95CA-2F550FFE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8FD4-FADA-4FED-BA01-59147BF9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5ED-121B-458C-97D2-F41406C1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8F5-1B69-468D-9D6A-559F084A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E6C-84F9-4C72-9EDC-992CC953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932-AF48-4EAC-A4B0-9C3D6273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IMG_2115v2"/>
          <p:cNvPicPr/>
          <p:nvPr/>
        </p:nvPicPr>
        <p:blipFill>
          <a:blip r:embed="rId2"/>
          <a:stretch/>
        </p:blipFill>
        <p:spPr>
          <a:xfrm>
            <a:off x="0" y="-414360"/>
            <a:ext cx="9144000" cy="7566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2fa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869B-4E9E-4C9A-8D4D-380072D42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IMG_2115"/>
          <p:cNvPicPr/>
          <p:nvPr/>
        </p:nvPicPr>
        <p:blipFill>
          <a:blip r:embed="rId2"/>
          <a:stretch/>
        </p:blipFill>
        <p:spPr>
          <a:xfrm>
            <a:off x="0" y="-709560"/>
            <a:ext cx="9144000" cy="7567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2fa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e2fa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1BC6-ACFC-4E0D-995A-3660E3FAE75A}" type="slidenum">
              <a:rPr b="0" lang="en-US" sz="1400" spc="-1" strike="noStrike">
                <a:solidFill>
                  <a:srgbClr val="0e2f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77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e2fad"/>
                </a:solidFill>
                <a:latin typeface="Times New Roman"/>
              </a:rPr>
              <a:t>ТЕХНОЛОГИЯ ОБУЧЕНИЯ В СОТРУДНИЧЕСТВЕ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533680"/>
            <a:ext cx="622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коммуникативно-диалоговые технологии в обучении иностранному языку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2fad"/>
                </a:solidFill>
                <a:latin typeface="Times New Roman"/>
              </a:rPr>
              <a:t>Функциональные позиции участников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широко информированный участник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автор большинства участников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человек критического мышления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реализующий идеи и вдумчивый исполнитель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сторонник изящных решений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критикующий скептик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тот, кто с трудом включается в работу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непродуктивный участник дискуссии («я как все»)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2fad"/>
                </a:solidFill>
                <a:latin typeface="Times New Roman"/>
              </a:rPr>
              <a:t>Функциональные социальные умения</a:t>
            </a:r>
            <a:br>
              <a:rPr sz="3600"/>
            </a:br>
            <a:r>
              <a:rPr b="0" lang="ru-RU" sz="3600" spc="-1" strike="noStrike">
                <a:solidFill>
                  <a:srgbClr val="0e2fad"/>
                </a:solidFill>
                <a:latin typeface="Times New Roman"/>
              </a:rPr>
              <a:t>(что делаем мы?)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Задавайте вопросы!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Задавайте направление деятельности! (Повторяйте цель, предлагайте пути решения проблемы.)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Поощряйте каждого участника группы к участию!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Просите помощи участников!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Подводите итоги вслух!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Соблюдайте точность при пересказе, дополняйте высказывания других!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2fad"/>
                </a:solidFill>
                <a:latin typeface="Times New Roman"/>
              </a:rPr>
              <a:t>Функциональные социальные умения (что делаем мы?)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Помогайте запоминать! (наглядность)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Удостоверьтесь, что все понятно!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Критикуйте идеи, не критикуя людей!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Старайтесь соединить мысли в единую точку зрения!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Требуйте фактов, аргументации!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Усложняйте и углубляйте ответы учеников!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Побуждайте к поиску нескольких ответов!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Самооценка степени активности в процессе дискуссии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31920" y="1500120"/>
          <a:ext cx="7402320" cy="4105440"/>
        </p:xfrm>
        <a:graphic>
          <a:graphicData uri="http://schemas.openxmlformats.org/drawingml/2006/table">
            <a:tbl>
              <a:tblPr/>
              <a:tblGrid>
                <a:gridCol w="3701880"/>
                <a:gridCol w="3700440"/>
              </a:tblGrid>
              <a:tr h="54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епень активности</a:t>
                      </a:r>
                      <a:endParaRPr b="0" lang="en-US" sz="24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solidFill>
                      <a:srgbClr val="7fd7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ь</a:t>
                      </a:r>
                      <a:endParaRPr b="0" lang="en-US" sz="24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solidFill>
                      <a:srgbClr val="7fd7fc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инициатива</a:t>
                      </a:r>
                      <a:endParaRPr b="0" lang="en-US" sz="24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все делаю сам (гипотезы, вопросы, начинаю обсуждать)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поддержка</a:t>
                      </a:r>
                      <a:endParaRPr b="0" lang="en-US" sz="24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поддерживаю других, создаю условия для сотрудничества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согласие</a:t>
                      </a:r>
                      <a:endParaRPr b="0" lang="en-US" sz="24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согласен работать (даже молча)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подчинение</a:t>
                      </a:r>
                      <a:endParaRPr b="0" lang="en-US" sz="24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пассивен в работе, подчиняюсь другим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отвержение</a:t>
                      </a:r>
                      <a:endParaRPr b="0" lang="en-US" sz="24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явный отказ от работы, ее критика, противопоставление себя другим</a:t>
                      </a:r>
                      <a:endParaRPr b="0" lang="en-US" sz="18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Сумма баллов:</a:t>
                      </a:r>
                      <a:endParaRPr b="0" lang="en-US" sz="24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e2fad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e2f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2fad"/>
                      </a:solidFill>
                    </a:lnL>
                    <a:lnR w="5760">
                      <a:solidFill>
                        <a:srgbClr val="0e2fad"/>
                      </a:solidFill>
                    </a:lnR>
                    <a:lnT w="5760">
                      <a:solidFill>
                        <a:srgbClr val="0e2fad"/>
                      </a:solidFill>
                    </a:lnT>
                    <a:lnB w="5760">
                      <a:solidFill>
                        <a:srgbClr val="0e2f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29"/>
          <p:cNvSpPr/>
          <p:nvPr/>
        </p:nvSpPr>
        <p:spPr>
          <a:xfrm flipV="1">
            <a:off x="2166840" y="5548680"/>
            <a:ext cx="56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2fad"/>
                </a:solidFill>
                <a:latin typeface="Times New Roman"/>
              </a:rPr>
              <a:t>Желаю успеха в организации обучения в малых группах сотрудничества!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2fad"/>
                </a:solidFill>
                <a:latin typeface="Arial"/>
              </a:rPr>
              <a:t>Цель обучения в сотрудничестве:</a:t>
            </a:r>
            <a:br>
              <a:rPr sz="4000"/>
            </a:b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2760" y="1216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формирование умений у субъектов образовательного процесса эффективно работать сообща во временных командах и группах и добиваться качественных образовательных результатов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3660840"/>
            <a:ext cx="2570040" cy="23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Times New Roman"/>
              </a:rPr>
              <a:t>Что мы развиваем?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способность организовывать совместную деятельность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умение понимать свою роль в качестве партнера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терпимость к различным точкам зрения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ответственность за результаты совместной работы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умение уважать чужую точку зрения и поведение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умение вести деловое обсуждение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умение достигать согласия в конфликтных ситуациях и спорных вопросах.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2fad"/>
                </a:solidFill>
                <a:latin typeface="Times New Roman"/>
              </a:rPr>
              <a:t>Основные положения сотрудничества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наличие взаимозависимости членов группы между собой наряду с личной ответственностью каждого за свои успехи и успехи товарищей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специальное внимание, уделяемое социальным аспектам обучения: способам общения между членами группы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наличие общей оценки работы группы (описательного плана, не всегда в баллах), складывающейся из оценки результатов и оценки формы общения в группе.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Times New Roman"/>
              </a:rPr>
              <a:t>Типы сотрудничества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эмоциональный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когнитивный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3 типа зависимостей участников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единая цель, которую участнику могут достичь только в совместных усилиях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источник информации: каждый владеет только частью информации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формы поощрения.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2495520"/>
            <a:ext cx="12600" cy="531720"/>
          </a:xfrm>
          <a:prstGeom prst="line">
            <a:avLst/>
          </a:prstGeom>
          <a:ln w="9360">
            <a:solidFill>
              <a:srgbClr val="0e2f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756480" y="1617840"/>
            <a:ext cx="175248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Times New Roman"/>
              </a:rPr>
              <a:t>Важные аспекты технологии: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принцип распределения деятельности между участниками;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оптимальность состава;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равномерность перераспределения ответственности за результат;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эффект социальной поддержки;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эффект конформизма;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эффект отвержения;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эффект кооперативной стратегии.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29560" y="2895480"/>
            <a:ext cx="149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2fad"/>
                </a:solidFill>
                <a:latin typeface="Times New Roman"/>
              </a:rPr>
              <a:t>Общая структура работы в диалоге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Подготовительный этап: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определить цель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сформулировать проблему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обсудить проблему с группой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распределить роли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подготовить необходимый учебный материал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отобрать технические средства обучения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670800" y="2424240"/>
            <a:ext cx="765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2fad"/>
                </a:solidFill>
                <a:latin typeface="Times New Roman"/>
              </a:rPr>
              <a:t>Общая структура работы в диалоге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2. Этап разработки проекта групповой работы: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анализ готовности участников к изучению предлагаемой проблемы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примерный сценарий (основные моменты процесса совместного решения проблемы, вариативность действий участников)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952960" y="4073400"/>
            <a:ext cx="27370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2fad"/>
                </a:solidFill>
                <a:latin typeface="Times New Roman"/>
              </a:rPr>
              <a:t>Общая структура работы в диалоге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3. Исполнительный этап: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регулировать ход работы с оказанием косвенной помощи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фиксировать проблемные ситуации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стимулировать вопросы со стороны участников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поддерживать обратную связь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стараться минимально вмешиваться в действия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участников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придерживаться общих для всех «правил игры»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Presentation Magazine</dc:creator>
  <dc:description/>
  <dc:language>en-US</dc:language>
  <cp:lastModifiedBy>Титова О.А.</cp:lastModifiedBy>
  <dcterms:modified xsi:type="dcterms:W3CDTF">2011-09-13T18:12:37Z</dcterms:modified>
  <cp:revision>41</cp:revision>
  <dc:subject/>
  <dc:title>Pencils template</dc:title>
</cp:coreProperties>
</file>