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CAB-4083-4A2D-99C3-DF80D3C5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066-3A89-4CA1-8FB5-0E57CB1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5AC-DA51-4459-B76B-999B1796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DA9-4613-4DDD-9DE3-0E229646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5BB2-08CE-4A4F-BED0-51354877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C1F8-F44B-4D1B-9C1C-71D0594D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E29A-53A8-4F45-912E-BD3BB5AD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46CA-74EB-46DA-B276-1755BD7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A916-437A-4E03-A582-B5C64309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AA06-95A4-4FCB-9E20-ACD9C247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3EF3-280A-4948-AD77-1A15421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936-4299-4DD2-A486-4CAC6E0C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BE8-45E4-46DA-AEA0-711B9C39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29DB-7286-4DF7-A2A2-92E2F5D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03EF-A886-4307-A8BA-5212BA9D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44BD-603F-446A-9781-D1CFBAF3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95FF-52BC-4B25-8195-D7AC22CA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872-3CB4-4D9B-9E65-FB6DF1F4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986-5E26-4D2C-9F5B-EF14A165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B09-2099-4951-8B37-C751D886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FA2-47D0-4802-B37D-49B0D131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057-5184-459D-9B0C-E3A3136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945-D889-43AF-A454-87730063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79E-6508-41E5-82CA-5FC63198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F30C-5BF5-43FB-8F21-1BBE10DFA1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3774-9AE7-419C-A6AA-7824CF73754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00"/>
                </a:solidFill>
                <a:latin typeface="Times New Roman"/>
              </a:rPr>
              <a:t>Легкая атлетика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660000"/>
                </a:solidFill>
                <a:latin typeface="Times New Roman"/>
              </a:rPr>
              <a:t>Учитель: Воропаева Татьяна Михайловн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Какой из этих прыжков не является видом легкой атлети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Прыжок в длину с разб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Прыжок в высоту с шес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Тройной прыжок в дли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 Прыжок через коз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Какая из этих фаз является основой техники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1. Разб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2. Отталки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Фаза пол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изем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С целью развития общей выносливости непрерывный бег выполняется при пульсе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100-120 уд./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120-140 уд./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140-160 уд./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160-180 уд./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главл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Тем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Цели и задач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Виды легкой атле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Разновидности б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5" action="ppaction://hlinksldjump"/>
              </a:rPr>
              <a:t>Прыжки в длину с разб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6" action="ppaction://hlinksldjump"/>
              </a:rPr>
              <a:t>Контроль за физическим состоя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7" action="ppaction://hlinksldjump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Разновидности бега. Прыжки в длину с разбега способом «согнув ноги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1219320" y="2286000"/>
          <a:ext cx="678168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86000"/>
                    <a:ext cx="6781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и и задач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ить знания о разновидностях бе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ить знания о технике прыжков в длину с разбе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ить знания о приемах определения самочувств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иды легкой атлети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05" name="Diagram 6"/>
          <p:cNvGrpSpPr/>
          <p:nvPr/>
        </p:nvGrpSpPr>
        <p:grpSpPr>
          <a:xfrm>
            <a:off x="936360" y="1599120"/>
            <a:ext cx="7197120" cy="4023720"/>
            <a:chOff x="936360" y="1599120"/>
            <a:chExt cx="7197120" cy="4023720"/>
          </a:xfrm>
        </p:grpSpPr>
        <p:sp>
          <p:nvSpPr>
            <p:cNvPr id="106" name="_s2052"/>
            <p:cNvSpPr/>
            <p:nvPr/>
          </p:nvSpPr>
          <p:spPr>
            <a:xfrm flipV="1">
              <a:off x="4533480" y="2835000"/>
              <a:ext cx="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3"/>
            <p:cNvSpPr/>
            <p:nvPr/>
          </p:nvSpPr>
          <p:spPr>
            <a:xfrm>
              <a:off x="3534840" y="1599120"/>
              <a:ext cx="2000520" cy="12376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ыж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4"/>
            <p:cNvSpPr/>
            <p:nvPr/>
          </p:nvSpPr>
          <p:spPr>
            <a:xfrm>
              <a:off x="5397840" y="4383000"/>
              <a:ext cx="870120" cy="30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5"/>
            <p:cNvSpPr/>
            <p:nvPr/>
          </p:nvSpPr>
          <p:spPr>
            <a:xfrm>
              <a:off x="6133680" y="4385160"/>
              <a:ext cx="1999800" cy="12376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ет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6"/>
            <p:cNvSpPr/>
            <p:nvPr/>
          </p:nvSpPr>
          <p:spPr>
            <a:xfrm flipH="1">
              <a:off x="2799000" y="4383000"/>
              <a:ext cx="870120" cy="31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7"/>
            <p:cNvSpPr/>
            <p:nvPr/>
          </p:nvSpPr>
          <p:spPr>
            <a:xfrm>
              <a:off x="936360" y="4385160"/>
              <a:ext cx="2000520" cy="12376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е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2058"/>
            <p:cNvSpPr/>
            <p:nvPr/>
          </p:nvSpPr>
          <p:spPr>
            <a:xfrm>
              <a:off x="3534840" y="3457080"/>
              <a:ext cx="2000520" cy="12376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Легкая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тлети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азновидности бег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14" name="Diagram 8"/>
          <p:cNvGrpSpPr/>
          <p:nvPr/>
        </p:nvGrpSpPr>
        <p:grpSpPr>
          <a:xfrm>
            <a:off x="804960" y="1711800"/>
            <a:ext cx="7536960" cy="4684680"/>
            <a:chOff x="804960" y="1711800"/>
            <a:chExt cx="7536960" cy="4684680"/>
          </a:xfrm>
        </p:grpSpPr>
        <p:sp>
          <p:nvSpPr>
            <p:cNvPr id="115" name="_s3076"/>
            <p:cNvSpPr/>
            <p:nvPr/>
          </p:nvSpPr>
          <p:spPr>
            <a:xfrm flipH="1" flipV="1">
              <a:off x="2756880" y="3467880"/>
              <a:ext cx="909360" cy="29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3077"/>
            <p:cNvSpPr/>
            <p:nvPr/>
          </p:nvSpPr>
          <p:spPr>
            <a:xfrm>
              <a:off x="804960" y="25902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эстафетный бе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3078"/>
            <p:cNvSpPr/>
            <p:nvPr/>
          </p:nvSpPr>
          <p:spPr>
            <a:xfrm flipH="1">
              <a:off x="2756880" y="4347000"/>
              <a:ext cx="909360" cy="2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3079"/>
            <p:cNvSpPr/>
            <p:nvPr/>
          </p:nvSpPr>
          <p:spPr>
            <a:xfrm>
              <a:off x="804960" y="43470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рос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3080"/>
            <p:cNvSpPr/>
            <p:nvPr/>
          </p:nvSpPr>
          <p:spPr>
            <a:xfrm>
              <a:off x="4572000" y="4638600"/>
              <a:ext cx="0" cy="58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3081"/>
            <p:cNvSpPr/>
            <p:nvPr/>
          </p:nvSpPr>
          <p:spPr>
            <a:xfrm>
              <a:off x="3525480" y="5225400"/>
              <a:ext cx="2095560" cy="11710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арьерный бег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3082"/>
            <p:cNvSpPr/>
            <p:nvPr/>
          </p:nvSpPr>
          <p:spPr>
            <a:xfrm>
              <a:off x="5477760" y="4347000"/>
              <a:ext cx="908640" cy="2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3083"/>
            <p:cNvSpPr/>
            <p:nvPr/>
          </p:nvSpPr>
          <p:spPr>
            <a:xfrm>
              <a:off x="6246360" y="43470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ег с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епятствиям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3084"/>
            <p:cNvSpPr/>
            <p:nvPr/>
          </p:nvSpPr>
          <p:spPr>
            <a:xfrm flipV="1">
              <a:off x="5477760" y="3467880"/>
              <a:ext cx="908640" cy="29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3085"/>
            <p:cNvSpPr/>
            <p:nvPr/>
          </p:nvSpPr>
          <p:spPr>
            <a:xfrm>
              <a:off x="6246360" y="25902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гладкий бе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3086"/>
            <p:cNvSpPr/>
            <p:nvPr/>
          </p:nvSpPr>
          <p:spPr>
            <a:xfrm flipV="1">
              <a:off x="4572000" y="288144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3087"/>
            <p:cNvSpPr/>
            <p:nvPr/>
          </p:nvSpPr>
          <p:spPr>
            <a:xfrm>
              <a:off x="3525480" y="17118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прин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3088"/>
            <p:cNvSpPr/>
            <p:nvPr/>
          </p:nvSpPr>
          <p:spPr>
            <a:xfrm>
              <a:off x="3525480" y="3470400"/>
              <a:ext cx="2095560" cy="1171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е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ыжки в длину с разбег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29" name="Organization Chart 6"/>
          <p:cNvGrpSpPr/>
          <p:nvPr/>
        </p:nvGrpSpPr>
        <p:grpSpPr>
          <a:xfrm>
            <a:off x="460440" y="1828800"/>
            <a:ext cx="8222400" cy="4300560"/>
            <a:chOff x="460440" y="1828800"/>
            <a:chExt cx="8222400" cy="4300560"/>
          </a:xfrm>
        </p:grpSpPr>
        <p:cxnSp>
          <p:nvCxnSpPr>
            <p:cNvPr id="130" name="_s4100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740200" y="2379240"/>
              <a:ext cx="860760" cy="3198240"/>
            </a:xfrm>
            <a:prstGeom prst="bentConnector3">
              <a:avLst>
                <a:gd name="adj1" fmla="val 13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4101"/>
            <p:cNvCxnSpPr>
              <a:stCxn id="134" idx="0"/>
              <a:endCxn id="132" idx="2"/>
            </p:cNvCxnSpPr>
            <p:nvPr/>
          </p:nvCxnSpPr>
          <p:spPr>
            <a:xfrm flipV="1" rot="16200000">
              <a:off x="4674240" y="3445200"/>
              <a:ext cx="860760" cy="1066320"/>
            </a:xfrm>
            <a:prstGeom prst="bentConnector3">
              <a:avLst>
                <a:gd name="adj1" fmla="val 13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4102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3608280" y="3445200"/>
              <a:ext cx="860760" cy="1066680"/>
            </a:xfrm>
            <a:prstGeom prst="bentConnector3">
              <a:avLst>
                <a:gd name="adj1" fmla="val 13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4103"/>
            <p:cNvCxnSpPr>
              <a:stCxn id="138" idx="0"/>
              <a:endCxn id="132" idx="2"/>
            </p:cNvCxnSpPr>
            <p:nvPr/>
          </p:nvCxnSpPr>
          <p:spPr>
            <a:xfrm flipH="1" flipV="1" rot="5400000">
              <a:off x="2542320" y="2379240"/>
              <a:ext cx="860760" cy="3198600"/>
            </a:xfrm>
            <a:prstGeom prst="bentConnector3">
              <a:avLst>
                <a:gd name="adj1" fmla="val 13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4104"/>
            <p:cNvSpPr/>
            <p:nvPr/>
          </p:nvSpPr>
          <p:spPr>
            <a:xfrm>
              <a:off x="3658320" y="182880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ыжок способо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согнув ноги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4105"/>
            <p:cNvSpPr/>
            <p:nvPr/>
          </p:nvSpPr>
          <p:spPr>
            <a:xfrm>
              <a:off x="460440" y="440928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бе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4106"/>
            <p:cNvSpPr/>
            <p:nvPr/>
          </p:nvSpPr>
          <p:spPr>
            <a:xfrm>
              <a:off x="2592000" y="440928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тталкив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4107"/>
            <p:cNvSpPr/>
            <p:nvPr/>
          </p:nvSpPr>
          <p:spPr>
            <a:xfrm>
              <a:off x="4723920" y="440928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аза полет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4108"/>
            <p:cNvSpPr/>
            <p:nvPr/>
          </p:nvSpPr>
          <p:spPr>
            <a:xfrm>
              <a:off x="6855840" y="4409280"/>
              <a:ext cx="1827000" cy="1720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иземл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нтроль за физическим состояние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140" name="Diagram 37"/>
          <p:cNvGrpSpPr/>
          <p:nvPr/>
        </p:nvGrpSpPr>
        <p:grpSpPr>
          <a:xfrm>
            <a:off x="394200" y="2001240"/>
            <a:ext cx="8354520" cy="3727800"/>
            <a:chOff x="394200" y="2001240"/>
            <a:chExt cx="8354520" cy="3727800"/>
          </a:xfrm>
        </p:grpSpPr>
        <p:sp>
          <p:nvSpPr>
            <p:cNvPr id="141" name="_s5124"/>
            <p:cNvSpPr/>
            <p:nvPr/>
          </p:nvSpPr>
          <p:spPr>
            <a:xfrm flipV="1">
              <a:off x="3525840" y="2001240"/>
              <a:ext cx="2091600" cy="931680"/>
            </a:xfrm>
            <a:custGeom>
              <a:avLst/>
              <a:gdLst>
                <a:gd name="textAreaLeft" fmla="*/ 750240 w 2091600"/>
                <a:gd name="textAreaRight" fmla="*/ 1341360 w 2091600"/>
                <a:gd name="textAreaTop" fmla="*/ 334080 h 931680"/>
                <a:gd name="textAreaBottom" fmla="*/ 59760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онтроль за функциональным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состоянием организм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5125"/>
            <p:cNvSpPr/>
            <p:nvPr/>
          </p:nvSpPr>
          <p:spPr>
            <a:xfrm flipV="1">
              <a:off x="2483280" y="2932200"/>
              <a:ext cx="4177440" cy="932040"/>
            </a:xfrm>
            <a:custGeom>
              <a:avLst/>
              <a:gdLst>
                <a:gd name="textAreaLeft" fmla="*/ 918720 w 4177440"/>
                <a:gd name="textAreaRight" fmla="*/ 3258720 w 4177440"/>
                <a:gd name="textAreaTop" fmla="*/ 204840 h 932040"/>
                <a:gd name="textAreaBottom" fmla="*/ 7272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Оценка реакции организма в ответ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 выполняемые упражнения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5126"/>
            <p:cNvSpPr/>
            <p:nvPr/>
          </p:nvSpPr>
          <p:spPr>
            <a:xfrm flipV="1">
              <a:off x="1440720" y="3865320"/>
              <a:ext cx="6262560" cy="931680"/>
            </a:xfrm>
            <a:custGeom>
              <a:avLst/>
              <a:gdLst>
                <a:gd name="textAreaLeft" fmla="*/ 1087200 w 6262560"/>
                <a:gd name="textAreaRight" fmla="*/ 5175360 w 6262560"/>
                <a:gd name="textAreaTop" fmla="*/ 161640 h 931680"/>
                <a:gd name="textAreaBottom" fmla="*/ 770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Контроль за эффективностью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тренировочных занятий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5127"/>
            <p:cNvSpPr/>
            <p:nvPr/>
          </p:nvSpPr>
          <p:spPr>
            <a:xfrm flipV="1">
              <a:off x="394200" y="4797000"/>
              <a:ext cx="8354520" cy="931680"/>
            </a:xfrm>
            <a:custGeom>
              <a:avLst/>
              <a:gdLst>
                <a:gd name="textAreaLeft" fmla="*/ 1256760 w 8354520"/>
                <a:gd name="textAreaRight" fmla="*/ 7097760 w 8354520"/>
                <a:gd name="textAreaTop" fmla="*/ 140040 h 931680"/>
                <a:gd name="textAreaBottom" fmla="*/ 7916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cc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Тестирование и сравнение показателей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физической подготовленности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Что такое кросс?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Равномерный бе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Бег с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4" action="ppaction://hlinksldjump"/>
              </a:rPr>
              <a:t>Бег по пересеченной мес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</cp:lastModifiedBy>
  <dcterms:modified xsi:type="dcterms:W3CDTF">2016-11-23T15:41:3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