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A65-AF79-459F-91F7-E7416A93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71C-A7FF-4883-8AE0-D7633630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FC4-06E7-412C-8582-3E397C9F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7CF-161A-4F4E-9D26-6ED8164B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C1AF-3602-4C85-A744-52479449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953B-A57C-4DEC-9CD7-02E54A6E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FB13-2340-4C69-8E5B-DE3861E2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1D34-2C46-4D09-AD2E-8F81784D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45C6-BE80-4535-A156-1B3C2204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D162-F308-43AC-9F78-F0C66488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254D-0749-40EB-BC1F-E7D24AC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B17-8A51-4EC9-A600-A80E9598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0A5B-173F-485A-B5A1-A546D02E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3777-5EF6-4A88-B6D5-68A60342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8E5A-DD41-4264-A6E9-5878949C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BB6B-B1D2-48E8-BB78-124BF196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F3F0-2EC8-45C2-A7C3-0E33CA46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A65-48FC-47E8-8DD4-EEC6626D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26D-FA25-459B-8A3A-E9960752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78E-1EA1-4625-8911-9AD1E272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B91-B28C-47C3-8028-99B69740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FB1-9BD6-4351-834E-575D587C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B71-B18F-4290-BE6B-50C32A1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509-9755-4EFC-A17C-51E8B97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83B2-8356-43FD-80E6-9A9EC314D1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A8D3-7601-4BF5-A655-F27C4E1F2AE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00"/>
                </a:solidFill>
                <a:latin typeface="Times New Roman"/>
              </a:rPr>
              <a:t>Легкая атлетика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660000"/>
                </a:solidFill>
                <a:latin typeface="Times New Roman"/>
              </a:rPr>
              <a:t>Учитель: Воропаева Татьяна Михайловн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Какой из этих прыжков не является видом легкой атлети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Прыжок в длину с разб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Прыжок в высоту с шес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Тройной прыжок в дли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 Прыжок через коз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Какая из этих фаз является основой техники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1. Разбе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2. Отталки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Фаза пол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изем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С целью развития общей выносливости непрерывный бег выполняется при пульсе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100-120 уд./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120-140 уд./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140-160 уд./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160-180 уд./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главл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Тем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Цели и задач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Виды легкой атле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Разновидности б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5" action="ppaction://hlinksldjump"/>
              </a:rPr>
              <a:t>Прыжки в длину с разб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6" action="ppaction://hlinksldjump"/>
              </a:rPr>
              <a:t>Контроль за физическим состоя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7" action="ppaction://hlinksldjump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Разновидности бега. Прыжки в длину с разбега способом «согнув ноги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1219320" y="2286000"/>
          <a:ext cx="678168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86000"/>
                    <a:ext cx="6781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и и задач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ить знания о разновидностях бе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ить знания о технике прыжков в длину с разбе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ить знания о приемах определения самочувств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иды легкой атлети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05" name="Diagram 6"/>
          <p:cNvGrpSpPr/>
          <p:nvPr/>
        </p:nvGrpSpPr>
        <p:grpSpPr>
          <a:xfrm>
            <a:off x="936360" y="1599120"/>
            <a:ext cx="7197120" cy="4023720"/>
            <a:chOff x="936360" y="1599120"/>
            <a:chExt cx="7197120" cy="4023720"/>
          </a:xfrm>
        </p:grpSpPr>
        <p:sp>
          <p:nvSpPr>
            <p:cNvPr id="106" name="_s2052"/>
            <p:cNvSpPr/>
            <p:nvPr/>
          </p:nvSpPr>
          <p:spPr>
            <a:xfrm flipV="1">
              <a:off x="4533480" y="2835000"/>
              <a:ext cx="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3"/>
            <p:cNvSpPr/>
            <p:nvPr/>
          </p:nvSpPr>
          <p:spPr>
            <a:xfrm>
              <a:off x="3534840" y="1599120"/>
              <a:ext cx="2000520" cy="12376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ыж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4"/>
            <p:cNvSpPr/>
            <p:nvPr/>
          </p:nvSpPr>
          <p:spPr>
            <a:xfrm>
              <a:off x="5397840" y="4383000"/>
              <a:ext cx="870120" cy="30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5"/>
            <p:cNvSpPr/>
            <p:nvPr/>
          </p:nvSpPr>
          <p:spPr>
            <a:xfrm>
              <a:off x="6133680" y="4385160"/>
              <a:ext cx="1999800" cy="12376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ет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6"/>
            <p:cNvSpPr/>
            <p:nvPr/>
          </p:nvSpPr>
          <p:spPr>
            <a:xfrm flipH="1">
              <a:off x="2799000" y="4383000"/>
              <a:ext cx="87012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7"/>
            <p:cNvSpPr/>
            <p:nvPr/>
          </p:nvSpPr>
          <p:spPr>
            <a:xfrm>
              <a:off x="936360" y="4385160"/>
              <a:ext cx="2000520" cy="12376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е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2058"/>
            <p:cNvSpPr/>
            <p:nvPr/>
          </p:nvSpPr>
          <p:spPr>
            <a:xfrm>
              <a:off x="3534840" y="3457080"/>
              <a:ext cx="2000520" cy="12376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Легкая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тлети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азновидности бег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14" name="Diagram 8"/>
          <p:cNvGrpSpPr/>
          <p:nvPr/>
        </p:nvGrpSpPr>
        <p:grpSpPr>
          <a:xfrm>
            <a:off x="804960" y="1711800"/>
            <a:ext cx="7536960" cy="4684680"/>
            <a:chOff x="804960" y="1711800"/>
            <a:chExt cx="7536960" cy="4684680"/>
          </a:xfrm>
        </p:grpSpPr>
        <p:sp>
          <p:nvSpPr>
            <p:cNvPr id="115" name="_s3076"/>
            <p:cNvSpPr/>
            <p:nvPr/>
          </p:nvSpPr>
          <p:spPr>
            <a:xfrm flipH="1" flipV="1">
              <a:off x="2756880" y="3467880"/>
              <a:ext cx="909360" cy="29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3077"/>
            <p:cNvSpPr/>
            <p:nvPr/>
          </p:nvSpPr>
          <p:spPr>
            <a:xfrm>
              <a:off x="804960" y="25902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эстафетный бе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3078"/>
            <p:cNvSpPr/>
            <p:nvPr/>
          </p:nvSpPr>
          <p:spPr>
            <a:xfrm flipH="1">
              <a:off x="2756880" y="4347000"/>
              <a:ext cx="909360" cy="2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3079"/>
            <p:cNvSpPr/>
            <p:nvPr/>
          </p:nvSpPr>
          <p:spPr>
            <a:xfrm>
              <a:off x="804960" y="43470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рос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3080"/>
            <p:cNvSpPr/>
            <p:nvPr/>
          </p:nvSpPr>
          <p:spPr>
            <a:xfrm>
              <a:off x="4572000" y="4638600"/>
              <a:ext cx="0" cy="58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3081"/>
            <p:cNvSpPr/>
            <p:nvPr/>
          </p:nvSpPr>
          <p:spPr>
            <a:xfrm>
              <a:off x="3525480" y="5225400"/>
              <a:ext cx="2095560" cy="11710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арьерный бег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3082"/>
            <p:cNvSpPr/>
            <p:nvPr/>
          </p:nvSpPr>
          <p:spPr>
            <a:xfrm>
              <a:off x="5477760" y="4347000"/>
              <a:ext cx="908640" cy="2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3083"/>
            <p:cNvSpPr/>
            <p:nvPr/>
          </p:nvSpPr>
          <p:spPr>
            <a:xfrm>
              <a:off x="6246360" y="43470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ег с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епятствиям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3084"/>
            <p:cNvSpPr/>
            <p:nvPr/>
          </p:nvSpPr>
          <p:spPr>
            <a:xfrm flipV="1">
              <a:off x="5477760" y="3467880"/>
              <a:ext cx="908640" cy="29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3085"/>
            <p:cNvSpPr/>
            <p:nvPr/>
          </p:nvSpPr>
          <p:spPr>
            <a:xfrm>
              <a:off x="6246360" y="25902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ладкий бе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3086"/>
            <p:cNvSpPr/>
            <p:nvPr/>
          </p:nvSpPr>
          <p:spPr>
            <a:xfrm flipV="1">
              <a:off x="4572000" y="288144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3087"/>
            <p:cNvSpPr/>
            <p:nvPr/>
          </p:nvSpPr>
          <p:spPr>
            <a:xfrm>
              <a:off x="3525480" y="17118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прин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3088"/>
            <p:cNvSpPr/>
            <p:nvPr/>
          </p:nvSpPr>
          <p:spPr>
            <a:xfrm>
              <a:off x="3525480" y="34704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е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ыжки в длину с разбег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29" name="Organization Chart 6"/>
          <p:cNvGrpSpPr/>
          <p:nvPr/>
        </p:nvGrpSpPr>
        <p:grpSpPr>
          <a:xfrm>
            <a:off x="460440" y="1828800"/>
            <a:ext cx="8222400" cy="4300560"/>
            <a:chOff x="460440" y="1828800"/>
            <a:chExt cx="8222400" cy="4300560"/>
          </a:xfrm>
        </p:grpSpPr>
        <p:cxnSp>
          <p:nvCxnSpPr>
            <p:cNvPr id="130" name="_s4100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740200" y="2379240"/>
              <a:ext cx="860760" cy="3198240"/>
            </a:xfrm>
            <a:prstGeom prst="bentConnector3">
              <a:avLst>
                <a:gd name="adj1" fmla="val 13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4101"/>
            <p:cNvCxnSpPr>
              <a:stCxn id="134" idx="0"/>
              <a:endCxn id="132" idx="2"/>
            </p:cNvCxnSpPr>
            <p:nvPr/>
          </p:nvCxnSpPr>
          <p:spPr>
            <a:xfrm flipV="1" rot="16200000">
              <a:off x="4674240" y="3445200"/>
              <a:ext cx="860760" cy="1066320"/>
            </a:xfrm>
            <a:prstGeom prst="bentConnector3">
              <a:avLst>
                <a:gd name="adj1" fmla="val 13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4102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3608280" y="3445200"/>
              <a:ext cx="860760" cy="1066680"/>
            </a:xfrm>
            <a:prstGeom prst="bentConnector3">
              <a:avLst>
                <a:gd name="adj1" fmla="val 13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4103"/>
            <p:cNvCxnSpPr>
              <a:stCxn id="138" idx="0"/>
              <a:endCxn id="132" idx="2"/>
            </p:cNvCxnSpPr>
            <p:nvPr/>
          </p:nvCxnSpPr>
          <p:spPr>
            <a:xfrm flipH="1" flipV="1" rot="5400000">
              <a:off x="2542320" y="2379240"/>
              <a:ext cx="860760" cy="3198600"/>
            </a:xfrm>
            <a:prstGeom prst="bentConnector3">
              <a:avLst>
                <a:gd name="adj1" fmla="val 13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4104"/>
            <p:cNvSpPr/>
            <p:nvPr/>
          </p:nvSpPr>
          <p:spPr>
            <a:xfrm>
              <a:off x="3658320" y="182880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ыжок способо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согнув ног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4105"/>
            <p:cNvSpPr/>
            <p:nvPr/>
          </p:nvSpPr>
          <p:spPr>
            <a:xfrm>
              <a:off x="460440" y="440928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бе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4106"/>
            <p:cNvSpPr/>
            <p:nvPr/>
          </p:nvSpPr>
          <p:spPr>
            <a:xfrm>
              <a:off x="2592000" y="440928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тталкив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4107"/>
            <p:cNvSpPr/>
            <p:nvPr/>
          </p:nvSpPr>
          <p:spPr>
            <a:xfrm>
              <a:off x="4723920" y="440928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аза полет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4108"/>
            <p:cNvSpPr/>
            <p:nvPr/>
          </p:nvSpPr>
          <p:spPr>
            <a:xfrm>
              <a:off x="6855840" y="440928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иземл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нтроль за физическим состояние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40" name="Diagram 37"/>
          <p:cNvGrpSpPr/>
          <p:nvPr/>
        </p:nvGrpSpPr>
        <p:grpSpPr>
          <a:xfrm>
            <a:off x="394200" y="2001240"/>
            <a:ext cx="8354520" cy="3727800"/>
            <a:chOff x="394200" y="2001240"/>
            <a:chExt cx="8354520" cy="3727800"/>
          </a:xfrm>
        </p:grpSpPr>
        <p:sp>
          <p:nvSpPr>
            <p:cNvPr id="141" name="_s5124"/>
            <p:cNvSpPr/>
            <p:nvPr/>
          </p:nvSpPr>
          <p:spPr>
            <a:xfrm flipV="1">
              <a:off x="3525840" y="2001240"/>
              <a:ext cx="2091600" cy="931680"/>
            </a:xfrm>
            <a:custGeom>
              <a:avLst/>
              <a:gdLst>
                <a:gd name="textAreaLeft" fmla="*/ 750240 w 2091600"/>
                <a:gd name="textAreaRight" fmla="*/ 1341360 w 2091600"/>
                <a:gd name="textAreaTop" fmla="*/ 334080 h 931680"/>
                <a:gd name="textAreaBottom" fmla="*/ 59760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онтроль за функциональным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состоянием организм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5125"/>
            <p:cNvSpPr/>
            <p:nvPr/>
          </p:nvSpPr>
          <p:spPr>
            <a:xfrm flipV="1">
              <a:off x="2483280" y="2932200"/>
              <a:ext cx="4177440" cy="932040"/>
            </a:xfrm>
            <a:custGeom>
              <a:avLst/>
              <a:gdLst>
                <a:gd name="textAreaLeft" fmla="*/ 918720 w 4177440"/>
                <a:gd name="textAreaRight" fmla="*/ 3258720 w 4177440"/>
                <a:gd name="textAreaTop" fmla="*/ 204840 h 932040"/>
                <a:gd name="textAreaBottom" fmla="*/ 7272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ценка реакции организма в ответ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 выполняемые упражнения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5126"/>
            <p:cNvSpPr/>
            <p:nvPr/>
          </p:nvSpPr>
          <p:spPr>
            <a:xfrm flipV="1">
              <a:off x="1440720" y="3865320"/>
              <a:ext cx="6262560" cy="931680"/>
            </a:xfrm>
            <a:custGeom>
              <a:avLst/>
              <a:gdLst>
                <a:gd name="textAreaLeft" fmla="*/ 1087200 w 6262560"/>
                <a:gd name="textAreaRight" fmla="*/ 5175360 w 6262560"/>
                <a:gd name="textAreaTop" fmla="*/ 161640 h 931680"/>
                <a:gd name="textAreaBottom" fmla="*/ 770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онтроль за эффективностью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тренировочных занятий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5127"/>
            <p:cNvSpPr/>
            <p:nvPr/>
          </p:nvSpPr>
          <p:spPr>
            <a:xfrm flipV="1">
              <a:off x="394200" y="4797000"/>
              <a:ext cx="8354520" cy="931680"/>
            </a:xfrm>
            <a:custGeom>
              <a:avLst/>
              <a:gdLst>
                <a:gd name="textAreaLeft" fmla="*/ 1256760 w 8354520"/>
                <a:gd name="textAreaRight" fmla="*/ 7097760 w 8354520"/>
                <a:gd name="textAreaTop" fmla="*/ 140040 h 931680"/>
                <a:gd name="textAreaBottom" fmla="*/ 7916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Тестирование и сравнение показателей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физической подготовленности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Что такое кросс?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Равномерный бе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Бег с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Бег по пересеченной мес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</cp:lastModifiedBy>
  <dcterms:modified xsi:type="dcterms:W3CDTF">2016-11-23T15:41:3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