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5FD3-EFC1-4E4A-8BB8-2F7C0E2FA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95E6-94A7-47DD-BEC1-C0C2CB30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E1F4-719E-4740-9A0D-41ADF5357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CEE3-E86F-4CD0-A862-6B4C43BBA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C7D8-ABE0-41D4-98A6-C1041E8C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457A-8E9D-4FB0-BE2D-399FB3CB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71D9-0267-4D8C-8376-8D46DD21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B13C-653E-4AFB-9C0A-31150195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601D-1894-4448-A945-35705E00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ADE7-A91E-4894-8175-6738AB33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9800-6612-4560-AB9E-B1C62CEB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3089-27E5-4B71-BE8A-6F430EFC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2530-4C97-4836-A6F9-8F55BF173CC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907920" y="49320"/>
            <a:ext cx="7901280" cy="1981080"/>
          </a:xfrm>
          <a:prstGeom prst="rect">
            <a:avLst/>
          </a:prstGeom>
          <a:ln w="0">
            <a:noFill/>
          </a:ln>
        </p:spPr>
      </p:pic>
      <p:pic>
        <p:nvPicPr>
          <p:cNvPr id="42" name="Содержимое 3" descr="51501764_Dal.jpg"/>
          <p:cNvPicPr/>
          <p:nvPr/>
        </p:nvPicPr>
        <p:blipFill>
          <a:blip r:embed="rId2"/>
          <a:stretch/>
        </p:blipFill>
        <p:spPr>
          <a:xfrm>
            <a:off x="2401920" y="1908000"/>
            <a:ext cx="3181320" cy="36752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1"/>
          <a:stretch/>
        </p:blipFill>
        <p:spPr>
          <a:xfrm>
            <a:off x="1390680" y="281160"/>
            <a:ext cx="6557760" cy="1279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9640" y="1988640"/>
            <a:ext cx="81360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Русский писатель, этнограф, лингвист, лексикограф, врач – это всё об одном человеке. Владимир Иванович Даль –автор книг «Пословицы русского народа» «Толковый словарь живого великорусского языка», учебников ботаники и зоологи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Заголовок 1" descr=""/>
          <p:cNvPicPr/>
          <p:nvPr/>
        </p:nvPicPr>
        <p:blipFill>
          <a:blip r:embed="rId1"/>
          <a:stretch/>
        </p:blipFill>
        <p:spPr>
          <a:xfrm>
            <a:off x="469800" y="115920"/>
            <a:ext cx="5467320" cy="6407280"/>
          </a:xfrm>
          <a:prstGeom prst="rect">
            <a:avLst/>
          </a:prstGeom>
          <a:ln w="0">
            <a:noFill/>
          </a:ln>
        </p:spPr>
      </p:pic>
      <p:pic>
        <p:nvPicPr>
          <p:cNvPr id="46" name="Содержимое 3" descr="19-popup-low.jpg"/>
          <p:cNvPicPr/>
          <p:nvPr/>
        </p:nvPicPr>
        <p:blipFill>
          <a:blip r:embed="rId2"/>
          <a:stretch/>
        </p:blipFill>
        <p:spPr>
          <a:xfrm>
            <a:off x="5851440" y="603360"/>
            <a:ext cx="3348000" cy="40654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1"/>
          <a:stretch/>
        </p:blipFill>
        <p:spPr>
          <a:xfrm>
            <a:off x="1925640" y="249120"/>
            <a:ext cx="5791320" cy="946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28760" y="1071360"/>
            <a:ext cx="78580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Жизнь Владимира Ивановича была яркой и насыщенной. Сначала он учился в Петербургском морском кадетском корпусе, а затем – на медицинском факультете Дерптского университета. Служил офицером на флотах Черноморском и Балтийском, был военным врачом в сухопутных частях русской армии, чиновником при Оренбургском военном округе. Участвовал в русско-турецкой войне 1828-1829 годов, не раз отличался в сражениях.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1420920" y="195120"/>
            <a:ext cx="6046560" cy="841680"/>
          </a:xfrm>
          <a:prstGeom prst="rect">
            <a:avLst/>
          </a:prstGeom>
          <a:ln w="0">
            <a:noFill/>
          </a:ln>
        </p:spPr>
      </p:pic>
      <p:pic>
        <p:nvPicPr>
          <p:cNvPr id="50" name="Текст 2" descr=""/>
          <p:cNvPicPr/>
          <p:nvPr/>
        </p:nvPicPr>
        <p:blipFill>
          <a:blip r:embed="rId2"/>
          <a:stretch/>
        </p:blipFill>
        <p:spPr>
          <a:xfrm>
            <a:off x="396720" y="1163520"/>
            <a:ext cx="7783560" cy="4498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1" descr=""/>
          <p:cNvPicPr/>
          <p:nvPr/>
        </p:nvPicPr>
        <p:blipFill>
          <a:blip r:embed="rId1"/>
          <a:stretch/>
        </p:blipFill>
        <p:spPr>
          <a:xfrm>
            <a:off x="560520" y="176040"/>
            <a:ext cx="6126120" cy="1920960"/>
          </a:xfrm>
          <a:prstGeom prst="rect">
            <a:avLst/>
          </a:prstGeom>
          <a:ln w="0">
            <a:noFill/>
          </a:ln>
        </p:spPr>
      </p:pic>
      <p:pic>
        <p:nvPicPr>
          <p:cNvPr id="52" name="Текст 2" descr=""/>
          <p:cNvPicPr/>
          <p:nvPr/>
        </p:nvPicPr>
        <p:blipFill>
          <a:blip r:embed="rId2"/>
          <a:stretch/>
        </p:blipFill>
        <p:spPr>
          <a:xfrm>
            <a:off x="853920" y="2127240"/>
            <a:ext cx="6400800" cy="29322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3" descr="ebb40287e0303fc9d2608c9d424.jpg"/>
          <p:cNvPicPr/>
          <p:nvPr/>
        </p:nvPicPr>
        <p:blipFill>
          <a:blip r:embed="rId3"/>
          <a:stretch/>
        </p:blipFill>
        <p:spPr>
          <a:xfrm>
            <a:off x="7023240" y="3876840"/>
            <a:ext cx="1523880" cy="4054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Заголовок 1" descr=""/>
          <p:cNvPicPr/>
          <p:nvPr/>
        </p:nvPicPr>
        <p:blipFill>
          <a:blip r:embed="rId1"/>
          <a:stretch/>
        </p:blipFill>
        <p:spPr>
          <a:xfrm>
            <a:off x="2712960" y="225360"/>
            <a:ext cx="3402000" cy="8114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360" y="1143000"/>
            <a:ext cx="846144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ndara"/>
              </a:rPr>
              <a:t>Их знакомство должно было состояться через посредничество Жуковского в 1832-ом году, но Владимир Даль решил лично представиться Александру Пушкину и подарить один из немногих сохранившихся экземпляров «Сказок…», вышедших недавн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ndara"/>
              </a:rPr>
              <a:t>Пушкин поддержал идею Владимира Ивановича составить «Словарь живого великорусского языка», а о собранных Далем пословицах и поговорках отозвался восторжен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ndara"/>
              </a:rPr>
              <a:t>Так по инициативе Владимира Даля началось его знакомство с Пушкиным, позднее переросшее в искреннюю дружбу, длившуюся до самой смерти поэта</a:t>
            </a:r>
            <a:r>
              <a:rPr b="1" i="1" lang="ru-RU" sz="18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6T14:23:58Z</dcterms:created>
  <dc:creator>Владелец</dc:creator>
  <dc:description/>
  <dc:language>en-US</dc:language>
  <cp:lastModifiedBy>Надежда</cp:lastModifiedBy>
  <dcterms:modified xsi:type="dcterms:W3CDTF">2016-11-23T13:23:45Z</dcterms:modified>
  <cp:revision>139</cp:revision>
  <dc:subject/>
  <dc:title>Владимир Иванович Даль</dc:title>
</cp:coreProperties>
</file>