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CC5F-46BD-464F-B08F-EA3DAE72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3942-E55B-4D01-BEE4-C202B55D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F67-1F03-4480-B828-C3EAF923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CB03-856C-4BA6-A973-DAE63746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15AD-8359-4EA6-8A0C-CD87A144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336-C5B7-4230-AAC4-08C32389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D1D-AB30-4DE7-A0E2-16B1EE37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A0C-09A9-453C-9308-522E0407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AC0A-1A3D-47BF-93CF-3E8E6747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9C20-DA05-4182-9C36-7363861C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46EB-DE54-426A-8883-8B58D010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D72-8133-45FD-946F-C6EE5666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451C-EA66-41C8-A13D-2E9B7860F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7058160" y="1628640"/>
            <a:ext cx="2085840" cy="1944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35"/>
          <p:cNvPicPr/>
          <p:nvPr/>
        </p:nvPicPr>
        <p:blipFill>
          <a:blip r:embed="rId2"/>
          <a:stretch/>
        </p:blipFill>
        <p:spPr>
          <a:xfrm>
            <a:off x="324000" y="0"/>
            <a:ext cx="2232000" cy="249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наркотик"/>
          <p:cNvPicPr/>
          <p:nvPr/>
        </p:nvPicPr>
        <p:blipFill>
          <a:blip r:embed="rId3"/>
          <a:stretch/>
        </p:blipFill>
        <p:spPr>
          <a:xfrm>
            <a:off x="4932360" y="3933720"/>
            <a:ext cx="3311640" cy="2592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Нет алкоголю"/>
          <p:cNvPicPr/>
          <p:nvPr/>
        </p:nvPicPr>
        <p:blipFill>
          <a:blip r:embed="rId4"/>
          <a:stretch/>
        </p:blipFill>
        <p:spPr>
          <a:xfrm>
            <a:off x="324000" y="4392720"/>
            <a:ext cx="2519280" cy="2465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 rot="20435400">
            <a:off x="822600" y="1504440"/>
            <a:ext cx="79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Вредным привычка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скажем «Нет!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вять заповедей 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) четкий режим дн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2) свежий воздух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3) больше смех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4) физическая актив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5) правильное питани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6) не пить, не кури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7) личная гигиен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8) любовь к себе и друг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9) занятия по ду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ем опасен никотин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j0304933"/>
          <p:cNvPicPr/>
          <p:nvPr/>
        </p:nvPicPr>
        <p:blipFill>
          <a:blip r:embed="rId1"/>
          <a:stretch/>
        </p:blipFill>
        <p:spPr>
          <a:xfrm>
            <a:off x="179280" y="2492280"/>
            <a:ext cx="1819440" cy="16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2"/>
          <a:stretch/>
        </p:blipFill>
        <p:spPr>
          <a:xfrm>
            <a:off x="179280" y="4076640"/>
            <a:ext cx="1765440" cy="1481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124000" y="3068640"/>
            <a:ext cx="67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ролик    погибает от 1/4 капли   нико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908000" y="4365720"/>
            <a:ext cx="692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бака     погибает от 1\2 капли нико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233440" y="5877000"/>
            <a:ext cx="691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еловек  погибает от 2-3 капель никот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224784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1125360"/>
            <a:ext cx="9407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тицы погибают, если к их клюву подне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еклянную палочку, смоченную  никоти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воробей"/>
          <p:cNvPicPr/>
          <p:nvPr/>
        </p:nvPicPr>
        <p:blipFill>
          <a:blip r:embed="rId3"/>
          <a:stretch/>
        </p:blipFill>
        <p:spPr>
          <a:xfrm>
            <a:off x="539640" y="1341360"/>
            <a:ext cx="15843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Лёгкие курильщика"/>
          <p:cNvPicPr/>
          <p:nvPr/>
        </p:nvPicPr>
        <p:blipFill>
          <a:blip r:embed="rId1"/>
          <a:stretch/>
        </p:blipFill>
        <p:spPr>
          <a:xfrm>
            <a:off x="0" y="1979640"/>
            <a:ext cx="9144000" cy="4878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900000" y="476280"/>
            <a:ext cx="770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ёгкие здорового челове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курильщ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ПОЛОЖЕНИЕ 080"/>
          <p:cNvPicPr/>
          <p:nvPr/>
        </p:nvPicPr>
        <p:blipFill>
          <a:blip r:embed="rId1"/>
          <a:stretch/>
        </p:blipFill>
        <p:spPr>
          <a:xfrm>
            <a:off x="900000" y="0"/>
            <a:ext cx="741708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убы здорового человек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 курильщ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зубы курильщика"/>
          <p:cNvPicPr/>
          <p:nvPr/>
        </p:nvPicPr>
        <p:blipFill>
          <a:blip r:embed="rId1"/>
          <a:stretch/>
        </p:blipFill>
        <p:spPr>
          <a:xfrm>
            <a:off x="395280" y="1628640"/>
            <a:ext cx="83534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4"/>
          <p:cNvSpPr/>
          <p:nvPr/>
        </p:nvSpPr>
        <p:spPr>
          <a:xfrm>
            <a:off x="179280" y="285840"/>
            <a:ext cx="875052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СТАТИ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 России сегодня курят 70 млн. человек, а ежегодно умирает от курения 400 тыс.человек, 10 % средств, расходуемых на здравоохранение идут 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борьбу с болезням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вязанными с хроническим отравлением табачным дым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e5fb3d44765ffe859c0af344e0ef197f"/>
          <p:cNvPicPr/>
          <p:nvPr/>
        </p:nvPicPr>
        <p:blipFill>
          <a:blip r:embed="rId1"/>
          <a:stretch/>
        </p:blipFill>
        <p:spPr>
          <a:xfrm>
            <a:off x="6442200" y="3500280"/>
            <a:ext cx="27018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ти алкоголиков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Есть ли у них детств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а2"/>
          <p:cNvPicPr/>
          <p:nvPr/>
        </p:nvPicPr>
        <p:blipFill>
          <a:blip r:embed="rId1"/>
          <a:stretch/>
        </p:blipFill>
        <p:spPr>
          <a:xfrm>
            <a:off x="0" y="1628640"/>
            <a:ext cx="4089240" cy="522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а10"/>
          <p:cNvPicPr/>
          <p:nvPr/>
        </p:nvPicPr>
        <p:blipFill>
          <a:blip r:embed="rId2"/>
          <a:stretch/>
        </p:blipFill>
        <p:spPr>
          <a:xfrm>
            <a:off x="4067280" y="1628640"/>
            <a:ext cx="50767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НАРКОТИКИ –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БЕЛАЯ СМЕР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нарк2"/>
          <p:cNvPicPr/>
          <p:nvPr/>
        </p:nvPicPr>
        <p:blipFill>
          <a:blip r:embed="rId1"/>
          <a:stretch/>
        </p:blipFill>
        <p:spPr>
          <a:xfrm>
            <a:off x="5003640" y="1916280"/>
            <a:ext cx="3924360" cy="424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663480" y="1865160"/>
            <a:ext cx="397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0" y="1413000"/>
            <a:ext cx="50036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раньше человек привыкает к ним, тем быстрее он умирает. Хронические наркоманы вообще живут очень мало. Наркотики полностью высасывают из человека силы. Нет никакой смелости в том, чтобы пробовать наркотики. А вот если человек сумел в компании отказаться, значит, у него действительно е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мелость и в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Лицо наркомана через 1,5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лицо наркомана"/>
          <p:cNvPicPr/>
          <p:nvPr/>
        </p:nvPicPr>
        <p:blipFill>
          <a:blip r:embed="rId1"/>
          <a:stretch/>
        </p:blipFill>
        <p:spPr>
          <a:xfrm>
            <a:off x="539640" y="1484280"/>
            <a:ext cx="8207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13:41:55Z</dcterms:created>
  <dc:creator>Admin</dc:creator>
  <dc:description/>
  <dc:language>en-US</dc:language>
  <cp:lastModifiedBy>AMD</cp:lastModifiedBy>
  <dcterms:modified xsi:type="dcterms:W3CDTF">2016-11-16T02:47:29Z</dcterms:modified>
  <cp:revision>5</cp:revision>
  <dc:subject/>
  <dc:title>Слайд 1</dc:title>
</cp:coreProperties>
</file>