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EF0-B7B7-4196-8350-8A86E8EE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506-E4A3-4DE9-A958-296ACE3E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66B-65D2-43F8-AA13-8498768E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24F-4DD5-458B-B2EB-B7DEF7E2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8955-9697-44EF-8A77-75EFC87E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D323-C4F6-494C-BA46-E345A61D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619F-CAC8-4472-9FFC-4896D7EB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64C7-DD10-4B60-8FD2-46CA775C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DC02-47F4-4D44-900F-4C363FEB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166A-A0B7-4662-9CD3-2BB52876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89C8-DE96-445E-A8A6-EA7E5F70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544-B62D-4433-B2B9-E34FFFE4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4929-DEFC-465B-AFF8-4997035F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9D77-19E0-4A79-9F7D-A01AE894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2EB0-6995-4BDE-883D-61B4A8E0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9C84-CBDE-456E-98A3-52007C1E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FAA6-D4EE-4C34-B6A3-263E4B70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70BA-0DBF-4ACF-B041-02DBA5F4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E2F8B-C0C7-414D-9773-FC7FD516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7C57-01AD-42BB-A9BF-5152A5EF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62D54-D698-48F4-BBFF-E3C3042C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F91D-8CCE-4EC7-99BF-D8B6CBAB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74A-959C-4D23-BD96-E397262E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0F72E-0D74-4213-A795-5AA09759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B43DE-FB93-498E-AD25-C34F789E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87997-6C7B-4344-A5C5-274F774F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442E-C0A6-4271-8EF1-C66D63C8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886C5-6053-4973-80CB-F74B773C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9F88A-B8FA-4259-972C-ACF15520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28BEA-E255-49EC-B1AF-B64544F0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E7CED-B2D4-4F8F-8B37-11ECB3AA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90CE3-B2B3-4343-81AE-3FC0D4DC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CD99-3207-4E39-A278-E4A989F8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FC8-F898-421D-AA13-63F40B1A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5222A-64FF-4351-A21B-6CECF0A3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3D33D-41EE-4075-B28D-EFFA70F0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EA6A6-7C9E-4C37-A88B-59528596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D33D5-DC77-48EC-9334-0AB387C9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4B559-2213-4735-87CA-B057B5F7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A1C72-67C4-4AD1-8FAA-721B0198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A3257-48C2-47BF-BE81-9D23C6E9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A288A-105D-4C4E-AA6A-E685A70A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63E3D-D098-4ADD-919C-B1A3B76A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AA0E9-A285-467B-9EA6-D6F15002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435-8723-4130-8043-545DD23D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4A6EB-C31D-4458-91D4-6CB79C0D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44886-B0D6-4B69-860D-D3B166FC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4D31D-76DA-4F61-AE41-D9D10C20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4EA46-D78F-462F-913B-546F63E2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5C137-E47F-4CC4-AD9D-1B7E1B15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ABBC1-5C0F-40BF-A1E6-C3A8A5F8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3C37A-DAD2-466A-802C-060CA00F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44D1B-86AE-4F62-8597-43906CDB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CCB6-9AF7-44D9-A19F-EF7FA5A1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9DB7F-A265-4D71-8C3C-BB37DEE5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8FF-77AD-47F2-876E-EFE3EFBC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ECF46-257F-4EA4-9F0D-D871D1F2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BB64E-B81F-4EEB-B81F-7168AE84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28B0C-E588-49E7-9CB7-63F99510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AD88D-780A-441F-98DE-49305C12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30BA8-C977-4083-B9FF-7BA0A635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54877-2CB5-46A3-9289-1D0DAA9E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CE1EF-4C26-4AFC-B312-760DA1D7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A18A7-9A6A-4A0F-A370-4D7F0B64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37D7F-0673-4FA7-863F-9047E23E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248DB-2B1F-40FC-BEAC-A8B2164E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23D-C741-4BAA-823B-FB9613DB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610F0-DB03-42C4-896D-8C863F40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54782-7247-4FDF-B032-B746F4D7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E8ECF-A0BA-4D49-95B7-34F33DC8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831-1E7C-47AA-A210-00CBAD81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D56-9F78-46F1-B92D-6BCA09EC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5FA5-6BDE-481D-B092-8F84D310128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5957-3C7D-4404-A6E6-A1DCD34F921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C985-4711-4A9C-8048-0188C1B4703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0ED0-7320-4310-96D9-284DA5877D0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238F-7756-498A-A6B7-AFE3CCBD6C2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75D3-6FF4-4E3F-B5CF-C33BB476A80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1393920" y="1981080"/>
            <a:ext cx="6683400" cy="434340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1" descr=""/>
          <p:cNvPicPr/>
          <p:nvPr/>
        </p:nvPicPr>
        <p:blipFill>
          <a:blip r:embed="rId3"/>
          <a:stretch/>
        </p:blipFill>
        <p:spPr>
          <a:xfrm>
            <a:off x="1347840" y="66600"/>
            <a:ext cx="675324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лияние сроков посадки жимолости на укоренение одревесневшим черенкованием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138320"/>
                <a:gridCol w="901440"/>
                <a:gridCol w="1171800"/>
                <a:gridCol w="1299960"/>
                <a:gridCol w="947880"/>
                <a:gridCol w="1314360"/>
                <a:gridCol w="14558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евесневшее  черенк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аж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оренившие черен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приживаем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аж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оренившие черен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приживаем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о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н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alibri"/>
              </a:rPr>
              <a:t>Развитие корневой системы и укореняемость зеленых черенко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Line 73"/>
          <p:cNvSpPr/>
          <p:nvPr/>
        </p:nvSpPr>
        <p:spPr>
          <a:xfrm>
            <a:off x="5079960" y="2614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04920" y="2057400"/>
          <a:ext cx="8381880" cy="3780000"/>
        </p:xfrm>
        <a:graphic>
          <a:graphicData uri="http://schemas.openxmlformats.org/drawingml/2006/table">
            <a:tbl>
              <a:tblPr/>
              <a:tblGrid>
                <a:gridCol w="460080"/>
                <a:gridCol w="2938680"/>
                <a:gridCol w="1257120"/>
                <a:gridCol w="912960"/>
                <a:gridCol w="808200"/>
                <a:gridCol w="2004840"/>
              </a:tblGrid>
              <a:tr h="246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опы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ое черенк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корневой системы ,с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 НАДЗЕМНОЙ ЧАСТИ,С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корневой системы ,с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 НАДЗЕМНОЙ ЧАСТИ,С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отка черенков «Корневином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Calibri"/>
              </a:rPr>
              <a:t>Развитие корневой системы и укореняемость одревесневших черенко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Line 73"/>
          <p:cNvSpPr/>
          <p:nvPr/>
        </p:nvSpPr>
        <p:spPr>
          <a:xfrm>
            <a:off x="4572000" y="2614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52280" y="2395440"/>
          <a:ext cx="8839440" cy="3319560"/>
        </p:xfrm>
        <a:graphic>
          <a:graphicData uri="http://schemas.openxmlformats.org/drawingml/2006/table">
            <a:tbl>
              <a:tblPr/>
              <a:tblGrid>
                <a:gridCol w="524160"/>
                <a:gridCol w="3243240"/>
                <a:gridCol w="652320"/>
                <a:gridCol w="1030320"/>
                <a:gridCol w="1566720"/>
                <a:gridCol w="1822680"/>
              </a:tblGrid>
              <a:tr h="390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опы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евесневшее  черенк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корневой системы ,с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 НАДЗЕМНОЙ ЧАСТИ,С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корневой системы ,с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 НАДЗЕМНОЙ ЧАСТИ,С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отка черенков «Корневином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5" descr="images"/>
          <p:cNvPicPr/>
          <p:nvPr/>
        </p:nvPicPr>
        <p:blipFill>
          <a:blip r:embed="rId2"/>
          <a:stretch/>
        </p:blipFill>
        <p:spPr>
          <a:xfrm>
            <a:off x="2743200" y="2286000"/>
            <a:ext cx="3429000" cy="397044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2" descr=""/>
          <p:cNvPicPr/>
          <p:nvPr/>
        </p:nvPicPr>
        <p:blipFill>
          <a:blip r:embed="rId3"/>
          <a:stretch/>
        </p:blipFill>
        <p:spPr>
          <a:xfrm>
            <a:off x="6480" y="-103320"/>
            <a:ext cx="9412200" cy="2359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520" y="1523520"/>
            <a:ext cx="8458200" cy="26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188280" indent="-1882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Самый эффективный период посадки зеленых черенков середина июн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 Приживаемость саженцев жимолости методом зеленого черенкования на 25 % выше, чем методом одревесневших черенк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Обработка зеленых и одревесневших черенков жимолости регулятором роста оказывает существенное влияние на их приживаемость, высоту растений, длину корней, на выход стандартных саженце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Регулятор роста «Корневин» не только ускоряет процесс укоренения, но и способствует увеличению числа корней и улучшает общее развитие укоренивших растений. К концу вегетационного периода к началу сентября растения достигли высоты -15-20 см, имели 1-2 разветвления и хорошо развитую корневую систем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Прямоугольник 2" descr=""/>
          <p:cNvPicPr/>
          <p:nvPr/>
        </p:nvPicPr>
        <p:blipFill>
          <a:blip r:embed="rId2"/>
          <a:stretch/>
        </p:blipFill>
        <p:spPr>
          <a:xfrm>
            <a:off x="2468520" y="103320"/>
            <a:ext cx="4206960" cy="160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0880" y="1906200"/>
            <a:ext cx="830592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лученные в ходе исследования результаты             свидетельствуют о том, что размножение  жимолости голубой методом зеленого черенкования является наиболее перспективным вариантом размножения. Сравнительная оценка исследованных методов размножения жимолости позволяет рекомендовать зеленое черенкование как основной метод размножения жимолост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4" name="Прямоугольник 1" descr=""/>
          <p:cNvPicPr/>
          <p:nvPr/>
        </p:nvPicPr>
        <p:blipFill>
          <a:blip r:embed="rId2"/>
          <a:stretch/>
        </p:blipFill>
        <p:spPr>
          <a:xfrm>
            <a:off x="165240" y="-23760"/>
            <a:ext cx="8978760" cy="2346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Прямоугольник 3" descr=""/>
          <p:cNvPicPr/>
          <p:nvPr/>
        </p:nvPicPr>
        <p:blipFill>
          <a:blip r:embed="rId2"/>
          <a:stretch/>
        </p:blipFill>
        <p:spPr>
          <a:xfrm>
            <a:off x="341280" y="2530440"/>
            <a:ext cx="8528040" cy="1541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60948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onstantia"/>
              </a:rPr>
              <a:t>Цель: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Выявление эффективности различных способов размножения жимолости в условиях Рязанской области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914400" y="76212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растить посадочный материал жимол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учить  применение регулятора роста на укоренение зеленых и одревесневших черенков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% выхода посадочного материала при разных способах размнож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учить динамику роста и развития жимолости в зависимости от сроков черенков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533520" y="1973520"/>
            <a:ext cx="8121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Контроль(без обработк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обработка зеленых черенков  стимулятором роста  «Корневин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обработка одревесневших  черенков стимулятором роста    «Корневин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Прямоугольник 2" descr=""/>
          <p:cNvPicPr/>
          <p:nvPr/>
        </p:nvPicPr>
        <p:blipFill>
          <a:blip r:embed="rId2"/>
          <a:stretch/>
        </p:blipFill>
        <p:spPr>
          <a:xfrm>
            <a:off x="944640" y="133200"/>
            <a:ext cx="74372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5" descr=""/>
          <p:cNvPicPr/>
          <p:nvPr/>
        </p:nvPicPr>
        <p:blipFill>
          <a:blip r:embed="rId2"/>
          <a:stretch/>
        </p:blipFill>
        <p:spPr>
          <a:xfrm>
            <a:off x="2378160" y="274680"/>
            <a:ext cx="4387680" cy="5851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br>
              <a:rPr sz="3600"/>
            </a:br>
            <a:br>
              <a:rPr sz="18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3" name="Picture 4" descr="00075767"/>
          <p:cNvPicPr/>
          <p:nvPr/>
        </p:nvPicPr>
        <p:blipFill>
          <a:blip r:embed="rId2"/>
          <a:stretch/>
        </p:blipFill>
        <p:spPr>
          <a:xfrm>
            <a:off x="1905120" y="2209680"/>
            <a:ext cx="4952880" cy="403884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2" descr=""/>
          <p:cNvPicPr/>
          <p:nvPr/>
        </p:nvPicPr>
        <p:blipFill>
          <a:blip r:embed="rId3"/>
          <a:stretch/>
        </p:blipFill>
        <p:spPr>
          <a:xfrm>
            <a:off x="334800" y="19080"/>
            <a:ext cx="8407440" cy="235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-67212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6" name="Picture 4" descr="00075773"/>
          <p:cNvPicPr/>
          <p:nvPr/>
        </p:nvPicPr>
        <p:blipFill>
          <a:blip r:embed="rId2"/>
          <a:stretch/>
        </p:blipFill>
        <p:spPr>
          <a:xfrm>
            <a:off x="2286000" y="907920"/>
            <a:ext cx="4502160" cy="4953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2209680" y="2062080"/>
            <a:ext cx="4876920" cy="354348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1" descr=""/>
          <p:cNvPicPr/>
          <p:nvPr/>
        </p:nvPicPr>
        <p:blipFill>
          <a:blip r:embed="rId3"/>
          <a:stretch/>
        </p:blipFill>
        <p:spPr>
          <a:xfrm>
            <a:off x="1030320" y="-60480"/>
            <a:ext cx="723564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2"/>
          <a:stretch/>
        </p:blipFill>
        <p:spPr>
          <a:xfrm>
            <a:off x="536400" y="231840"/>
            <a:ext cx="7772400" cy="166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0" name=""/>
          <p:cNvGraphicFramePr/>
          <p:nvPr/>
        </p:nvGraphicFramePr>
        <p:xfrm>
          <a:off x="228600" y="1905120"/>
          <a:ext cx="8610480" cy="3801960"/>
        </p:xfrm>
        <a:graphic>
          <a:graphicData uri="http://schemas.openxmlformats.org/drawingml/2006/table">
            <a:tbl>
              <a:tblPr/>
              <a:tblGrid>
                <a:gridCol w="1649520"/>
                <a:gridCol w="1220760"/>
                <a:gridCol w="809640"/>
                <a:gridCol w="896760"/>
                <a:gridCol w="1206720"/>
                <a:gridCol w="1455480"/>
                <a:gridCol w="1371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леное черенк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аж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коренившие черен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приживаем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высаж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коренившие черен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приживаем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ботка черенков корневи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эбц</dc:creator>
  <dc:description/>
  <dc:language>en-US</dc:language>
  <cp:lastModifiedBy>admin</cp:lastModifiedBy>
  <dcterms:modified xsi:type="dcterms:W3CDTF">2014-10-15T11:43:23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