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19.jpeg" ContentType="image/jpeg"/>
  <Override PartName="/ppt/media/image11.png" ContentType="image/png"/>
  <Override PartName="/ppt/media/image9.png" ContentType="image/png"/>
  <Override PartName="/ppt/media/image14.jpeg" ContentType="image/jpeg"/>
  <Override PartName="/ppt/media/image38.png" ContentType="image/png"/>
  <Override PartName="/ppt/media/image8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png" ContentType="image/png"/>
  <Override PartName="/ppt/media/image30.jpeg" ContentType="image/jpeg"/>
  <Override PartName="/ppt/media/image7.wmf" ContentType="image/x-wmf"/>
  <Override PartName="/ppt/media/image34.jpeg" ContentType="image/jpeg"/>
  <Override PartName="/ppt/media/image37.png" ContentType="image/png"/>
  <Override PartName="/ppt/media/image18.jpeg" ContentType="image/jpeg"/>
  <Override PartName="/ppt/media/image36.png" ContentType="image/png"/>
  <Override PartName="/ppt/media/image6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5.jpeg" ContentType="image/jpeg"/>
  <Override PartName="/ppt/media/image1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7164-60A2-45E3-8BFB-BE12626052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A1BE-FE68-4071-A85C-32B92859BE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AA0-BEB8-4C5F-8C5A-9E432438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9FD-8792-4B32-A411-49939D89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85C-5F3F-4238-B79E-135DC015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5C0A-8B65-44F6-BC83-2FFA5E8F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42F6-D2FA-46EC-8E4A-0CA66450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D6E7-EE90-4DFB-B666-D61599A6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F32B-8FDC-467F-9C84-AAA9B122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0005-7AE1-44FA-A172-E2D73CA0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6FD6-4A6C-4348-A864-08787DF5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07F8-E187-42AF-86EA-DD8E01F5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ED1D-05A3-4E2A-8E29-01580C7C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F1B-CC1A-4181-8B7F-89D984CC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0E20-C441-4D5B-BDC5-9F12EFBE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F663-5ADD-450C-A17D-BD4ACBA9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0D37-D24A-474C-A5E4-ADD57716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C473-695E-463B-AEC7-DD40E53D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787E-750C-4E09-8F59-9A6A0BA6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DA56C-CAEA-4BB3-A8A7-F7F2383A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976B8-DB1A-4F94-99BE-25D5313D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05F6C-6329-4F8A-BC3A-242CB15F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9444D-A4AF-4E22-A5F2-6E7304A5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B8F2B-6C87-49C9-AA80-E5AD6C0F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D23-49ED-43CC-9CD9-6DAFBBF6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220A4-E729-49CC-ADEB-A7280015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58E67-F1ED-4AFE-8DB5-3716A278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A242D-E90C-471D-B9E6-0E8B7AFC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3E789-3F8B-4234-B62D-E0684654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473A-A95A-4875-84EF-EF82AFEB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9DAD-2541-46ED-8B21-2F9BA517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8419F-3B79-4B11-B239-9CC68051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844C5-F80A-46B1-97A2-5E2E9ED3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48909-049B-4C13-9ECB-1C1B2134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AD16F-CB03-4724-8F8E-BCD0F848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521-2F81-4681-8075-906F9EF1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ED56A-650A-4002-911E-C469903B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FECCB-C82B-4CF3-A6BF-128A7D79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C06B3-75FE-431A-95B3-A64D8AA6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77C8A-A0A0-42E7-B81C-066AF03D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0A880-547E-442B-AEFA-8C7AB65B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1FD58-A614-4206-946C-8510BC6B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BA0F3-3D67-416D-84E1-DFC8D84B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18E40-DC38-4A5C-8095-3EEBEECF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52E64-3126-479C-BB31-CBB79236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BD9-0C73-4045-832D-3752AADB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880C-7EBA-4820-89DC-902852B3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2C5-E267-4F13-A1BE-3F4DC842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F4F-C08C-47A6-A739-501E673C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E26-B56E-4315-9E9D-16B342A0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2738-39EB-43DB-B2A0-EE157C8CE65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A69D-960C-43B3-8DD6-3C89E32FD40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EB8F-4E49-41BF-8798-44AC568AFF4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B7FA-987E-432D-BB33-181700DDE06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071360" y="51055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спитатель: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 категор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Фохт М.Ю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Rectangle 19" descr=""/>
          <p:cNvPicPr/>
          <p:nvPr/>
        </p:nvPicPr>
        <p:blipFill>
          <a:blip r:embed="rId1"/>
          <a:stretch/>
        </p:blipFill>
        <p:spPr>
          <a:xfrm>
            <a:off x="493560" y="281160"/>
            <a:ext cx="7864560" cy="2011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Program Files\Microsoft Office\MEDIA\CAGCAT10\j0212957.wmf"/>
          <p:cNvPicPr/>
          <p:nvPr/>
        </p:nvPicPr>
        <p:blipFill>
          <a:blip r:embed="rId2"/>
          <a:stretch/>
        </p:blipFill>
        <p:spPr>
          <a:xfrm>
            <a:off x="3000240" y="2643120"/>
            <a:ext cx="292896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93560" y="-6480"/>
            <a:ext cx="7858440" cy="24638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ОД «Стоп, машина! Стоп, мотор! 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Рисунок 3" descr="DSC_0207.jpg"/>
          <p:cNvPicPr/>
          <p:nvPr/>
        </p:nvPicPr>
        <p:blipFill>
          <a:blip r:embed="rId2"/>
          <a:stretch/>
        </p:blipFill>
        <p:spPr>
          <a:xfrm>
            <a:off x="1714680" y="3571920"/>
            <a:ext cx="53496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137440" cy="17319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DSC_0212.jpg"/>
          <p:cNvPicPr/>
          <p:nvPr/>
        </p:nvPicPr>
        <p:blipFill>
          <a:blip r:embed="rId2"/>
          <a:stretch/>
        </p:blipFill>
        <p:spPr>
          <a:xfrm>
            <a:off x="1574640" y="2852640"/>
            <a:ext cx="5888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93560" y="-6480"/>
            <a:ext cx="7785360" cy="14335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71680" y="150012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ОД «Познания», «Дорога для машины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1" name="Рисунок 3" descr="DSC_0225.jpg"/>
          <p:cNvPicPr/>
          <p:nvPr/>
        </p:nvPicPr>
        <p:blipFill>
          <a:blip r:embed="rId2"/>
          <a:stretch/>
        </p:blipFill>
        <p:spPr>
          <a:xfrm>
            <a:off x="214200" y="2143080"/>
            <a:ext cx="4357800" cy="24512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DSC_0227.jpg"/>
          <p:cNvPicPr/>
          <p:nvPr/>
        </p:nvPicPr>
        <p:blipFill>
          <a:blip r:embed="rId3"/>
          <a:stretch/>
        </p:blipFill>
        <p:spPr>
          <a:xfrm>
            <a:off x="4714920" y="4071960"/>
            <a:ext cx="42782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633240" y="-6480"/>
            <a:ext cx="7785360" cy="14335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71680" y="1571400"/>
            <a:ext cx="7772400" cy="15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«Коммуникация» , НОД «На чем люди ездят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5" name="Рисунок 3" descr="DSC_0263.jpg"/>
          <p:cNvPicPr/>
          <p:nvPr/>
        </p:nvPicPr>
        <p:blipFill>
          <a:blip r:embed="rId2"/>
          <a:stretch/>
        </p:blipFill>
        <p:spPr>
          <a:xfrm rot="20969400">
            <a:off x="164880" y="2405160"/>
            <a:ext cx="3849480" cy="216540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4" descr="DSC_0267.jpg"/>
          <p:cNvPicPr/>
          <p:nvPr/>
        </p:nvPicPr>
        <p:blipFill>
          <a:blip r:embed="rId3"/>
          <a:stretch/>
        </p:blipFill>
        <p:spPr>
          <a:xfrm rot="21000600">
            <a:off x="4295520" y="2305080"/>
            <a:ext cx="3690720" cy="20764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5" descr="DSC_0270.jpg"/>
          <p:cNvPicPr/>
          <p:nvPr/>
        </p:nvPicPr>
        <p:blipFill>
          <a:blip r:embed="rId4"/>
          <a:stretch/>
        </p:blipFill>
        <p:spPr>
          <a:xfrm rot="20941800">
            <a:off x="5074920" y="4497120"/>
            <a:ext cx="33782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4" descr="DSC_0276.jpg"/>
          <p:cNvPicPr/>
          <p:nvPr/>
        </p:nvPicPr>
        <p:blipFill>
          <a:blip r:embed="rId1"/>
          <a:stretch/>
        </p:blipFill>
        <p:spPr>
          <a:xfrm>
            <a:off x="1500120" y="428760"/>
            <a:ext cx="5572080" cy="31334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5" descr="DSC_0281.jpg"/>
          <p:cNvPicPr/>
          <p:nvPr/>
        </p:nvPicPr>
        <p:blipFill>
          <a:blip r:embed="rId2"/>
          <a:stretch/>
        </p:blipFill>
        <p:spPr>
          <a:xfrm>
            <a:off x="1500120" y="3643200"/>
            <a:ext cx="557208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566640" y="195120"/>
            <a:ext cx="7851960" cy="17305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DSC_0284.jpg"/>
          <p:cNvPicPr/>
          <p:nvPr/>
        </p:nvPicPr>
        <p:blipFill>
          <a:blip r:embed="rId2"/>
          <a:stretch/>
        </p:blipFill>
        <p:spPr>
          <a:xfrm>
            <a:off x="714240" y="2214720"/>
            <a:ext cx="74217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225360" y="73080"/>
            <a:ext cx="8315280" cy="17985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00040" y="157176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Воспитатель активизирует родителей, вызовет заинтересованность в повышении уровня знаний о правилах безопасного поведения у дороги и в общественном транспорте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Дети получат элементарные знания о правилах дорожного движения и научатся в игре избегать опасных ситуаций на дорог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Дети расширят познания о транспорт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20840" y="-109440"/>
            <a:ext cx="7785000" cy="24080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42960" y="178560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Дети правильно используют в играх полученные знания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Дети хорошо знакомы с элементарными правилами дорожного движения и используют их в играх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Дети осознают опасность дороги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Родители проявляют интерес и готовы пополнять знания и участвовать в образовательном вопросе по данной тем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633240" y="-6480"/>
            <a:ext cx="7785360" cy="14335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42960" y="1571400"/>
            <a:ext cx="7772400" cy="4857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Дети: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асширили кругозор, пополнили словарный запас; научились различать легковой и грузовой транспорт, их назначение; научились избегать опасные ситуации на дорог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одители: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месте с детьми уточнили знания  о правилах безопасного поведения  на дороге, о перевозке детей на личном транспорте; провели незабываемые минуты в тесном общении со своими детьми при изготовлении макетов по ПДД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едагоги: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ивлекли родителей к активному сотрудничеству, установили партнерские отношения. Пополнили и обновили развивающую среду. Работа над проектом способствовала сплочению  детей, родителей и педагог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706320" y="201600"/>
            <a:ext cx="7785360" cy="9986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42960" y="178560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Тема оказалась очень интересной не только для детей, но и для родителей. В дальнейшем можно углублять знания детей.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вместно с родителями оформить уголок по ПДД, организовать беседы с детьми с участием родителей сотрудников ГИБДД. Таким образом, повышая интерес детей к ПДД и  обеспечивая безопасное поведение дошкольников на дорог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1096920" y="208080"/>
            <a:ext cx="7553520" cy="2442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57120" y="1999800"/>
            <a:ext cx="8399520" cy="43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onstantia"/>
              </a:rPr>
              <a:t>Тип проекта: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оллективны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onstantia"/>
              </a:rPr>
              <a:t>Продолжительность: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краткосрочны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onstantia"/>
              </a:rPr>
              <a:t>Участники: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дети 2 младшей группы, их родители, педагог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onstantia"/>
              </a:rPr>
              <a:t>Образовательная область:</a:t>
            </a:r>
            <a:r>
              <a:rPr b="1" lang="en-US" sz="2400" spc="-1" strike="noStrike">
                <a:solidFill>
                  <a:srgbClr val="262626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безопасность , коммуникация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ознание, социализация, художественное творчеств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566640" y="480960"/>
            <a:ext cx="7785360" cy="11588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0280" y="1773360"/>
            <a:ext cx="7642080" cy="40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анный проект разработан в силу того, что дети не знакомы с опасностью, которую представляет дорога, не знакомы с понятием – транспорт, правилами  дорожного движения, родители не знают ,как правильно научить ребенка соблюдать правила  безопасного поведения на улиц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523800" y="281160"/>
            <a:ext cx="7785000" cy="1285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0280" y="178596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ейчас особенно актуален вопрос обеспечения безопасности дошкольников  на дорогах и улицах города. Повышения педагогической компетентности родителей по вопросу обучения детей правилам безопасного поведения у дороги , в транспорте, а так же обучения родителей соблюдению правил безопасного поведения при переходе дороги с малышом , нахождении около проезжей  части и в общественном и личном транспорт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13840" y="285480"/>
            <a:ext cx="8215560" cy="550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Цель проекта</a:t>
            </a:r>
            <a:r>
              <a:rPr b="1" lang="ru-RU" sz="2400" spc="-1" strike="noStrike">
                <a:solidFill>
                  <a:srgbClr val="a5c249"/>
                </a:solidFill>
                <a:latin typeface="Constantia"/>
              </a:rPr>
              <a:t>: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Познакомить детей с различными видами  транспорта и элементарными правилами дорожного движения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r>
              <a:rPr b="1" lang="ru-RU" sz="2000" spc="-1" strike="noStrike">
                <a:solidFill>
                  <a:srgbClr val="a5c249"/>
                </a:solidFill>
                <a:latin typeface="Constanti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- Учить понимать обобщенное значение слова «транспорт»;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- Учить выделять и называть яркие признаки отдельных транспортных средств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их назначение;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- Знакомить с элементарными правилами дорожного движения;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-  Повысить интерес родителей к данной теме;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       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- Учить детей в  игре избегать опасные ситуации на дорог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став участников</a:t>
            </a:r>
            <a:r>
              <a:rPr b="1" lang="ru-RU" sz="2400" spc="-1" strike="noStrike">
                <a:solidFill>
                  <a:srgbClr val="a5c249"/>
                </a:solidFill>
                <a:latin typeface="Constantia"/>
              </a:rPr>
              <a:t>:</a:t>
            </a:r>
            <a:r>
              <a:rPr b="1" lang="ru-RU" sz="2400" spc="-1" strike="noStrike">
                <a:solidFill>
                  <a:srgbClr val="7e9632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ети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едагоги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одител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-225360" y="-2011320"/>
            <a:ext cx="7845480" cy="523548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5847840" y="928800"/>
            <a:ext cx="32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onstantia"/>
              </a:rPr>
              <a:t>Подготови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onstantia"/>
              </a:rPr>
              <a:t>1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5511600" y="2000160"/>
            <a:ext cx="27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onstantia"/>
              </a:rPr>
              <a:t>Аналит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onstantia"/>
              </a:rPr>
              <a:t>2  не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4805280" y="3071880"/>
            <a:ext cx="17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c6f7"/>
                </a:solidFill>
                <a:latin typeface="Constantia"/>
              </a:rPr>
              <a:t>Осно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c6f7"/>
                </a:solidFill>
                <a:latin typeface="Constantia"/>
              </a:rPr>
              <a:t>1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3555720" y="4000680"/>
            <a:ext cx="210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dfff"/>
                </a:solidFill>
                <a:latin typeface="Constantia"/>
              </a:rPr>
              <a:t>Оценоч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dfff"/>
                </a:solidFill>
                <a:latin typeface="Constantia"/>
              </a:rPr>
              <a:t>1  нед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1545480" y="5072040"/>
            <a:ext cx="30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ключи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  нед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трелка вправо 12"/>
          <p:cNvSpPr/>
          <p:nvPr/>
        </p:nvSpPr>
        <p:spPr>
          <a:xfrm rot="21309600">
            <a:off x="3993840" y="1353960"/>
            <a:ext cx="2082600" cy="214560"/>
          </a:xfrm>
          <a:prstGeom prst="rightArrow">
            <a:avLst>
              <a:gd name="adj1" fmla="val 50000"/>
              <a:gd name="adj2" fmla="val 49925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трелка вправо 13"/>
          <p:cNvSpPr/>
          <p:nvPr/>
        </p:nvSpPr>
        <p:spPr>
          <a:xfrm rot="848400">
            <a:off x="3656160" y="2095200"/>
            <a:ext cx="1974600" cy="2379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трелка вправо 14"/>
          <p:cNvSpPr/>
          <p:nvPr/>
        </p:nvSpPr>
        <p:spPr>
          <a:xfrm rot="2888400">
            <a:off x="2972520" y="3192840"/>
            <a:ext cx="1594080" cy="255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трелка вправо 15"/>
          <p:cNvSpPr/>
          <p:nvPr/>
        </p:nvSpPr>
        <p:spPr>
          <a:xfrm rot="2008800">
            <a:off x="3367080" y="2708280"/>
            <a:ext cx="1596960" cy="25704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трелка вправо 16"/>
          <p:cNvSpPr/>
          <p:nvPr/>
        </p:nvSpPr>
        <p:spPr>
          <a:xfrm rot="5659200">
            <a:off x="1866960" y="3783600"/>
            <a:ext cx="1933560" cy="236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706320" y="-12600"/>
            <a:ext cx="7785360" cy="28843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1424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-Набор специализированных машин (игр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-Игрушки машины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-Строительный набор деревянны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-ИЗО материал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-Атрибуты для дид. игр ( светофор, переход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рганизационные формы работы над проектом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-НООД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-Наблюден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-Бесед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-Взаимодействие с родителям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523800" y="96840"/>
            <a:ext cx="7925040" cy="17319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7772400" cy="15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идактическая игра:: «какой  цвет, что говорит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Рисунок 3" descr="DSC_0173.jpg"/>
          <p:cNvPicPr/>
          <p:nvPr/>
        </p:nvPicPr>
        <p:blipFill>
          <a:blip r:embed="rId2"/>
          <a:stretch/>
        </p:blipFill>
        <p:spPr>
          <a:xfrm>
            <a:off x="250920" y="3141720"/>
            <a:ext cx="4249800" cy="23889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DSC_0177.jpg"/>
          <p:cNvPicPr/>
          <p:nvPr/>
        </p:nvPicPr>
        <p:blipFill>
          <a:blip r:embed="rId3"/>
          <a:stretch/>
        </p:blipFill>
        <p:spPr>
          <a:xfrm>
            <a:off x="4643280" y="4221000"/>
            <a:ext cx="4192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566640" y="122400"/>
            <a:ext cx="7858080" cy="17301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42960" y="178596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ОД «Безопасность на дороге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Рисунок 3" descr="DSC_0183.jpg"/>
          <p:cNvPicPr/>
          <p:nvPr/>
        </p:nvPicPr>
        <p:blipFill>
          <a:blip r:embed="rId2"/>
          <a:stretch/>
        </p:blipFill>
        <p:spPr>
          <a:xfrm rot="20308800">
            <a:off x="242640" y="2796840"/>
            <a:ext cx="3555720" cy="20001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4" descr="DSC_0185.jpg"/>
          <p:cNvPicPr/>
          <p:nvPr/>
        </p:nvPicPr>
        <p:blipFill>
          <a:blip r:embed="rId3"/>
          <a:stretch/>
        </p:blipFill>
        <p:spPr>
          <a:xfrm rot="1223400">
            <a:off x="4876560" y="2762280"/>
            <a:ext cx="3497040" cy="19670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" descr="DSC_0192.jpg"/>
          <p:cNvPicPr/>
          <p:nvPr/>
        </p:nvPicPr>
        <p:blipFill>
          <a:blip r:embed="rId4"/>
          <a:stretch/>
        </p:blipFill>
        <p:spPr>
          <a:xfrm>
            <a:off x="2595600" y="4714920"/>
            <a:ext cx="340524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34:34Z</dcterms:created>
  <dc:creator>Admin</dc:creator>
  <dc:description/>
  <dc:language>en-US</dc:language>
  <cp:lastModifiedBy>Сергей</cp:lastModifiedBy>
  <dcterms:modified xsi:type="dcterms:W3CDTF">2016-11-24T19:15:11Z</dcterms:modified>
  <cp:revision>45</cp:revision>
  <dc:subject/>
  <dc:title>Проект</dc:title>
</cp:coreProperties>
</file>