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A72-8F41-45FD-A26B-37EA25A2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AD5-7561-4977-A2E4-D8B5A9EB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4ED-1C97-44DD-AF7A-A7DAADAD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944-C253-42FC-AD93-7B125317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E3E9-1C14-47FD-A96C-F561161B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F3DC-9699-4843-A409-4F603F55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FF01-7CC5-40A4-B207-7BC51225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3011-778E-4821-9D9B-BCBED2CB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9402-03AD-4655-AD36-4E7347A6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BDDB-498B-415C-8C33-0696BC6C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B272-C358-4030-858D-D11EF787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7DB-6834-4D0E-BB5C-2F9FB8C3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53AE-2350-46D0-8B7F-633B7C0A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35EC-4AA2-43A2-956D-0844B76C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F743-D4CF-480A-BE09-E8041EA3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975D-6A3F-4868-A117-8D32C818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AE08-691D-4A16-9E7A-29D00B1C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008-3BD5-488F-9855-B3F369E5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1837-AB62-4274-B7D0-6725B99C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00B-2F2A-42B7-8178-FFFE0002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72D-6406-46C3-B2D3-441BB1A7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E52-2D7F-4F0A-B0F5-395071D4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328-E360-40C2-AB00-CA72D169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A27-A619-4486-BF84-66135EDB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C066DC-2452-431A-8CAE-7EFD566BC26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EA06351-7888-4BBB-A211-F9B792E1342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ru.wikipedia.org/wiki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ahoma"/>
              </a:rPr>
              <a:t>Алексей Николаевич Плещее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ahoma"/>
              </a:rPr>
              <a:t>Годы жизни</a:t>
            </a:r>
            <a:br>
              <a:rPr sz="3600"/>
            </a:br>
            <a:r>
              <a:rPr b="0" lang="ru-RU" sz="4000" spc="-1" strike="noStrike">
                <a:solidFill>
                  <a:srgbClr val="663300"/>
                </a:solidFill>
                <a:latin typeface="Rockwell Condensed"/>
              </a:rPr>
              <a:t>(</a:t>
            </a:r>
            <a:r>
              <a:rPr b="0" lang="ru-RU" sz="4400" spc="-1" strike="noStrike">
                <a:solidFill>
                  <a:srgbClr val="663300"/>
                </a:solidFill>
                <a:latin typeface="Rockwell Condensed"/>
              </a:rPr>
              <a:t>1825-1893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67760" y="1905120"/>
            <a:ext cx="31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6019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Алексей Николаевич Плещеев  родился в семье небогатого провинциального чиновника, представителя старинного дворянского рода, в г. Костро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Детство Алёши Плещеева прошло  в Нижнем Новгороде. Его воспитанием занималась мать, Елена Александровна, давшая сыну хорошее домашнее образов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2867040" cy="39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4724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Алексей Николаевич Плещеев с 1839г учился в школе гвардейских прапорщиков и кавалерийских юнке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Военная карьера Плещеева не привлекала, и в 1842г. он покинул училище, а осенью 1843г. Поступил в Петербургский  университет, на  восточное отделение  историко – филологического университ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333960" cy="381024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228600"/>
            <a:ext cx="5181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ahoma"/>
                <a:ea typeface="Microsoft YaHei"/>
              </a:rPr>
              <a:t>В 1846 году первый же сборник стихов сделал Плещеева знаменитым в революционной молодёжной среде. Он был в 1849 году арестован и некоторое время спустя отправлен в ссылку, где провёл на военной службе почти десять лет. По возвращении из ссылки Плещеев продолжил литературную деятельность; пройдя через годы бедности и лишений, он стал авторитетным литератором, критиком, издателем, а в конце жизни и меценат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1295280"/>
            <a:ext cx="300996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76720" y="218880"/>
            <a:ext cx="26668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ahoma"/>
              </a:rPr>
              <a:t>Книг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4600" y="914400"/>
            <a:ext cx="1701720" cy="23623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162396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105680" y="457200"/>
            <a:ext cx="1857240" cy="2971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3428640"/>
            <a:ext cx="822960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ahoma"/>
              </a:rPr>
              <a:t>Многие произведения поэта (особенно — стихи для детей) стали хрестоматийными, считаются классикой. На стихи Плещеева известнейшими русскими композиторами написаны более ста романс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ahoma"/>
              </a:rPr>
              <a:t>Источн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ahoma"/>
              </a:rPr>
              <a:t>С.В. Кутявина Поурочные разработки по литературному чтению. М., «ВАКО»,  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images.yandex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http://ru.wikipedia.org/wi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03-01-09T21:33:5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