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DF2-68CE-4ACB-9753-649B5346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62C-9E84-4E96-8E38-5F4E08C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E11-BA74-4DBC-ABC8-1F95FE7D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77F-5A03-44F0-AED9-F30DBD97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F8E-65FA-415C-B415-E42CE64D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C3FC-BB28-43A3-97AF-878535A9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B20-F3DA-4740-8E51-601E772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B892-6D88-4AF6-BC58-2E0F96E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3ACD-51AB-4903-A99A-EE4C5396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573-FD65-439F-8EEC-B30FF95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5E6-D95F-4AF8-A128-477277B9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BC-34E8-48D2-999D-036EABE4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E07-4C51-46D2-BFAF-F47577C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DC3-764D-4D04-8DF5-3657268E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096-255F-4802-B10F-56E8459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FAF-A6C4-4181-97DE-640E271C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E66-2628-4392-908B-786511F8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D9A-23C4-4491-9F65-DE82C270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070-3374-4638-9AA3-946F76D8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418-3636-40D7-8DAE-994042F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8D4-B1B8-423B-A19D-015EC220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72D-299B-4DEF-B96B-E0FE640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CCE-917E-45F2-B0F0-FEDFCB1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DE8-2D3B-497E-85A2-797C641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22FA-F74B-41F9-8C5C-05D1A04C78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FA9-1906-4D67-A927-6443B60493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Экология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чет МБОУ гимн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Хранители во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сероссийский экоурок -201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Users\007\Desktop\Новая папка\Рисунок6.jpg"/>
          <p:cNvPicPr/>
          <p:nvPr/>
        </p:nvPicPr>
        <p:blipFill>
          <a:blip r:embed="rId1"/>
          <a:stretch/>
        </p:blipFill>
        <p:spPr>
          <a:xfrm>
            <a:off x="0" y="1197000"/>
            <a:ext cx="92203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007\Desktop\Новая папка\Рисунок7.png"/>
          <p:cNvPicPr/>
          <p:nvPr/>
        </p:nvPicPr>
        <p:blipFill>
          <a:blip r:embed="rId2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российский экологический урок -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:\Users\007\Desktop\Новая папка\Рисунок8.jpg"/>
          <p:cNvPicPr/>
          <p:nvPr/>
        </p:nvPicPr>
        <p:blipFill>
          <a:blip r:embed="rId1"/>
          <a:stretch/>
        </p:blipFill>
        <p:spPr>
          <a:xfrm>
            <a:off x="-11160" y="1465200"/>
            <a:ext cx="915516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Югра – моя плане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007\Desktop\Новая папка\Рисунок9.jpg"/>
          <p:cNvPicPr/>
          <p:nvPr/>
        </p:nvPicPr>
        <p:blipFill>
          <a:blip r:embed="rId2"/>
          <a:stretch/>
        </p:blipFill>
        <p:spPr>
          <a:xfrm>
            <a:off x="0" y="1455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007\Desktop\Новая папка\Рисунок10.jpg"/>
          <p:cNvPicPr/>
          <p:nvPr/>
        </p:nvPicPr>
        <p:blipFill>
          <a:blip r:embed="rId2"/>
          <a:stretch/>
        </p:blipFill>
        <p:spPr>
          <a:xfrm>
            <a:off x="1066680" y="1371600"/>
            <a:ext cx="71740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007\Desktop\Новая папка\Рисунок11.jpg"/>
          <p:cNvPicPr/>
          <p:nvPr/>
        </p:nvPicPr>
        <p:blipFill>
          <a:blip r:embed="rId2"/>
          <a:stretch/>
        </p:blipFill>
        <p:spPr>
          <a:xfrm>
            <a:off x="47520" y="228600"/>
            <a:ext cx="912996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Цветочный база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007\Desktop\Новая папка\Рисунок12.jpg"/>
          <p:cNvPicPr/>
          <p:nvPr/>
        </p:nvPicPr>
        <p:blipFill>
          <a:blip r:embed="rId2"/>
          <a:stretch/>
        </p:blipFill>
        <p:spPr>
          <a:xfrm>
            <a:off x="-22320" y="1447920"/>
            <a:ext cx="9342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3" descr="http://vizitki-ru.ru/img/610/1da1086751be074aecef198ba0ed282a_562f274f15a86fa16d354b24b3b7b7b2791.jpg"/>
          <p:cNvPicPr/>
          <p:nvPr/>
        </p:nvPicPr>
        <p:blipFill>
          <a:blip r:embed="rId1"/>
          <a:stretch/>
        </p:blipFill>
        <p:spPr>
          <a:xfrm>
            <a:off x="838080" y="28440"/>
            <a:ext cx="6858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бинет би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кабинет би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ий научны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ы, рыбешки и моллюс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удь лентяем  – знанья получай.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96616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Users\007\Desktop\Новая папка\Рисунок1.jpg"/>
          <p:cNvPicPr/>
          <p:nvPr/>
        </p:nvPicPr>
        <p:blipFill>
          <a:blip r:embed="rId1"/>
          <a:stretch/>
        </p:blipFill>
        <p:spPr>
          <a:xfrm>
            <a:off x="685800" y="1290600"/>
            <a:ext cx="74707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в муз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007\Desktop\Новая папка\Рисунок2.jpg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007\Desktop\Новая папка\Рисунок3.png"/>
          <p:cNvPicPr/>
          <p:nvPr/>
        </p:nvPicPr>
        <p:blipFill>
          <a:blip r:embed="rId2"/>
          <a:stretch/>
        </p:blipFill>
        <p:spPr>
          <a:xfrm>
            <a:off x="609480" y="1254240"/>
            <a:ext cx="77724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Экскурсия в больн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Users\007\Desktop\Новая папка\Рисунок4.jpg"/>
          <p:cNvPicPr/>
          <p:nvPr/>
        </p:nvPicPr>
        <p:blipFill>
          <a:blip r:embed="rId1"/>
          <a:stretch/>
        </p:blipFill>
        <p:spPr>
          <a:xfrm>
            <a:off x="0" y="11286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в минизоопар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007\Desktop\Новая папка\Рисунок5.jpg"/>
          <p:cNvPicPr/>
          <p:nvPr/>
        </p:nvPicPr>
        <p:blipFill>
          <a:blip r:embed="rId2"/>
          <a:stretch/>
        </p:blipFill>
        <p:spPr>
          <a:xfrm>
            <a:off x="0" y="1254240"/>
            <a:ext cx="92203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«Чистой в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умыться, ни напиться без в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ку не распуститься без во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воды прожить не мо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а, зверь и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оэтому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везде нужна в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007</cp:lastModifiedBy>
  <dcterms:modified xsi:type="dcterms:W3CDTF">2016-11-24T17:12:54Z</dcterms:modified>
  <cp:revision>39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