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86B-C851-4FC6-A849-DA542076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509C-4F95-4719-837B-149F435E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A71-9563-43DE-A737-0AC5F25F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980-6F41-43A6-B3F2-09F64163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48F-1C56-4583-B29C-4B939BBE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3F9-904D-49AB-9A33-73C41A7C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4ED-037A-4AC8-96F5-0F3A939A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A1D-9AE3-406F-BE60-E3A0A59C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41F-F4E5-4FAD-883C-DB1EE221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C45-39F5-4D62-9A47-068B4B77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BAF-6F16-4DDB-B4E0-DFD75E54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1247-3150-4577-8323-4C9B23CD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0054-B791-4D3D-88F1-C68D9D305F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04a7b"/>
                </a:solidFill>
                <a:latin typeface="Calibri"/>
              </a:rPr>
              <a:t>Рисование флажков. Штриховка.</a:t>
            </a:r>
            <a:br>
              <a:rPr sz="8800"/>
            </a:br>
            <a:r>
              <a:rPr b="0" lang="ru-RU" sz="8800" spc="-1" strike="noStrike">
                <a:solidFill>
                  <a:srgbClr val="604a7b"/>
                </a:solidFill>
                <a:latin typeface="Calibri"/>
              </a:rPr>
              <a:t>ИЗО. 1 класс.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МИН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что это у челове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птицы крыло - у человека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зверя лапа - у человека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собаки морда - у человека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льва пасть - у человека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ашины мотор - у человека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подводной лодки перископ - у человека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Рассмотри флажки. Раскрась каждый указанным буквой цветом. Нарисуй в пустой клетке недостающий флаж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643040" y="2143080"/>
            <a:ext cx="5396040" cy="28908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5357880" y="4071960"/>
            <a:ext cx="1214280" cy="7858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Рассмотри флажки. Подумай, флажок какой формы надо нарисовать в пустом квадрате. Нарису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52600" y="2563920"/>
            <a:ext cx="4438800" cy="2600280"/>
          </a:xfrm>
          <a:prstGeom prst="rect">
            <a:avLst/>
          </a:prstGeom>
          <a:ln w="0">
            <a:noFill/>
          </a:ln>
        </p:spPr>
      </p:pic>
      <p:sp>
        <p:nvSpPr>
          <p:cNvPr id="49" name="Равнобедренный треугольник 12"/>
          <p:cNvSpPr/>
          <p:nvPr/>
        </p:nvSpPr>
        <p:spPr>
          <a:xfrm rot="5400000">
            <a:off x="5785920" y="3929040"/>
            <a:ext cx="638280" cy="10666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ыполни штриховку последнего флажка так, чтобы в каждом ряду были флажки с разной штрихов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5786280" cy="30862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ая соединительная линия 5"/>
          <p:cNvSpPr/>
          <p:nvPr/>
        </p:nvSpPr>
        <p:spPr>
          <a:xfrm>
            <a:off x="5929200" y="4929120"/>
            <a:ext cx="78588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7"/>
          <p:cNvSpPr/>
          <p:nvPr/>
        </p:nvSpPr>
        <p:spPr>
          <a:xfrm>
            <a:off x="5929200" y="4786200"/>
            <a:ext cx="85752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 Рассмотри внимательно шапочки. Дорисуй последнюю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85960" y="2428920"/>
            <a:ext cx="5924520" cy="3097080"/>
          </a:xfrm>
          <a:prstGeom prst="rect">
            <a:avLst/>
          </a:prstGeom>
          <a:ln w="0">
            <a:noFill/>
          </a:ln>
        </p:spPr>
      </p:pic>
      <p:sp>
        <p:nvSpPr>
          <p:cNvPr id="56" name="Стрелка вправо 4"/>
          <p:cNvSpPr/>
          <p:nvPr/>
        </p:nvSpPr>
        <p:spPr>
          <a:xfrm>
            <a:off x="1071720" y="27147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Рассмотри таблички с изображением геометрических фигур. В пустых клеточках нарисуй нужные фиг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2571840"/>
            <a:ext cx="8744040" cy="3286080"/>
          </a:xfrm>
          <a:prstGeom prst="rect">
            <a:avLst/>
          </a:prstGeom>
          <a:ln w="0">
            <a:noFill/>
          </a:ln>
        </p:spPr>
      </p:pic>
      <p:sp>
        <p:nvSpPr>
          <p:cNvPr id="59" name="Равнобедренный треугольник 4"/>
          <p:cNvSpPr/>
          <p:nvPr/>
        </p:nvSpPr>
        <p:spPr>
          <a:xfrm>
            <a:off x="2786040" y="4786200"/>
            <a:ext cx="917640" cy="7714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5"/>
          <p:cNvSpPr/>
          <p:nvPr/>
        </p:nvSpPr>
        <p:spPr>
          <a:xfrm>
            <a:off x="1857240" y="3857760"/>
            <a:ext cx="700200" cy="771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6"/>
          <p:cNvSpPr/>
          <p:nvPr/>
        </p:nvSpPr>
        <p:spPr>
          <a:xfrm>
            <a:off x="6143760" y="3929040"/>
            <a:ext cx="842760" cy="700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7"/>
          <p:cNvSpPr/>
          <p:nvPr/>
        </p:nvSpPr>
        <p:spPr>
          <a:xfrm>
            <a:off x="7286760" y="4857840"/>
            <a:ext cx="785520" cy="7142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Молодцы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</dc:creator>
  <dc:description/>
  <dc:language>en-US</dc:language>
  <cp:lastModifiedBy>Я</cp:lastModifiedBy>
  <dcterms:modified xsi:type="dcterms:W3CDTF">2016-11-23T21:28:53Z</dcterms:modified>
  <cp:revision>10</cp:revision>
  <dc:subject/>
  <dc:title>Занятие 6.</dc:title>
</cp:coreProperties>
</file>