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C1B1-E85F-4C2A-A360-8BB90498A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B926-A2E9-4AF4-8370-973579FA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A7CF-97EB-47F1-973A-764CD74E5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86EA-CCBA-4863-9031-770B33C4F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1A7F-3A43-4C3D-A965-C695D7BB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E1CC-2141-4284-B874-D86913B7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1282-BB2D-48F8-913C-D234BB52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3619-9B11-44BC-A112-637C1209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BCAE-C0CE-4BE0-9021-91A592BE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C9BB-7961-4B43-B791-B88ED096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0884-B9E4-4AAA-9CA3-D3B0482A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4AF3-8A09-414A-8992-2369733D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C026-D21B-48B0-BB41-6562391C9C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ИГРЫ С ПЕСКОМ И ВОДОЙ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лет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71680" y="1928520"/>
            <a:ext cx="81151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Марова Е.В.</a:t>
            </a:r>
            <a:br>
              <a:rPr sz="2200"/>
            </a:b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МБДОУ «Детский сад №154»</a:t>
            </a:r>
            <a:br>
              <a:rPr sz="2200"/>
            </a:b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2015г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4" descr="https://2.bp.blogspot.com/-SdW2jTWCOe4/V0ryTM1deTI/AAAAAAAAAfc/p1QdMx-ZtA0tU_VHI0Z8vtt8LwX_AC2vwCLcB/s1600/%25D0%25BF%25D0%25B5%25D1%2581%25D0%25BE%25D0%25BA.jpg"/>
          <p:cNvPicPr/>
          <p:nvPr/>
        </p:nvPicPr>
        <p:blipFill>
          <a:blip r:embed="rId1"/>
          <a:stretch/>
        </p:blipFill>
        <p:spPr>
          <a:xfrm>
            <a:off x="1928880" y="2071800"/>
            <a:ext cx="532440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1151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ИГРЫ С ПЕСКОМ (ПРОДОЛЖЕНИ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99680" y="1428480"/>
            <a:ext cx="81867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«Взрыв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46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ети закапывают в сухой песок руку одного из игроков. Задача заключается в том, чтобы раскопать руку не дотрагиваясь до неё, иначе будет «взрыв» (свойство сухого песка - сыпучесть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46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460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«Брось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камешек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46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песке сделаны ямки, начерчена линия, у которой стоят игроки. У каждого ведерко с камешками. Бросают по три камешка. Победителей угощают песчаными торта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4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4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680" y="274320"/>
            <a:ext cx="811512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Оборудование для игр с водо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71680" y="1571400"/>
            <a:ext cx="811512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3492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большие надувные бассейны, ванночки, тазик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3600" indent="3492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ейки, баночки разной формы, ведерк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3600" indent="3492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авающие и легко моющиеся игрушк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3600" indent="3492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дяные мельницы, воронк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3600" indent="3492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дные пистолеты, брызгал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3600" indent="349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 так дале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3600" indent="349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3600" indent="349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3600" indent="349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3" descr="491.jpg"/>
          <p:cNvPicPr/>
          <p:nvPr/>
        </p:nvPicPr>
        <p:blipFill>
          <a:blip r:embed="rId1"/>
          <a:stretch/>
        </p:blipFill>
        <p:spPr>
          <a:xfrm>
            <a:off x="4500720" y="2857680"/>
            <a:ext cx="442260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Игры с вод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28400" y="1357200"/>
            <a:ext cx="8258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«Дальнее  плавание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746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умажные  или другие самодельные кораблики спустить  его  на  воду  в  таз.  Показать как  надо  на  него  подуть,  чтобы  кораблик  начал  двигаться,  удаляясь  от  вас.  Чем  сильнее  и  дольше  будет  воздушная  струя,  которую  вы  выдуваете,  тем  дольше  будет  плыть  кораблик.  Устройте  соревнования  чей  кораблик  уплывет  дальш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460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174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4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3" descr="01b.jpg"/>
          <p:cNvPicPr/>
          <p:nvPr/>
        </p:nvPicPr>
        <p:blipFill>
          <a:blip r:embed="rId1"/>
          <a:stretch/>
        </p:blipFill>
        <p:spPr>
          <a:xfrm>
            <a:off x="857160" y="4000680"/>
            <a:ext cx="3746520" cy="25002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ship1.jpg"/>
          <p:cNvPicPr/>
          <p:nvPr/>
        </p:nvPicPr>
        <p:blipFill>
          <a:blip r:embed="rId2"/>
          <a:stretch/>
        </p:blipFill>
        <p:spPr>
          <a:xfrm>
            <a:off x="5143680" y="3643200"/>
            <a:ext cx="31842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1151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ИГРЫ С ВОДОЙ (ПРОДОЛЖЕНИ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71680" y="1214280"/>
            <a:ext cx="811512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«Рыбалка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46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ластмассовые рыбки с металлической серединкой бросить в  таз с водой. И предложить поиграть в рыбалку. Например: кто  быстрее, или кто больше наловит рыбы магнитной удочкой (можно сачком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46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4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3" descr="7c4d7b.jpg"/>
          <p:cNvPicPr/>
          <p:nvPr/>
        </p:nvPicPr>
        <p:blipFill>
          <a:blip r:embed="rId1"/>
          <a:stretch/>
        </p:blipFill>
        <p:spPr>
          <a:xfrm>
            <a:off x="4214880" y="3214800"/>
            <a:ext cx="4446360" cy="30718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" descr="-font-b-Fishing-b-font-font-b-set-b-font-plastic-child-toy-font-b.jpg"/>
          <p:cNvPicPr/>
          <p:nvPr/>
        </p:nvPicPr>
        <p:blipFill>
          <a:blip r:embed="rId2"/>
          <a:stretch/>
        </p:blipFill>
        <p:spPr>
          <a:xfrm>
            <a:off x="928800" y="3143160"/>
            <a:ext cx="23400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9680" y="274680"/>
            <a:ext cx="818676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ИГРЫ С ВОДОЙ (ПРОДОЛЖЕНИ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99680" y="1213920"/>
            <a:ext cx="81867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«Весёлые фонтанчики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460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длагают соединить трубочки с воронками. Наливая воду в воронку, наблюдаем, как бьют весёлые фонтанчик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4600"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746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«Кто скорее наполнит стакан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460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просить наполнить два одинаковых сосуда разными мерками (большой и маленькой) или с помощью губок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4600"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746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«У кого вода перельётся быстрее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460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до перелить одинаковое количество воды в бутылочки с помощью воронок разного размер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460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746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«Тонущий  корабль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460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 поверхность  воды  в  таз  положите  мыльницу,  миску  или  небьющуюся  тарелку.  Затем  покажите  детям,  как  из  лейки тонкой  струйкой  лить  в  нее  воду,  ожидая  момента,  когда  уровень  воды  в  плавающей  емкости  достигнет  критического  и  она  начнет  крениться  и  тонут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460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4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11512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И в заключении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99680" y="1071720"/>
            <a:ext cx="81867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4489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бы расширить содержание игры с песком и водой, необходимо заботиться об обогащении детских впечатлений (экскурсии, целевые прогулки, беседы об увиденном, рассматривание иллюстраций, чтение художественных произведений и т.д.). Ребята получают представление о различной архитектуре зданий, особенностях сооружений, о видах транспорта, о людях разных професс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87480" indent="4489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рганизуя работу, педагоги часто сами включаются в строительство и игры детей. Они показывают приемы работы с материалом, помогают ребятам развивать сюжеты игр, поддерживают изобретательность, стремление к творческому поиск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87480" indent="4489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уществляя обучение детей, педагоги все больше опираются на их опыт, знания, умения, стремятся развивать у дошкольников сообразительность, смекалку, творчество, так организовать их деятельность, чтобы в играх с песком и водой кипела активная ребячья жизнь, интересная и содержательна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87480" indent="4489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СПАСИБО   ЗА   ВНИМАНИ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7480" indent="4489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2580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емного теор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28400" y="1000080"/>
            <a:ext cx="82580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  <a:ea typeface="Arial"/>
              </a:rPr>
              <a:t>В решении проблемы сохранения и укрепления здоровья детей в летний период помогут снимающие эмоциональное и психическое напряжение игры и упражнения с песком и водой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  <a:ea typeface="Arial"/>
              </a:rPr>
              <a:t>Игры с песком, или «песочная терапия», использовались М.Монтессори, основателем аналитической психотерапии К.Юнгом, английским педиатром М.Ловенфельд и другими. Педагоги считают , что игры с песком снимают детскую раздражительность, агрессивность, плаксивость и при этом бурно развивают фантазию, позитивно влияют на эмоциональное состояние детей и являются прекрасным средством для развития и саморазвития. Строя и разрушая, а затем снова воссоздавая  ребенок гармонизирует свое внутреннее состояние. Песочная сказочная страна – не что иное, как проекция внутреннего мира ребенка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Игры с водой также благоприятно действуют на эмоциональное состояние детей. Эти игры имеют большие развивающие возможности,но не менее важно их успокаивающее и расслабляющее действие. Летом подобные игры легко организовать на улице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11512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Оборудование для игр с песк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28400" y="1499760"/>
            <a:ext cx="825804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8200" indent="-363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460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сочницы (для детей младшего возраста уместны небольшие переносные песочницы, т.к. малыши не создают крупных сюжетных построек, в группах старшего возраста рекомендуются песочные дворики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8200" indent="-363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460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астмассовые принадлежности (ведерки, совки, лопатки, грабельки, формочки и т.д. 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8200" indent="-363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460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егко моющиеся игрушки (машинки, куклы и т.д.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8200" indent="-363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460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полнительные материалы  (дощечки, пенопласт, различный природный материал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3" descr="vedro-lopatka.jpg"/>
          <p:cNvPicPr/>
          <p:nvPr/>
        </p:nvPicPr>
        <p:blipFill>
          <a:blip r:embed="rId1"/>
          <a:stretch/>
        </p:blipFill>
        <p:spPr>
          <a:xfrm>
            <a:off x="5857920" y="4572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ЦЕНТР «ПЕСОК - ВОДА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85840" y="2642760"/>
            <a:ext cx="840096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 « Песок и вода» помогает воспитателю в решении об одной из важнейших задач в развитии ребенка 2-3 лет. Речь идет о самостоятельной деятельности – экспериментированию с различными, подходящими для этого предметами и природными материалами. Организовывая игры с песком и водой, педагог не только знакомит детей со свойствами различных предметов и материалов, но и закрепляет элементарные представления о форме, величине, цвете предметов, развивает мелкую моторику ребенка. Малыши очень любят такие игры. Песок можно пересыпать из ладошки в ладошку, из совка в формочку, в песок можно прятать всякие мелкие игрушки, стоить постройки, а потом разрушать их и снова строить. Отмечается что игры с песком и водой самые устойчивые и целенаправленные, чем другие игры. Постройки из песка можно считать началом конструирования, оно заставляет ребенка сосредоточиться. Игры с водой вызывают положительные эмоции, способствуют внутренней раскованности. Работа с детьми в Центре «Песок и вода», требует определенных условий; центр должен располагаться  так, чтобы легко было проводить уборку  и чтобы дети могли подходить к нему  со всех сторон. Необходимо запастись непромокаемыми фартучками, формочками для песка, различными моющимися игрушкам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ttp://mdou1balakovo.ucoz.ru/_ph/3/250692637.jpg"/>
          <p:cNvPicPr/>
          <p:nvPr/>
        </p:nvPicPr>
        <p:blipFill>
          <a:blip r:embed="rId1"/>
          <a:stretch/>
        </p:blipFill>
        <p:spPr>
          <a:xfrm>
            <a:off x="4987800" y="357120"/>
            <a:ext cx="341496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2580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ПЕСОЧНЫЕ ИГ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99680" y="1143000"/>
            <a:ext cx="81867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«Забавные ладошк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делать отпечатки ладошек, палочкой дорисовать изображени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«Следы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ставить следы босых ног на песчаной влажной площадке, либо в обуви разного размер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4" descr="0_bc59c_4010e9ef_XXXL.jpg"/>
          <p:cNvPicPr/>
          <p:nvPr/>
        </p:nvPicPr>
        <p:blipFill>
          <a:blip r:embed="rId1"/>
          <a:stretch/>
        </p:blipFill>
        <p:spPr>
          <a:xfrm>
            <a:off x="1285920" y="1928880"/>
            <a:ext cx="671364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ИГРЫ С ПЕСКОМ (ПРОДОЛЖЕНИ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28400" y="1356840"/>
            <a:ext cx="825804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«Картины на песке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ровной влажной поверхности палочкой рисуются различные изображения животных, людей и т.д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36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kartina_iz_manki_collage.jpg"/>
          <p:cNvPicPr/>
          <p:nvPr/>
        </p:nvPicPr>
        <p:blipFill>
          <a:blip r:embed="rId1"/>
          <a:stretch/>
        </p:blipFill>
        <p:spPr>
          <a:xfrm>
            <a:off x="2928960" y="3500280"/>
            <a:ext cx="3381480" cy="30434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62dbd800f9f1799b125522936c1b3250.jpg.jpg"/>
          <p:cNvPicPr/>
          <p:nvPr/>
        </p:nvPicPr>
        <p:blipFill>
          <a:blip r:embed="rId2"/>
          <a:stretch/>
        </p:blipFill>
        <p:spPr>
          <a:xfrm>
            <a:off x="6572160" y="2428920"/>
            <a:ext cx="2413080" cy="29289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view_q5Q1JjCKeSVDJd9XST0AQp9fJsCqPaTE.jpg"/>
          <p:cNvPicPr/>
          <p:nvPr/>
        </p:nvPicPr>
        <p:blipFill>
          <a:blip r:embed="rId3"/>
          <a:stretch/>
        </p:blipFill>
        <p:spPr>
          <a:xfrm>
            <a:off x="214200" y="2571840"/>
            <a:ext cx="24577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57120" y="500040"/>
            <a:ext cx="85010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ff"/>
                </a:solidFill>
                <a:latin typeface="Calibri"/>
              </a:rPr>
              <a:t>Строительство (по собственному замыслу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74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4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четание разных видов построек –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4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ороги, туннели, мосты, горки,  домики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4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абор и т.д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4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спользуется дополнительны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4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родный материал, игрушк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46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4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4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4" descr="sam_3105.jpg"/>
          <p:cNvPicPr/>
          <p:nvPr/>
        </p:nvPicPr>
        <p:blipFill>
          <a:blip r:embed="rId1"/>
          <a:stretch/>
        </p:blipFill>
        <p:spPr>
          <a:xfrm>
            <a:off x="5500800" y="4286160"/>
            <a:ext cx="3643200" cy="257184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5" descr="pesok4.jpg"/>
          <p:cNvPicPr/>
          <p:nvPr/>
        </p:nvPicPr>
        <p:blipFill>
          <a:blip r:embed="rId2"/>
          <a:stretch/>
        </p:blipFill>
        <p:spPr>
          <a:xfrm>
            <a:off x="2403360" y="3000240"/>
            <a:ext cx="3476880" cy="25718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6" descr="304822284.jpg"/>
          <p:cNvPicPr/>
          <p:nvPr/>
        </p:nvPicPr>
        <p:blipFill>
          <a:blip r:embed="rId3"/>
          <a:stretch/>
        </p:blipFill>
        <p:spPr>
          <a:xfrm>
            <a:off x="214200" y="1000080"/>
            <a:ext cx="307188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9680" y="274680"/>
            <a:ext cx="81867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ИГРЫ С ПЕСКОМ (ПРОДОЛЖЕНИ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99680" y="1213920"/>
            <a:ext cx="81867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«Узоры на песке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74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ети тонкой струйкой высыпают песок на асфальт, землю, цветную бумагу, делая разные узор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46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46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46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46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46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46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46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46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«Золотоискатели»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бросать камешки по песчаной поверхности, спрятать, искать «золото», складывать в сито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46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46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4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67648.1254967469.jpeg"/>
          <p:cNvPicPr/>
          <p:nvPr/>
        </p:nvPicPr>
        <p:blipFill>
          <a:blip r:embed="rId1"/>
          <a:stretch/>
        </p:blipFill>
        <p:spPr>
          <a:xfrm>
            <a:off x="4857840" y="2571840"/>
            <a:ext cx="3328920" cy="23572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" descr="jar02.jpg"/>
          <p:cNvPicPr/>
          <p:nvPr/>
        </p:nvPicPr>
        <p:blipFill>
          <a:blip r:embed="rId2"/>
          <a:stretch/>
        </p:blipFill>
        <p:spPr>
          <a:xfrm>
            <a:off x="1357200" y="2500200"/>
            <a:ext cx="300060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1151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ИГРЫ С ПЕСКОМ (ПРОДОЛЖЕНИ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99680" y="1214280"/>
            <a:ext cx="81867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«Отгадай ребус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рисовать на песке картинки, зашифрованного детского четверостишья (например «Мишка косолапый по лесу идет…»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4" descr="мишка.bmp"/>
          <p:cNvPicPr/>
          <p:nvPr/>
        </p:nvPicPr>
        <p:blipFill>
          <a:blip r:embed="rId1"/>
          <a:stretch/>
        </p:blipFill>
        <p:spPr>
          <a:xfrm>
            <a:off x="1643040" y="2714760"/>
            <a:ext cx="603396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6-11-23T09:54:36Z</dcterms:modified>
  <cp:revision>74</cp:revision>
  <dc:subject/>
  <dc:title>Слайд 1</dc:title>
</cp:coreProperties>
</file>