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sldIdLst>
    <p:sldId id="256" r:id="rId20"/>
    <p:sldId id="257" r:id="rId21"/>
    <p:sldId id="258" r:id="rId22"/>
    <p:sldId id="259" r:id="rId23"/>
    <p:sldId id="260" r:id="rId2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FDF50-2F03-4143-B027-A73D66929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71CCE-8808-40E0-8848-88705DB1C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0624B9-AF8A-4D31-AC68-46A74FB86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584220-B128-4846-AA48-0110DB358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9E961A-56EF-44D7-AE72-02D933805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219342-95A4-499B-A96D-D9095CE84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A78982-4AC8-4C70-A798-085EC9C02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7C890A-DEC1-4E25-A966-0D35F4345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43E989-4B7D-42D9-BEBC-1ED4D5499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2D034E-D19A-4619-8BA0-04B2D0302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2F3398-B3E2-4CCF-B90A-2078CA645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9756F6-E797-4BA5-B1CA-6C065C9E2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05BE8-5592-4CE5-AE82-3E0D6A60B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847D2F-969C-4451-86A8-83E253E1B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4F6492-5152-47EA-B9D3-5AB47B6F5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FFAA37-6D4D-42CD-875E-A91951C3C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1870E7-5E1A-4A73-A361-C66070569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1D6FA4-B457-4141-9174-703A1D049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168AB5-E209-48C1-92B6-20806D597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226B75-BAA9-4412-88A4-84522495C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A38508-C3C0-4A67-8D52-0515CA243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709C05-9611-4488-B67C-BF0696143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50F9EF-9C4E-4DA6-A529-10E048BF2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BB304-0505-4977-B14D-C0B52C39F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7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8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6F7F82-E545-4A88-A2DC-FF34BA363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B82D4E-6936-4B6C-BAA9-52FBC53D6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B713DE-99C6-450A-89BB-8554A1C49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C1B532-6299-4C64-916E-AE150D1D3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4CF869-51D8-4042-8E94-8ABEF1633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11472D-1980-4B8F-BF19-8238A5FCE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731415-7A4D-42ED-8725-3471ED7EE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39BD7C-98EC-4CA8-BC01-AE26C22EB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DE1B77-032E-43CF-902A-1C2053EB9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6767F6-B904-4F9B-AB26-969118719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3FDF9-F2BB-4D28-9A50-3D6944F4E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5ACA39-C233-490A-8D43-255F3A294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F5E7F0-A2DC-45D4-B74B-D672F0504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0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1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5FB57A-9DA3-4891-9800-151920C7C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AE8A87-86C4-4833-9451-BDEB83B00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67C878-FB66-4412-9F8D-174C3238E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5E1E4D-A664-409E-B9E5-41F403C12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106E4A-CBDF-4C66-96B9-AA22E39E9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65CBED-3BE9-400D-84FD-FC7D6A26F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7D0061-43A6-45CC-8776-03216300F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2C44EF-9C3C-4385-B9F2-AF3F08141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DC14F-95EF-4AB1-B3C0-C88CAED68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4C3901-A1B3-46AA-AA87-FC033CCBF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A5A9F0-9112-4737-ABFD-2B51D2EDA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05C655-3936-4290-8527-E4A855C4B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33E0AF-DBE6-49BF-AF68-85355AA1D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3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4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87B732-F606-4510-A7E5-F750B22F9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6CD7C30-D935-4772-9132-ED069C047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6841A8A-C812-45A7-BC71-0DB180952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0714C81-7888-419A-A86F-784F1553D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9C47B88-0AE9-470C-9F56-62FB242D8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C8C098F-EA98-4C37-81CE-62F04576D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7AC02-B21B-4073-881D-677EA1037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8A75551-E56E-451E-BAD8-A0ED1D2F0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8D37741-ECD8-4294-9B25-F604B51BD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8903CAE-C82C-4EE9-A461-99420D82A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2629649-1BBF-4752-9C91-CCE3F684B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657A7DD-90A7-4428-A838-38A80F37E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D34909B-0090-4744-A45D-D5E84DB8E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79A46E6-AAFE-4587-AD54-DA4DBF362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2A90BCC-CE6C-4D38-B802-0DFD99D94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BF714D9-F9BB-4834-8A48-B9F7A6D21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E45041E-09DD-4543-B01C-BCF19C5D0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04583-F854-4E0A-AEB1-440A80478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181F8C4-F6F2-416D-A08F-77D5116F7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FDBCA9E-693F-45D3-B8B1-EC411AA55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C6816C6-2FD9-46F1-97E7-FCBAC00EF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184B792-75F3-4D2F-ACBD-9AA024C48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1800067-D608-4E2A-8C3A-B85DD2F72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422DD6B-1D1E-4C18-AB17-F8C094507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33FC8C2-E586-4F49-8F3B-20984834C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BA5D531-1E53-4DB9-9B87-5BD6659C5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1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2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4D69729-E91C-4F95-8489-DDEAD4B9A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221E66C-4365-4379-8F21-C76D9B279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13BC8-2108-4B1B-9A78-2BF4B98D3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6217BBD-69C1-4E2E-9A9C-0E1D21845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6396E71-4572-4874-AA46-5D3302089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5AFEEED-78A5-4EBB-B38D-80FB2AF14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C956129-DE22-46BB-8C4B-078A09B02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CC01EB3-0CA3-420C-9F90-30884D391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7F5E062-BFAC-469B-8D4F-89B2B3A68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67ECFBD-558E-4D49-8FEA-21FE2FF4F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1AB043D-5A53-4F7B-8AF1-B4E8504F7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190267B-598B-4C29-8F4E-15CB4263A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CCB1C79-D548-45F6-B697-1E1EE8535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6740A-3E75-4F7C-9B71-9DEAD74C4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A7C51E8-E360-4AE6-81B0-CFDCA8B84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64E2125-A0F2-45D3-BDD9-433160BF2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CB3F430-A95A-411D-B635-526AF75FE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5F78BF1-3774-4433-B976-86F02F087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5280F51-BC16-4D7D-B9FA-6667F1042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9FC1B3B-173F-4BEE-A4FE-DFA9C48EF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113265B-3611-46C5-A5CF-2F402917F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E22104D-3B7D-44AD-857D-942BD862A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D8D2F78-41B1-4163-8434-5F00C61A7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9D29B8E-D15A-45F0-A3EA-83288DE1F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A5AF3-D29D-4851-8B83-63C4CF280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B81F255-8561-484C-B704-650070D0F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FD8F895-9108-4AEC-91CF-E17CEEAB6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C8C4E33-AA76-4658-BD57-69D6D6657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EC25505-00FD-4D36-BC0E-327A6BF37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A63243E-E53C-42C2-8C3B-6C20DC482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4F09F26-32D7-4F85-83C1-FEB10E98B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5D7213D-CB9A-4ED5-95B8-888A58641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75BA72A-FB66-4111-B37D-0BB26BA5D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244E31C-1AFC-4FCB-A7CE-C54B9FDF7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84EC65B-1774-4966-B4CF-6AE754024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5EF91-2B24-4E05-9F88-15837EBA1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8E564-D935-4D69-B269-3A50957AF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3239FAD-7E11-4F86-8233-634FDFDE2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39F54D6-6B05-4A0F-898E-54ECB761F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AC66632-513A-4E02-91DC-C569FE43A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4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637D750-64D0-4CDD-8385-01DF66264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30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31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957786E-A048-427C-819A-EFB703E38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AF6EB15-899D-4C9B-96B0-316BD8828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E0F6593-4C34-40B1-940F-8C09B6897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F793431-48CC-4C62-A537-60E3AF3BF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73C1137-5BFF-4405-8978-3E138B3F9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1718E19-521E-47BA-ABAD-ECAB23E14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2C1F5-80E6-4B26-8862-467AED867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8A09CE2-86F8-429B-8C4F-3C2D2BD0F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E7C1E67-7658-4450-8CE6-CF233F737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73FE592-6F87-4BCB-B256-7905F699F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B8E0B1F-EA70-40D2-B49A-65F979538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5A82C95-E965-4268-AE69-497120F40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7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49B150B-2FAE-4F1B-989E-1A2D2B68D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2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3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4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3A80843-7AE9-4F1D-9456-234B36AD2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C1B0B-9933-4136-9A3B-CBB82A012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D27F2-E767-45C2-8FC5-EE0C0CD29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E7D42-F477-476B-B76D-035EBEAD1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5FE0CA-A9F4-4DD2-8DBA-F09E543D6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FE98FC-6AF8-4287-B672-A0F47300A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02B5A2-DE43-4712-BD30-04C23351C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42CB58-E47C-499E-A4CD-BA444C5FA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648BAE-BE58-4EBF-8D90-C9FDE9750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F1076-66A4-4585-89E5-80DC3DF18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E5A3B4-E5E1-4D87-87C9-952DD7E68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94AD8A-F705-44B6-B9F1-C06AA4131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408C5E-C237-4C44-AF3D-CC09BA7C3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AE94BF-B44B-467A-AFFB-BEF0D7A70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62B4C3-B7A3-4EC5-B918-97442B844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958411-76FC-402C-926A-16EB900C5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CDB22D-CB5E-4F2F-9FE5-8F1C75F70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EA9E98-8EAD-4F1D-8A46-739C709DD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0E7CB0-D55D-43BD-9084-038F70D2F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10E5E9-0ADF-47E1-897D-D8EEAEC10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E11E9-F92D-40D8-9A61-595498E6B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B3EB7B-D365-457B-A5DF-7E8D4D284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C8507B-32A4-4819-B69E-A80E7AE95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681662-C8D5-4BA3-A460-57E5C5033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55CC3D-F778-4C82-ACC0-35BBDFEFC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E15429-0EA1-4088-BC3D-30BD21A37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C4A391-AA67-4902-82BC-E3065EE8A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B7A7E2-3278-4C24-BDB4-8F7A14848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F81927-6F91-45FF-B9AB-93FA353F0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DA2CE3-C9A7-450C-8218-EE183F78C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8CD0F7-5EE4-4323-9DC9-0CFC02A98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2415F-4583-403B-84CF-3F08C124A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10FA2A-4233-4631-9BA8-CEB9623ED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9A9AFA-AA4E-4DCD-B39B-FD55EE733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F45B88-AEBB-46BE-A077-8A5581EA0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BBE1A6-3B5F-4234-BFDB-21BE09B5D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02CF75-4B4B-49A4-BFAA-10F83B55E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A4BE75-EA51-4B5D-B737-29EA88F60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3BA353-FB4A-4DCC-A739-AB200856C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CEBB1D-2831-42FE-9834-E69A5A3A6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9C5AD8-10D7-4A99-AF33-430F1CE78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CFDA10-5F4A-458B-A45F-5CC86EC76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BB2F7-34EC-44EB-9C19-D9B4A5479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96081D-95D4-417B-AAC9-D4ED4F7D0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A78E76-3739-4931-B688-44413D21A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E1F6B7-19D5-408E-92F5-479424AFF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F54E68-C35E-4817-AC65-E2C00DBDE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76E025-D4C9-47CF-BAF8-B2697A692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370673-6356-4608-BAAA-CC572FD3D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797972-F253-4F37-8C3B-6F59EABDC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31B8CE-169A-4BB0-8AAC-FF81910C6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00F8B7-FDC2-4D0A-B418-3C6C6A9CC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F61B05-C5F0-4C0D-90FF-C782D416D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874E2-1FCC-4201-8211-8A53CA43B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2C6478-4C2B-4377-874B-D5D55BA57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A1B14C-2A38-4E58-BD8B-B5C190A72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62576C-B8FA-43A8-AFCD-381814D8E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5237E5-7F7E-4394-9342-8C7323816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CF6A5E-DAB6-42F8-9B3C-F4DD03CC1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C577C8-3C3C-4338-918A-4770F8542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2AEB6B-661A-4CAD-AE18-20D384722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A80E1C-C4ED-4A93-81B5-B6423F92F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29B4DB-B583-40AF-BC79-F68312435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8614AA-0BE8-49E6-8887-B19F29080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84C2D-2B6E-4116-8008-50E2C0B2B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63FADA-AF7E-4CB8-8A2F-22184B758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57D6DB-32EE-4E1F-B4DD-C17363C81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E0B0AF-DCBF-4852-BD5B-CA4A9E251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C8EA39-405A-42E6-A48A-2C9D59897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E10195-160A-4E6C-88A3-04F27548A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EF196F-182A-4CDD-B69E-7A99F2F64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2D0F41-380B-4D04-AB9C-E1B7E40A8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33817B-E130-42F8-B83C-AE0F83490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ACFEC0-90BD-445F-B425-3F92A3EBD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ECD699-74E3-43E1-B3FC-51A060A60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B50FC-44DE-4D6A-A6A8-13A8CDE96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EA0B1F-9D23-4FD8-8320-548FEF8A4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F144A0-BA49-4DB8-B122-694B0E344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F9EA45-D2D3-4E2B-A37D-AC8452166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E5BD47-DC71-4AA6-AEA4-8B7F721EB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DE43EC-A2F4-43A1-AE84-F90541AD0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8D664F-3BF0-4004-95AC-C4FADD2B5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20F395-A8A7-4AAB-9F07-A98CB5CED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E0FB7C-1D95-41A5-A0FC-A24EBE9ED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3A0D82-3ED3-4159-BDAA-51B7E0630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ED7843-15E2-45AB-B952-AFA040A0B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730AAB-58ED-42C3-93ED-4FACA2D32FB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9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 type="dt" idx="28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 type="ftr" idx="29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 type="sldNum" idx="30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06CE5B-BB95-4118-BB5D-08BCCD92608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9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 type="dt" idx="31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 type="ftr" idx="32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 type="sldNum" idx="33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B56BE5A-BEEF-4348-B387-0A169163303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2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473" name="Picture 7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 type="dt" idx="34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 type="ftr" idx="35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 type="sldNum" idx="36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1B4DEF-68B1-42FA-832D-578EC0FA164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5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516" name="Picture 10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517" name="TextBox 12"/>
          <p:cNvSpPr/>
          <p:nvPr/>
        </p:nvSpPr>
        <p:spPr>
          <a:xfrm>
            <a:off x="1001880" y="754200"/>
            <a:ext cx="60948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w Cen MT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8" name="TextBox 13"/>
          <p:cNvSpPr/>
          <p:nvPr/>
        </p:nvSpPr>
        <p:spPr>
          <a:xfrm>
            <a:off x="10557000" y="299412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w Cen MT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dt" idx="37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ftr" idx="38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sldNum" idx="39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EE303F6-006D-4876-BDA4-1269CBF72B0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0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561" name="Picture 7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 type="dt" idx="40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 type="ftr" idx="41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 type="sldNum" idx="42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A144EA-FDB5-4F39-B605-C86CE3727C8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3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604" name="Picture 12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dt" idx="43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ftr" idx="44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sldNum" idx="45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150A8EC-6AA3-4B3C-BE21-3BBD7B526A1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6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647" name="Picture 15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46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47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48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F085D3E-7A4C-4F6F-9628-8860445522F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9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690" name="Picture 7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 type="dt" idx="49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 type="ftr" idx="50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 type="sldNum" idx="51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5B965D-1A5E-45E1-B2BA-BF6B3C42EC3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2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733" name="Picture 8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 type="dt" idx="52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 type="ftr" idx="53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 type="sldNum" idx="54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B2AEA06-85FD-4197-BBD9-9E15B561FE9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6" descr="Droplets-HD-Title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F7D3741-6C4D-4D5C-9BC6-524D1D54C1B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B6D2EA-E095-4909-98DC-059EB1079D7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8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10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11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12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E524AC3-4FF1-4ACE-B9A0-617CF5BFAAA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9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03BB141-190B-43E8-B8DC-4CA13A69EFC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14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dt" idx="16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ftr" idx="17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sldNum" idx="18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115946-C5F1-4240-81B0-80B14B79879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7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dt" idx="19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ftr" idx="20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 type="sldNum" idx="21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ABACC7-B717-4C83-AF5D-C99108D3D6B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6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dt" idx="22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ftr" idx="23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sldNum" idx="24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9DE850F-B7BD-4F74-83C3-AFE292CB72D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10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dt" idx="25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ftr" idx="26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sldNum" idx="27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621C02D-A56C-408D-B217-DBAD2EDB155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en.m.wikipedia.org/wiki/Nobel_Prize_in_Physics" TargetMode="External"/><Relationship Id="rId2" Type="http://schemas.openxmlformats.org/officeDocument/2006/relationships/hyperlink" Target="http://en.m.wikipedia.org/wiki/Nobel_Prize_in_Physics" TargetMode="External"/><Relationship Id="rId3" Type="http://schemas.openxmlformats.org/officeDocument/2006/relationships/hyperlink" Target="http://en.m.wikipedia.org/wiki/Nobel_Prize_in_Physics" TargetMode="External"/><Relationship Id="rId4" Type="http://schemas.openxmlformats.org/officeDocument/2006/relationships/hyperlink" Target="http://en.m.wikipedia.org/wiki/Nobel_Prize_in_Physics" TargetMode="External"/><Relationship Id="rId5" Type="http://schemas.openxmlformats.org/officeDocument/2006/relationships/hyperlink" Target="http://en.m.wikipedia.org/wiki/Nobel_Prize_in_Physics" TargetMode="External"/><Relationship Id="rId6" Type="http://schemas.openxmlformats.org/officeDocument/2006/relationships/hyperlink" Target="http://en.m.wikipedia.org/wiki/Nobel_Prize_in_Physics" TargetMode="External"/><Relationship Id="rId7" Type="http://schemas.openxmlformats.org/officeDocument/2006/relationships/hyperlink" Target="http://en.m.wikipedia.org/wiki/Nobel_Prize_in_Physics" TargetMode="External"/><Relationship Id="rId8" Type="http://schemas.openxmlformats.org/officeDocument/2006/relationships/hyperlink" Target="http://en.m.wikipedia.org/wiki/Davy_Medal" TargetMode="External"/><Relationship Id="rId9" Type="http://schemas.openxmlformats.org/officeDocument/2006/relationships/hyperlink" Target="http://en.m.wikipedia.org/wiki/Davy_Medal" TargetMode="External"/><Relationship Id="rId10" Type="http://schemas.openxmlformats.org/officeDocument/2006/relationships/hyperlink" Target="http://en.m.wikipedia.org/wiki/Davy_Medal" TargetMode="External"/><Relationship Id="rId11" Type="http://schemas.openxmlformats.org/officeDocument/2006/relationships/hyperlink" Target="http://en.m.wikipedia.org/wiki/Matteucci_Medal" TargetMode="External"/><Relationship Id="rId12" Type="http://schemas.openxmlformats.org/officeDocument/2006/relationships/hyperlink" Target="http://en.m.wikipedia.org/wiki/Matteucci_Medal" TargetMode="External"/><Relationship Id="rId13" Type="http://schemas.openxmlformats.org/officeDocument/2006/relationships/hyperlink" Target="http://en.m.wikipedia.org/wiki/Matteucci_Medal" TargetMode="External"/><Relationship Id="rId14" Type="http://schemas.openxmlformats.org/officeDocument/2006/relationships/hyperlink" Target="http://en.m.wikipedia.org/wiki/Nobel_Prize_in_Chemistry" TargetMode="External"/><Relationship Id="rId15" Type="http://schemas.openxmlformats.org/officeDocument/2006/relationships/hyperlink" Target="http://en.m.wikipedia.org/wiki/Nobel_Prize_in_Chemistry" TargetMode="External"/><Relationship Id="rId16" Type="http://schemas.openxmlformats.org/officeDocument/2006/relationships/hyperlink" Target="http://en.m.wikipedia.org/wiki/Nobel_Prize_in_Chemistry" TargetMode="External"/><Relationship Id="rId17" Type="http://schemas.openxmlformats.org/officeDocument/2006/relationships/hyperlink" Target="http://en.m.wikipedia.org/wiki/Nobel_Prize_in_Chemistry" TargetMode="External"/><Relationship Id="rId18" Type="http://schemas.openxmlformats.org/officeDocument/2006/relationships/hyperlink" Target="http://en.m.wikipedia.org/wiki/Nobel_Prize_in_Chemistry" TargetMode="External"/><Relationship Id="rId19" Type="http://schemas.openxmlformats.org/officeDocument/2006/relationships/hyperlink" Target="http://en.m.wikipedia.org/wiki/Nobel_Prize_in_Chemistry" TargetMode="External"/><Relationship Id="rId20" Type="http://schemas.openxmlformats.org/officeDocument/2006/relationships/hyperlink" Target="http://en.m.wikipedia.org/wiki/Nobel_Prize_in_Chemistry" TargetMode="External"/><Relationship Id="rId21" Type="http://schemas.openxmlformats.org/officeDocument/2006/relationships/image" Target="../media/image5.png"/><Relationship Id="rId2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en.m.wikipedia.org/wiki/Physicist" TargetMode="External"/><Relationship Id="rId2" Type="http://schemas.openxmlformats.org/officeDocument/2006/relationships/hyperlink" Target="http://en.m.wikipedia.org/wiki/Chemist" TargetMode="External"/><Relationship Id="rId3" Type="http://schemas.openxmlformats.org/officeDocument/2006/relationships/hyperlink" Target="http://en.m.wikipedia.org/wiki/Radioactivity" TargetMode="External"/><Relationship Id="rId4" Type="http://schemas.openxmlformats.org/officeDocument/2006/relationships/hyperlink" Target="http://en.m.wikipedia.org/wiki/Nobel_Prize#Multiple_laureates" TargetMode="External"/><Relationship Id="rId5" Type="http://schemas.openxmlformats.org/officeDocument/2006/relationships/hyperlink" Target="http://en.m.wikipedia.org/wiki/Nobel_Prize#Multiple_laureates" TargetMode="External"/><Relationship Id="rId6" Type="http://schemas.openxmlformats.org/officeDocument/2006/relationships/hyperlink" Target="http://en.m.wikipedia.org/wiki/Nobel_Prize#Multiple_laureates" TargetMode="External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subTitle"/>
          </p:nvPr>
        </p:nvSpPr>
        <p:spPr>
          <a:xfrm>
            <a:off x="2106360" y="4812840"/>
            <a:ext cx="8690040" cy="195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e5c83"/>
                </a:solidFill>
                <a:latin typeface="Arial"/>
              </a:rPr>
              <a:t>Marie Sklodowska Curie</a:t>
            </a: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867-1934</a:t>
            </a: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776" name="" descr="File:Marie Curie c1920.png"/>
          <p:cNvPicPr/>
          <p:nvPr/>
        </p:nvPicPr>
        <p:blipFill>
          <a:blip r:embed="rId1"/>
          <a:stretch/>
        </p:blipFill>
        <p:spPr>
          <a:xfrm>
            <a:off x="4559400" y="0"/>
            <a:ext cx="3809880" cy="497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"/>
          <p:cNvSpPr txBox="1"/>
          <p:nvPr/>
        </p:nvSpPr>
        <p:spPr>
          <a:xfrm>
            <a:off x="6816600" y="190440"/>
            <a:ext cx="4840560" cy="651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19240" indent="-21924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Notable awards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219240" indent="-21924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56bcfe"/>
                </a:solidFill>
                <a:uFillTx/>
                <a:latin typeface="Arial"/>
                <a:hlinkClick r:id="rId1"/>
              </a:rPr>
              <a:t>Nobel</a:t>
            </a:r>
            <a:r>
              <a:rPr b="0" lang="ru-RU" sz="3200" spc="-1" strike="noStrike" u="sng">
                <a:solidFill>
                  <a:srgbClr val="56bcfe"/>
                </a:solidFill>
                <a:uFillTx/>
                <a:latin typeface="Arial"/>
                <a:hlinkClick r:id="rId2"/>
              </a:rPr>
              <a:t> </a:t>
            </a:r>
            <a:r>
              <a:rPr b="0" lang="ru-RU" sz="3200" spc="-1" strike="noStrike" u="sng">
                <a:solidFill>
                  <a:srgbClr val="56bcfe"/>
                </a:solidFill>
                <a:uFillTx/>
                <a:latin typeface="Arial"/>
                <a:hlinkClick r:id="rId3"/>
              </a:rPr>
              <a:t>Prize</a:t>
            </a:r>
            <a:r>
              <a:rPr b="0" lang="ru-RU" sz="3200" spc="-1" strike="noStrike" u="sng">
                <a:solidFill>
                  <a:srgbClr val="56bcfe"/>
                </a:solidFill>
                <a:uFillTx/>
                <a:latin typeface="Arial"/>
                <a:hlinkClick r:id="rId4"/>
              </a:rPr>
              <a:t> </a:t>
            </a:r>
            <a:r>
              <a:rPr b="0" lang="ru-RU" sz="3200" spc="-1" strike="noStrike" u="sng">
                <a:solidFill>
                  <a:srgbClr val="56bcfe"/>
                </a:solidFill>
                <a:uFillTx/>
                <a:latin typeface="Arial"/>
                <a:hlinkClick r:id="rId5"/>
              </a:rPr>
              <a:t>in</a:t>
            </a:r>
            <a:r>
              <a:rPr b="0" lang="ru-RU" sz="3200" spc="-1" strike="noStrike" u="sng">
                <a:solidFill>
                  <a:srgbClr val="56bcfe"/>
                </a:solidFill>
                <a:uFillTx/>
                <a:latin typeface="Arial"/>
                <a:hlinkClick r:id="rId6"/>
              </a:rPr>
              <a:t> </a:t>
            </a:r>
            <a:r>
              <a:rPr b="0" lang="ru-RU" sz="3200" spc="-1" strike="noStrike" u="sng">
                <a:solidFill>
                  <a:srgbClr val="56bcfe"/>
                </a:solidFill>
                <a:uFillTx/>
                <a:latin typeface="Arial"/>
                <a:hlinkClick r:id="rId7"/>
              </a:rPr>
              <a:t>Physics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1903)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219240" indent="-21924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56bcfe"/>
                </a:solidFill>
                <a:uFillTx/>
                <a:latin typeface="Arial"/>
                <a:hlinkClick r:id="rId8"/>
              </a:rPr>
              <a:t>Davy</a:t>
            </a:r>
            <a:r>
              <a:rPr b="0" lang="ru-RU" sz="3200" spc="-1" strike="noStrike" u="sng">
                <a:solidFill>
                  <a:srgbClr val="56bcfe"/>
                </a:solidFill>
                <a:uFillTx/>
                <a:latin typeface="Arial"/>
                <a:hlinkClick r:id="rId9"/>
              </a:rPr>
              <a:t> </a:t>
            </a:r>
            <a:r>
              <a:rPr b="0" lang="ru-RU" sz="3200" spc="-1" strike="noStrike" u="sng">
                <a:solidFill>
                  <a:srgbClr val="56bcfe"/>
                </a:solidFill>
                <a:uFillTx/>
                <a:latin typeface="Arial"/>
                <a:hlinkClick r:id="rId10"/>
              </a:rPr>
              <a:t>Medal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1903)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219240" indent="-21924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56bcfe"/>
                </a:solidFill>
                <a:uFillTx/>
                <a:latin typeface="Arial"/>
                <a:hlinkClick r:id="rId11"/>
              </a:rPr>
              <a:t>Matteucci</a:t>
            </a:r>
            <a:r>
              <a:rPr b="0" lang="en-US" sz="3200" spc="-1" strike="noStrike" u="sng">
                <a:solidFill>
                  <a:srgbClr val="56bcfe"/>
                </a:solidFill>
                <a:uFillTx/>
                <a:latin typeface="Arial"/>
                <a:hlinkClick r:id="rId12"/>
              </a:rPr>
              <a:t> </a:t>
            </a:r>
            <a:r>
              <a:rPr b="0" lang="ru-RU" sz="3200" spc="-1" strike="noStrike" u="sng">
                <a:solidFill>
                  <a:srgbClr val="56bcfe"/>
                </a:solidFill>
                <a:uFillTx/>
                <a:latin typeface="Arial"/>
                <a:hlinkClick r:id="rId13"/>
              </a:rPr>
              <a:t>Medal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1904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219240" indent="-21924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56bcfe"/>
                </a:solidFill>
                <a:uFillTx/>
                <a:latin typeface="Arial"/>
                <a:hlinkClick r:id="rId14"/>
              </a:rPr>
              <a:t>Nobel</a:t>
            </a:r>
            <a:r>
              <a:rPr b="0" lang="ru-RU" sz="3200" spc="-1" strike="noStrike" u="sng">
                <a:solidFill>
                  <a:srgbClr val="56bcfe"/>
                </a:solidFill>
                <a:uFillTx/>
                <a:latin typeface="Arial"/>
                <a:hlinkClick r:id="rId15"/>
              </a:rPr>
              <a:t> </a:t>
            </a:r>
            <a:r>
              <a:rPr b="0" lang="ru-RU" sz="3200" spc="-1" strike="noStrike" u="sng">
                <a:solidFill>
                  <a:srgbClr val="56bcfe"/>
                </a:solidFill>
                <a:uFillTx/>
                <a:latin typeface="Arial"/>
                <a:hlinkClick r:id="rId16"/>
              </a:rPr>
              <a:t>Prize</a:t>
            </a:r>
            <a:r>
              <a:rPr b="0" lang="ru-RU" sz="3200" spc="-1" strike="noStrike" u="sng">
                <a:solidFill>
                  <a:srgbClr val="56bcfe"/>
                </a:solidFill>
                <a:uFillTx/>
                <a:latin typeface="Arial"/>
                <a:hlinkClick r:id="rId17"/>
              </a:rPr>
              <a:t> </a:t>
            </a:r>
            <a:r>
              <a:rPr b="0" lang="ru-RU" sz="3200" spc="-1" strike="noStrike" u="sng">
                <a:solidFill>
                  <a:srgbClr val="56bcfe"/>
                </a:solidFill>
                <a:uFillTx/>
                <a:latin typeface="Arial"/>
                <a:hlinkClick r:id="rId18"/>
              </a:rPr>
              <a:t>in</a:t>
            </a:r>
            <a:r>
              <a:rPr b="0" lang="ru-RU" sz="3200" spc="-1" strike="noStrike" u="sng">
                <a:solidFill>
                  <a:srgbClr val="56bcfe"/>
                </a:solidFill>
                <a:uFillTx/>
                <a:latin typeface="Arial"/>
                <a:hlinkClick r:id="rId19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219240" indent="-21924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56bcfe"/>
                </a:solidFill>
                <a:uFillTx/>
                <a:latin typeface="Arial"/>
                <a:hlinkClick r:id="rId20"/>
              </a:rPr>
              <a:t>Chemistr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1911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219240" indent="-21924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8" name=""/>
          <p:cNvSpPr/>
          <p:nvPr/>
        </p:nvSpPr>
        <p:spPr>
          <a:xfrm>
            <a:off x="520560" y="317520"/>
            <a:ext cx="50547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Known for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Radioactivity, polonium,radium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Fields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f science </a:t>
            </a:r>
            <a:r>
              <a:rPr b="0" lang="ru-RU" sz="3600" spc="-1" strike="noStrike">
                <a:solidFill>
                  <a:srgbClr val="aaaef4"/>
                </a:solidFill>
                <a:latin typeface="Arial"/>
              </a:rPr>
              <a:t>Physics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3600" spc="-1" strike="noStrike">
                <a:solidFill>
                  <a:srgbClr val="2fa3ee"/>
                </a:solidFill>
                <a:latin typeface="Arial"/>
              </a:rPr>
              <a:t> </a:t>
            </a:r>
            <a:r>
              <a:rPr b="0" lang="en-US" sz="3600" spc="-1" strike="noStrike" u="sng">
                <a:solidFill>
                  <a:srgbClr val="7aa0f6"/>
                </a:solidFill>
                <a:uFillTx/>
                <a:latin typeface="Arial"/>
              </a:rPr>
              <a:t>Chemistry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779" name="" descr=""/>
          <p:cNvPicPr/>
          <p:nvPr/>
        </p:nvPicPr>
        <p:blipFill>
          <a:blip r:embed="rId21"/>
          <a:stretch/>
        </p:blipFill>
        <p:spPr>
          <a:xfrm>
            <a:off x="2995560" y="3537000"/>
            <a:ext cx="314316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"/>
          <p:cNvSpPr txBox="1"/>
          <p:nvPr/>
        </p:nvSpPr>
        <p:spPr>
          <a:xfrm>
            <a:off x="295200" y="352080"/>
            <a:ext cx="6416640" cy="628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Marie Curi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was 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lish </a:t>
            </a:r>
            <a:r>
              <a:rPr b="0" lang="ru-RU" sz="3200" spc="-1" strike="noStrike" u="sng">
                <a:solidFill>
                  <a:srgbClr val="56bcfe"/>
                </a:solidFill>
                <a:uFillTx/>
                <a:latin typeface="Arial"/>
                <a:hlinkClick r:id="rId1"/>
              </a:rPr>
              <a:t>physicist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and </a:t>
            </a:r>
            <a:r>
              <a:rPr b="0" lang="ru-RU" sz="3200" spc="-1" strike="noStrike" u="sng">
                <a:solidFill>
                  <a:srgbClr val="56bcfe"/>
                </a:solidFill>
                <a:uFillTx/>
                <a:latin typeface="Arial"/>
                <a:hlinkClick r:id="rId2"/>
              </a:rPr>
              <a:t>chemist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working mainly in France, who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s famous for her pioneering research 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 u="sng">
                <a:solidFill>
                  <a:srgbClr val="56bcfe"/>
                </a:solidFill>
                <a:uFillTx/>
                <a:latin typeface="Arial"/>
                <a:hlinkClick r:id="rId3"/>
              </a:rPr>
              <a:t>radioactivity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She was the first woman t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win a Nobel Prize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the only woman t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win in two fields, a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the only person to wi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in </a:t>
            </a:r>
            <a:r>
              <a:rPr b="0" lang="ru-RU" sz="3200" spc="-1" strike="noStrike" u="sng">
                <a:solidFill>
                  <a:srgbClr val="56bcfe"/>
                </a:solidFill>
                <a:uFillTx/>
                <a:latin typeface="Arial"/>
                <a:hlinkClick r:id="rId4"/>
              </a:rPr>
              <a:t>multiple</a:t>
            </a:r>
            <a:r>
              <a:rPr b="0" lang="ru-RU" sz="3200" spc="-1" strike="noStrike" u="sng">
                <a:solidFill>
                  <a:srgbClr val="56bcfe"/>
                </a:solidFill>
                <a:uFillTx/>
                <a:latin typeface="Arial"/>
                <a:hlinkClick r:id="rId5"/>
              </a:rPr>
              <a:t> </a:t>
            </a:r>
            <a:r>
              <a:rPr b="0" lang="ru-RU" sz="3200" spc="-1" strike="noStrike" u="sng">
                <a:solidFill>
                  <a:srgbClr val="56bcfe"/>
                </a:solidFill>
                <a:uFillTx/>
                <a:latin typeface="Arial"/>
                <a:hlinkClick r:id="rId6"/>
              </a:rPr>
              <a:t>sciences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781" name="" descr=""/>
          <p:cNvPicPr/>
          <p:nvPr/>
        </p:nvPicPr>
        <p:blipFill>
          <a:blip r:embed="rId7"/>
          <a:stretch/>
        </p:blipFill>
        <p:spPr>
          <a:xfrm>
            <a:off x="7167600" y="417600"/>
            <a:ext cx="4211640" cy="3681360"/>
          </a:xfrm>
          <a:prstGeom prst="rect">
            <a:avLst/>
          </a:prstGeom>
          <a:ln w="0">
            <a:noFill/>
          </a:ln>
        </p:spPr>
      </p:pic>
      <p:sp>
        <p:nvSpPr>
          <p:cNvPr id="782" name=""/>
          <p:cNvSpPr/>
          <p:nvPr/>
        </p:nvSpPr>
        <p:spPr>
          <a:xfrm>
            <a:off x="7149960" y="4446720"/>
            <a:ext cx="4635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She was also the first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female professor a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the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University of Paris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La Sorbonn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313920" y="-360"/>
            <a:ext cx="1036332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d list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4" name=""/>
          <p:cNvSpPr txBox="1"/>
          <p:nvPr/>
        </p:nvSpPr>
        <p:spPr>
          <a:xfrm>
            <a:off x="3076560" y="752400"/>
            <a:ext cx="5089680" cy="536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-45252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hievement 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стижение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452520" indent="-45252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miration 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схищение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452520" indent="-45252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gree 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епень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452520" indent="-45252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aduate 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канчивать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УЗ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452520" indent="-45252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mploy 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нимать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452520" indent="-45252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mediately 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медленно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452520" indent="-45252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bel Prize 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обелевская премия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452520" indent="-45252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diation 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диация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452520" indent="-45252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dium 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дий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452520" indent="-45252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ranium 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ран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452520" indent="-45252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Х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Y -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нтген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452520" indent="-45252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5" name=""/>
          <p:cNvSpPr/>
          <p:nvPr/>
        </p:nvSpPr>
        <p:spPr>
          <a:xfrm>
            <a:off x="5511960" y="1079640"/>
            <a:ext cx="6095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914040" y="298080"/>
            <a:ext cx="1036332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COMPLETE THE SENTENCES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7" name=""/>
          <p:cNvSpPr txBox="1"/>
          <p:nvPr/>
        </p:nvSpPr>
        <p:spPr>
          <a:xfrm>
            <a:off x="1168200" y="1126800"/>
            <a:ext cx="11023560" cy="555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04920" indent="-30492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w Cen MT"/>
              </a:rPr>
              <a:t>Marie Curie was born in…………………… .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304920" indent="-30492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w Cen MT"/>
              </a:rPr>
              <a:t>Marie studied……….……………………… .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304920" indent="-30492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w Cen MT"/>
              </a:rPr>
              <a:t>The isolated radioactive source was named…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304920" indent="-30492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w Cen MT"/>
              </a:rPr>
              <a:t>She was the first woman to win……in 1903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304920" indent="-30492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w Cen MT"/>
              </a:rPr>
              <a:t>In 1911 she got a Nobel Prize in………….. .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304920" indent="-30492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w Cen MT"/>
              </a:rPr>
              <a:t>She designed the fist mobile…………….... .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304920" indent="-30492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1-08T19:53:55Z</dcterms:created>
  <dc:creator>Хозяйка</dc:creator>
  <dc:description/>
  <dc:language>en-US</dc:language>
  <cp:lastModifiedBy>User</cp:lastModifiedBy>
  <dcterms:modified xsi:type="dcterms:W3CDTF">2016-11-22T17:27:46Z</dcterms:modified>
  <cp:revision>8</cp:revision>
  <dc:subject/>
  <dc:title>Презентация PowerPoint</dc:title>
</cp:coreProperties>
</file>