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55E-4F0C-46E9-ADC8-F2E0F86C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D94-8645-47AB-AF11-9081C00D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045-3E92-4880-B03D-47F1A7C1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AB3-8169-4B13-93D2-68847035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32A0-2C31-4F13-9B09-4E417CC4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9A74-40C1-4D28-BF6A-DD38DCB6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725-383F-4FEC-BE23-6E917EF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A33A-D739-445F-8E0A-6B1BD9FC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E26B-9D94-4465-9821-0E3BB9F0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4E0B-7330-4440-A99A-709A22C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893F-DE42-456D-B456-BE541FB5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B55-03A9-4393-90F8-46CB71DA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40E1-FF17-4C63-961C-AF776529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00E5-DE4B-4768-947A-1CEE6CBC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FC8E-509F-4BC8-A09A-A6C491B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389E-5C4B-40ED-B8D0-FE2FE737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C9A4-1B33-4018-B417-D5E0A12C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D709-E992-4C29-B4AD-F7276A11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8CF6-02D6-4AA4-B073-E81A7D8E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FE31-2CFD-409B-B09B-CF8ADB76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48B6-C8C8-401A-B38D-1833DA53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BDDA-C7DC-4130-A7B9-534FC48D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375-0286-4E87-A2C2-54CB3D10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EF40-EA01-4D80-853D-6E0AAF71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7A21-A400-4AE2-A197-F9DCD73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9EE4-982D-45FF-8005-722511D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A152-0504-4D18-A503-82659A1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EC61-83F4-41B9-85D9-BD7E5BA0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6440-835B-40A4-9508-C41B2A91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9954-588F-4352-8B16-81379A55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DC0C-CC9D-47A4-94AB-5FAF0406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9734-0C35-4748-B220-FDC3DA0C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EE01-0071-4CA3-8372-051776A6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CA8-9219-4DA3-B8CC-599B942C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B988B-413B-47DC-8D3C-6102C117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724B-E29B-4968-9C09-1EF3D398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F3F9-3738-4576-B0C2-24534206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E9E4-B845-47C9-BA4D-A478D1B7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FE71A-CADB-4C8C-ADE7-EBD73548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F2E3-BFC4-466B-B834-E54792B6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4970-CC46-45B0-8EC6-1E4D471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6906-2FB8-4244-A893-A00FB60B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C3F4B-80D5-443E-873F-A93D859C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90A-3862-4C14-8C6F-A0A2849C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6E7-E307-4D74-9148-900F7F2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530-C26E-4044-A3C2-4807835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DAF-AA7A-4DD5-973A-EA3F8B52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EB3-776C-4A29-9769-2B6238E9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B5EB-EDE4-423E-899B-7C8B62239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8" descr="перо.jpg"/>
          <p:cNvPicPr/>
          <p:nvPr/>
        </p:nvPicPr>
        <p:blipFill>
          <a:blip r:embed="rId3"/>
          <a:stretch/>
        </p:blipFill>
        <p:spPr>
          <a:xfrm rot="2481000">
            <a:off x="7957800" y="409680"/>
            <a:ext cx="1168200" cy="13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915F-9877-4050-868F-32FD0EC3C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50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перо.jpg"/>
          <p:cNvPicPr/>
          <p:nvPr/>
        </p:nvPicPr>
        <p:blipFill>
          <a:blip r:embed="rId4"/>
          <a:stretch/>
        </p:blipFill>
        <p:spPr>
          <a:xfrm rot="2481000">
            <a:off x="7957800" y="409680"/>
            <a:ext cx="1168200" cy="13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9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8D57-46C1-49BE-AA94-B8FB811DF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2428-D508-424D-8CDC-40D6A42F9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9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литературного чтения во 2-а классе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Гернет, Д. Хармс «Очень- очень вкусный пирог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476000" y="1599840"/>
            <a:ext cx="64803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виз уро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любим уч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чи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любим шути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хотим много знать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9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ла мама за порог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бегом смотреть пиро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овали крошечк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ещё немножечк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ирога с начинк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чезла половинк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ётся мама, скажем: «Ма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оглотился как-то сам!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61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на Гернет                  Даниил Хармс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952720" cy="475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Users\User\Desktop\img10.jpg"/>
          <p:cNvPicPr/>
          <p:nvPr/>
        </p:nvPicPr>
        <p:blipFill>
          <a:blip r:embed="rId2"/>
          <a:stretch/>
        </p:blipFill>
        <p:spPr>
          <a:xfrm>
            <a:off x="971640" y="1773360"/>
            <a:ext cx="3095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одержимое 2"/>
          <p:cNvSpPr/>
          <p:nvPr/>
        </p:nvSpPr>
        <p:spPr>
          <a:xfrm>
            <a:off x="32400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сегодняшнем уроке 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этом уроке я похвалил бы себя з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ле этого урока мне захоте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отел бы поработать н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одержимое 2"/>
          <p:cNvSpPr/>
          <p:nvPr/>
        </p:nvSpPr>
        <p:spPr>
          <a:xfrm>
            <a:off x="32400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84360" y="2209320"/>
            <a:ext cx="7920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по выбо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.175, читать стихотв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. 175, выучить стихотворение наизу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вариант своего пирог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18:38Z</dcterms:created>
  <dc:creator>Компас</dc:creator>
  <dc:description/>
  <dc:language>en-US</dc:language>
  <cp:lastModifiedBy>User</cp:lastModifiedBy>
  <dcterms:modified xsi:type="dcterms:W3CDTF">2016-10-09T16:35:11Z</dcterms:modified>
  <cp:revision>74</cp:revision>
  <dc:subject/>
  <dc:title>Скороговорки</dc:title>
</cp:coreProperties>
</file>