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3C61E-D16A-453B-ABC2-900E57A724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850EC-46AE-4482-98D8-C009F21346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73029-97E4-42D7-8CE8-6B1EC9FACA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46660-6726-49F5-A47A-620FED667A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4D7C7-6420-44D5-9FF8-B486005B17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879E2-385E-461E-B77C-8E27F3E1BE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9EF1C-ABF4-468D-95DE-FA8C575AEB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F793F-ADF3-4F57-A264-13AB35AED8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E9986-F165-4AB9-AFF9-C50F857FCE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04C1B-7191-4B46-B95C-7CAF448C03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2E58E-AEFE-49BD-BAAB-FBF76A5C1E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07CFC-5A05-4407-8087-BB35807277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114-040D-4F04-9457-1FFBE6B9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FF8-657A-4C73-959E-7AFB60EE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F58-C989-4358-8BF7-74067FD8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B2A-9816-48C7-A30C-FC0D0D73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0BC-2ABB-4BA7-8D84-BAEC89B8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7EF-D14D-4688-9A4D-99538550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FAE-827E-4D7D-9654-C7E2BEDE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789-8B74-4589-A7AD-156856EF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F03-D5B5-4188-869E-5CDB6B7B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195-E2C1-4991-B268-C0BED56A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BE2-6CCD-4A8B-8528-D3B4B9F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83B-0F25-403F-9211-A506872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880525-0EEF-4367-A4B2-42C7D8DFA6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инация 3.Компьютерные 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важности светоотраж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яшкин Тимур 3А класс 695 школа Рад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016600" y="792000"/>
            <a:ext cx="434340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720720" y="503280"/>
            <a:ext cx="42480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ю этой сказки, а может, и не сказ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ймет не только взрослый, но даже карапуз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тойте и не прыгайте, не пойте не пляш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светоотражателя там где подвешен гр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ут сл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но и ездят автомобил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863640" y="792000"/>
            <a:ext cx="8423280" cy="62042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644" t="0" r="12797" b="0"/>
          <a:stretch/>
        </p:blipFill>
        <p:spPr>
          <a:xfrm>
            <a:off x="1028880" y="826920"/>
            <a:ext cx="7970760" cy="6013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368360" y="826920"/>
            <a:ext cx="7272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у простую сказку, а может и не сказ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жет не простую, хотим вам расска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е мы помним с детства, а может, и не с дет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жет, и не помним, но будем вспом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65320" y="673200"/>
            <a:ext cx="7978680" cy="6383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303640" y="973080"/>
            <a:ext cx="54720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 помнится вороне, а может быть соба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жет быть корове, однажды повез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й светоотражатель, прислал однажды кто-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жет быть и пару, а может полк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952560" y="647640"/>
            <a:ext cx="8351640" cy="6262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008000" y="5472000"/>
            <a:ext cx="5904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ель она взлетела, а может, не взлет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жет быть, до пальмы, почти что добра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по пути посеяла все светоотраж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ми недавно так удачно за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008000" y="720720"/>
            <a:ext cx="8118360" cy="6067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224000" y="936720"/>
            <a:ext cx="439272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шина проезжала, спокойно проезж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жет там водитель злой, а может и не з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жет это дворник был. Он гнал по сельской ме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ближайшему орешнику за новою мет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36720" y="822240"/>
            <a:ext cx="8294760" cy="6220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936720" y="1728720"/>
            <a:ext cx="38163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ушайте, ворона, а может соба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жет корова, но тоже хоро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 сбить могла машина, а может не маш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в темноте на улице онаб вас не наш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06400" y="863640"/>
            <a:ext cx="8337600" cy="5964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806400" y="863640"/>
            <a:ext cx="78343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если вы прилепите, а может быть надене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может и натянете красивый катаф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в вас никто не врежется, не стукнет, не зада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 проезжей части вас любой легко най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92000" y="679320"/>
            <a:ext cx="8496360" cy="6321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936720" y="5040360"/>
            <a:ext cx="799128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И глупая ворона, а может соба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А может быть корова, как что-то зап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И светоотражатель нацепив себе послед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eeeee"/>
                </a:solidFill>
                <a:latin typeface="Arial"/>
              </a:rPr>
              <a:t>Спокойненько по улице над зеброю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19000" y="596880"/>
            <a:ext cx="8325000" cy="6243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19000" y="689040"/>
            <a:ext cx="681372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ылку та ворона, а может быть соб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может быть корова, конечно же наш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этим и лисицу, а может быть и страус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ворника конечно от аварии спа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19:53:14Z</dcterms:created>
  <dc:creator>User</dc:creator>
  <dc:description/>
  <dc:language>en-US</dc:language>
  <cp:lastModifiedBy>User</cp:lastModifiedBy>
  <dcterms:modified xsi:type="dcterms:W3CDTF">2016-11-22T09:06:30Z</dcterms:modified>
  <cp:revision>23</cp:revision>
  <dc:subject/>
  <dc:title>Слайд 1</dc:title>
</cp:coreProperties>
</file>