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43B-31FA-48DA-ABE3-A43D8DF2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615-06EE-403E-92E2-0D459B8B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0DD-7B96-4333-B4A3-10691C18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D47-36D3-4275-9E13-A22EEEAE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3D33-706A-4249-A22D-B3CEFD83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D33B-4C35-4E8A-839E-C3104029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2F0C-0B98-4AE9-BE11-DE3D2BFD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E46E-671F-4F98-9461-9B149BB7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400D-7F94-435C-A92D-45FDB4CE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A00E-38F0-4A1A-8CC4-1427DC4B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1E63-B7AA-4F88-8E76-EFBEB24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D94-5E91-49C8-9DC1-CB458817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B08-E06F-40ED-95F1-8DA691A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1810-25FB-407E-BEB2-BFB03BE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6D58-22BF-4D44-B3F3-7741B44F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FF10-93B8-4793-97D5-B4322148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B8F4-2056-4824-AD00-8338A390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A7E8-0C4B-4E40-AA0F-1AF09A20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A992-DF51-4934-A7A2-5B3B71D3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E475F-F1F0-472D-8258-68D76DCA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92F5-F4C4-4AA7-A5E2-DA365BD9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11E4-47A6-430B-A539-1582CB73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6C3-851F-4141-A5BC-EF2F54FD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27FB-FE67-4392-BDF3-49F3CAF3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9801-8EC5-4E01-A1C3-7713B9A4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AA05-A620-4C6A-A3E9-CB1106FC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124B-D49A-4A24-8295-E84845B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E68D-A0DC-4FAE-B163-AA88AFE4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03E1-63A8-45F0-BAC9-134490C5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01BB-B540-47DE-A68C-343D0A46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210ED-2F94-4B4D-A14D-7596266C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A340-0D8B-4988-850F-DFDFB391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98EE-BD93-4876-9FD0-6D6EA89C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5A5-4A81-43CD-9DA0-EC0D1E3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F32E-A598-4673-B822-66D959F9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8722-801A-4F24-AFD6-B622D500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E19B-5D6D-4008-9314-5060A412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2D86-FF3F-4CEB-9C15-6D1ABD4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D493-CFD6-47CD-B679-0824B642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2731-4837-4F7F-803C-E2207E0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5EB89-F76E-46C7-B245-8B13EE48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8F483-A3E2-462B-8629-8EB11771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D8CBF-7C6F-4A35-B411-9E0412E7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FFAF-6B79-48B6-A0B8-C70E5355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71E-16EC-4E29-B688-7D14EDB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81881-A49A-41BD-BF09-A91A8EBC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3E69E-0278-4D8C-AB2F-89767920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5C81D-8ECA-4FA9-A0B4-0A298A23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9BEBA-DE10-4E5E-A9D5-E12004ED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0F21-6DDE-4EF9-A974-7147A2CA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3BB4E-FF3D-4635-981F-B634D56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5EB3-3D6F-4C4D-8DC1-3D86DB10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F0401-BFCC-4191-B9FE-8D73E92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3D3B9-2980-4AEA-8A6F-81F447CB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CA8D9-C1CA-409B-9C54-A7651B6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F59-2716-430B-9B50-45E42E31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212C0-1107-4CAA-B56A-260654F6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D1AFD-FEED-41D7-9714-D7794B39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5A745-897F-402E-BCBB-04080C90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D3A8E-D196-4383-9D2B-C16C5ED9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03812-0962-43D8-8A2B-77D5E93B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B9E8F-C5DC-44CC-BE05-66A23980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1CE25-D012-47BD-AEC7-4A72EA8A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14D16-75B2-4233-81DE-18BF7B8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D6A18-356F-472E-9C5F-19DC378B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B10B8-4C93-4F16-8EA8-819478AC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4AC-AAC1-484B-AFD1-706C60BF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6B0A1-A688-4CEF-A42F-24A0E16A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90410-4BDC-49CE-9A60-257DBC47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C8DEF-B042-45B6-B3FB-CA2E4DED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F727-CAED-4B2F-BE1D-CA0835CB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EC9AE-3375-40A7-8A1F-396C81E1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98C20-657E-42FB-97D6-6ABC4EBA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82E18-1F21-4B52-883A-F79A68B3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448A-432B-4001-83CF-37691E4D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12E50-8017-4833-8C5C-9EE46D0D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F7B10-3D81-4AF0-9F74-67E46858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E80-D770-4D75-9FCB-E5510D6F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5FDC3-93D0-45AB-9FAD-19B37AFD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F686E-7DF0-4109-998A-CD7897A6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128C0-3A72-4462-9BF7-6273AB1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E6B47-47A2-4570-A5E6-3C6CF68C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26D89-D20E-4E10-874E-C79E9348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45B-541C-4356-AE90-A1EEE2EF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F64A-0BBB-4A29-A613-844D68CA398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9E68-238D-41A0-A90E-0D936BDD4112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7F11-564E-4059-929C-3BF5712E985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0F15-BCFD-4CFD-8242-A396E702EDF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391D-5334-4A00-8662-410673523DC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8CD8-C148-4803-97B3-9FAD2A19055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E4D8-1ABE-47A9-A991-BC14626BD6F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19000" y="404280"/>
            <a:ext cx="7772400" cy="211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0000"/>
                </a:solidFill>
                <a:latin typeface="Book Antiqua"/>
              </a:rPr>
              <a:t>“</a:t>
            </a:r>
            <a:r>
              <a:rPr b="1" i="1" lang="tt-RU" sz="3600" spc="-1" strike="noStrike">
                <a:solidFill>
                  <a:srgbClr val="ff0000"/>
                </a:solidFill>
                <a:latin typeface="Book Antiqua"/>
              </a:rPr>
              <a:t>ТУРЫ БЕЛӘН ЯССЫЛЫКНЫҢ ПАРАЛЛЕЛЬЛЕГЕ” ТЕМАСЫ БУЕНЧА МӘСЬӘЛӘЛӘР ЭШЛӘҮ.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2" name="Freeform 5"/>
          <p:cNvSpPr/>
          <p:nvPr/>
        </p:nvSpPr>
        <p:spPr>
          <a:xfrm>
            <a:off x="826920" y="3213000"/>
            <a:ext cx="4772160" cy="5040"/>
          </a:xfrm>
          <a:custGeom>
            <a:avLst/>
            <a:gdLst/>
            <a:ahLst/>
            <a:rect l="l" t="t" r="r" b="b"/>
            <a:pathLst>
              <a:path w="3006" h="3">
                <a:moveTo>
                  <a:pt x="0" y="3"/>
                </a:moveTo>
                <a:lnTo>
                  <a:pt x="3006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971640" y="3716280"/>
            <a:ext cx="3744720" cy="1152720"/>
          </a:xfrm>
          <a:prstGeom prst="parallelogram">
            <a:avLst>
              <a:gd name="adj" fmla="val 812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90108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189080" y="4365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08160" y="2276280"/>
            <a:ext cx="5453280" cy="25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500" spc="-1" strike="noStrike">
                <a:solidFill>
                  <a:srgbClr val="000000"/>
                </a:solidFill>
                <a:latin typeface="Arial"/>
                <a:ea typeface="Arial"/>
              </a:rPr>
              <a:t>ӨЙ ЭШЕ:</a:t>
            </a: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Arial"/>
                <a:ea typeface="Arial"/>
              </a:rPr>
              <a:t>П.1- 6,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БАТЛАРГА</a:t>
            </a:r>
            <a:r>
              <a:rPr b="1" lang="ru-RU" sz="3500" spc="-1" strike="noStrike">
                <a:solidFill>
                  <a:srgbClr val="c00000"/>
                </a:solidFill>
                <a:latin typeface="Arial"/>
                <a:ea typeface="Arial"/>
              </a:rPr>
              <a:t>, </a:t>
            </a: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Arial"/>
                <a:ea typeface="Arial"/>
              </a:rPr>
              <a:t>№27,30; 14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НЧЕ БИТ.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5483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1476360" y="404640"/>
            <a:ext cx="59770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Дәреснең макса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 rot="6885000">
            <a:off x="1328400" y="2134800"/>
            <a:ext cx="2530440" cy="365400"/>
          </a:xfrm>
          <a:custGeom>
            <a:avLst/>
            <a:gdLst>
              <a:gd name="textAreaLeft" fmla="*/ 316080 w 2530440"/>
              <a:gd name="textAreaRight" fmla="*/ 2214360 w 2530440"/>
              <a:gd name="textAreaTop" fmla="*/ 91440 h 365400"/>
              <a:gd name="textAreaBottom" fmla="*/ 274320 h 36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5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 rot="3888600">
            <a:off x="5217840" y="2135160"/>
            <a:ext cx="2530440" cy="365040"/>
          </a:xfrm>
          <a:custGeom>
            <a:avLst/>
            <a:gdLst>
              <a:gd name="textAreaLeft" fmla="*/ 316080 w 2530440"/>
              <a:gd name="textAreaRight" fmla="*/ 2214360 w 253044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5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179280" y="3573360"/>
            <a:ext cx="4105440" cy="24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уры белән яссылык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раллельле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урындаг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емнәр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ыгы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788000" y="3573360"/>
            <a:ext cx="4213080" cy="244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әсьәләләр эшләгәнд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уры белән яссылыкн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раллельлек билгеләр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лана бел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үнекмәләре булд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 Antiqua"/>
              </a:rPr>
              <a:t>КАБАТЛАУ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39640" y="1052280"/>
            <a:ext cx="81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Пространствода нинди ике туры параллель дип атала?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Параллель турылар турындагы теорема ничек әйтелә?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Пространствода туры белән яссылыкның үзара торышының нинди очраклары бар?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Нинди туры белән яссылык параллель дип атала?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Туры белән яссылыкның параллельлек билгесе ничек әйтелә</a:t>
            </a: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АВСДА1В1С1Д1 КУБЫ БИРЕЛГӘН.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 ПАР ПАРАЛЛЕЛЬ БУЛГАН ТУРЫЛАРНЫ ҺӘ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 ПАР КИСЕШҮЧЕ ТУРЫЛАРНЫ АТАРГА.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3051000" y="2016000"/>
            <a:ext cx="4831920" cy="4614120"/>
            <a:chOff x="3051000" y="2016000"/>
            <a:chExt cx="4831920" cy="4614120"/>
          </a:xfrm>
        </p:grpSpPr>
        <p:sp>
          <p:nvSpPr>
            <p:cNvPr id="345" name="Line 4"/>
            <p:cNvSpPr/>
            <p:nvPr/>
          </p:nvSpPr>
          <p:spPr>
            <a:xfrm>
              <a:off x="4394880" y="2473560"/>
              <a:ext cx="273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 flipH="1">
              <a:off x="3587760" y="2473560"/>
              <a:ext cx="807120" cy="8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3587760" y="3326040"/>
              <a:ext cx="283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7"/>
            <p:cNvSpPr/>
            <p:nvPr/>
          </p:nvSpPr>
          <p:spPr>
            <a:xfrm flipH="1">
              <a:off x="6418800" y="2473560"/>
              <a:ext cx="706320" cy="8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8"/>
            <p:cNvSpPr/>
            <p:nvPr/>
          </p:nvSpPr>
          <p:spPr>
            <a:xfrm>
              <a:off x="3587760" y="3326040"/>
              <a:ext cx="0" cy="274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9"/>
            <p:cNvSpPr/>
            <p:nvPr/>
          </p:nvSpPr>
          <p:spPr>
            <a:xfrm>
              <a:off x="6418800" y="3326040"/>
              <a:ext cx="0" cy="274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3587760" y="6076080"/>
              <a:ext cx="2831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7125480" y="2473560"/>
              <a:ext cx="0" cy="29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2"/>
            <p:cNvSpPr/>
            <p:nvPr/>
          </p:nvSpPr>
          <p:spPr>
            <a:xfrm flipV="1">
              <a:off x="6418800" y="5411520"/>
              <a:ext cx="706320" cy="66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3"/>
            <p:cNvSpPr/>
            <p:nvPr/>
          </p:nvSpPr>
          <p:spPr>
            <a:xfrm>
              <a:off x="4394880" y="2473560"/>
              <a:ext cx="0" cy="29379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4"/>
            <p:cNvSpPr/>
            <p:nvPr/>
          </p:nvSpPr>
          <p:spPr>
            <a:xfrm flipH="1">
              <a:off x="4394520" y="5411880"/>
              <a:ext cx="2730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5"/>
            <p:cNvSpPr/>
            <p:nvPr/>
          </p:nvSpPr>
          <p:spPr>
            <a:xfrm flipH="1">
              <a:off x="3587760" y="5411880"/>
              <a:ext cx="807120" cy="664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6"/>
            <p:cNvSpPr/>
            <p:nvPr/>
          </p:nvSpPr>
          <p:spPr>
            <a:xfrm>
              <a:off x="3051000" y="2975040"/>
              <a:ext cx="50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7"/>
            <p:cNvSpPr/>
            <p:nvPr/>
          </p:nvSpPr>
          <p:spPr>
            <a:xfrm>
              <a:off x="3889080" y="2016000"/>
              <a:ext cx="60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6537240" y="3096360"/>
              <a:ext cx="55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9"/>
            <p:cNvSpPr/>
            <p:nvPr/>
          </p:nvSpPr>
          <p:spPr>
            <a:xfrm>
              <a:off x="3182400" y="607608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0"/>
            <p:cNvSpPr/>
            <p:nvPr/>
          </p:nvSpPr>
          <p:spPr>
            <a:xfrm>
              <a:off x="4597560" y="4747320"/>
              <a:ext cx="6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1"/>
            <p:cNvSpPr/>
            <p:nvPr/>
          </p:nvSpPr>
          <p:spPr>
            <a:xfrm>
              <a:off x="6265080" y="6170400"/>
              <a:ext cx="16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7"/>
            <p:cNvSpPr/>
            <p:nvPr/>
          </p:nvSpPr>
          <p:spPr>
            <a:xfrm>
              <a:off x="7074000" y="2036520"/>
              <a:ext cx="606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7171920" y="5013000"/>
            <a:ext cx="51444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5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МӘСЬӘЛӘЛӘР ЭШЛӘҮ.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rcRect l="0" t="0" r="66718" b="17906"/>
          <a:stretch/>
        </p:blipFill>
        <p:spPr>
          <a:xfrm>
            <a:off x="539640" y="1700280"/>
            <a:ext cx="4537080" cy="27194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http://festival.1september.ru/articles/620325/1.JPG"/>
          <p:cNvPicPr/>
          <p:nvPr/>
        </p:nvPicPr>
        <p:blipFill>
          <a:blip r:embed="rId2"/>
          <a:srcRect l="0" t="0" r="53609" b="3144"/>
          <a:stretch/>
        </p:blipFill>
        <p:spPr>
          <a:xfrm>
            <a:off x="5153040" y="1989000"/>
            <a:ext cx="374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5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МӘСЬӘЛӘЛӘР ЭШЛӘҮ.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9" name="Объект 3" descr="http://festival.1september.ru/articles/620325/2.JPG"/>
          <p:cNvPicPr/>
          <p:nvPr/>
        </p:nvPicPr>
        <p:blipFill>
          <a:blip r:embed="rId1"/>
          <a:srcRect l="72817" t="10871" r="310" b="37572"/>
          <a:stretch/>
        </p:blipFill>
        <p:spPr>
          <a:xfrm>
            <a:off x="1119240" y="2006640"/>
            <a:ext cx="2512800" cy="18511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http://festival.1september.ru/articles/620325/2.JPG"/>
          <p:cNvPicPr/>
          <p:nvPr/>
        </p:nvPicPr>
        <p:blipFill>
          <a:blip r:embed="rId2"/>
          <a:srcRect l="88790" t="73766" r="310" b="12228"/>
          <a:stretch/>
        </p:blipFill>
        <p:spPr>
          <a:xfrm>
            <a:off x="1763640" y="4344840"/>
            <a:ext cx="1224000" cy="61776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5"/>
          <p:cNvSpPr/>
          <p:nvPr/>
        </p:nvSpPr>
        <p:spPr>
          <a:xfrm>
            <a:off x="395280" y="155736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Arial"/>
              </a:rPr>
              <a:t>2) Бирелә: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287280" y="378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Arial"/>
              </a:rPr>
              <a:t>Исбатлар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7" descr="http://festival.1september.ru/articles/620325/2.JPG"/>
          <p:cNvPicPr/>
          <p:nvPr/>
        </p:nvPicPr>
        <p:blipFill>
          <a:blip r:embed="rId3"/>
          <a:srcRect l="0" t="10871" r="43473" b="2268"/>
          <a:stretch/>
        </p:blipFill>
        <p:spPr>
          <a:xfrm>
            <a:off x="3995640" y="2276640"/>
            <a:ext cx="478800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6"/>
          <p:cNvSpPr/>
          <p:nvPr/>
        </p:nvSpPr>
        <p:spPr>
          <a:xfrm>
            <a:off x="324000" y="189000"/>
            <a:ext cx="2520720" cy="1562040"/>
          </a:xfrm>
          <a:prstGeom prst="irregularSeal1">
            <a:avLst/>
          </a:prstGeom>
          <a:solidFill>
            <a:srgbClr val="ffe5f8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987640" y="333360"/>
            <a:ext cx="52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релә: АС ||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 ∩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 =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 ∩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батларга: 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С ~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2268360" y="3716280"/>
            <a:ext cx="4680000" cy="1224000"/>
          </a:xfrm>
          <a:prstGeom prst="parallelogram">
            <a:avLst>
              <a:gd name="adj" fmla="val 955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9"/>
          <p:cNvSpPr/>
          <p:nvPr/>
        </p:nvSpPr>
        <p:spPr>
          <a:xfrm>
            <a:off x="3851280" y="2852640"/>
            <a:ext cx="2230560" cy="3240"/>
          </a:xfrm>
          <a:custGeom>
            <a:avLst/>
            <a:gdLst/>
            <a:ahLst/>
            <a:rect l="l" t="t" r="r" b="b"/>
            <a:pathLst>
              <a:path w="1405" h="2">
                <a:moveTo>
                  <a:pt x="0" y="0"/>
                </a:moveTo>
                <a:lnTo>
                  <a:pt x="1405" y="2"/>
                </a:lnTo>
              </a:path>
            </a:pathLst>
          </a:custGeom>
          <a:noFill/>
          <a:ln w="414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>
            <a:off x="3870360" y="2865600"/>
            <a:ext cx="168120" cy="1309680"/>
          </a:xfrm>
          <a:custGeom>
            <a:avLst/>
            <a:gdLst/>
            <a:ahLst/>
            <a:rect l="l" t="t" r="r" b="b"/>
            <a:pathLst>
              <a:path w="106" h="825">
                <a:moveTo>
                  <a:pt x="0" y="0"/>
                </a:moveTo>
                <a:lnTo>
                  <a:pt x="106" y="825"/>
                </a:lnTo>
              </a:path>
            </a:pathLst>
          </a:custGeom>
          <a:noFill/>
          <a:ln w="414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4145040" y="4968720"/>
            <a:ext cx="152280" cy="1173240"/>
          </a:xfrm>
          <a:custGeom>
            <a:avLst/>
            <a:gdLst/>
            <a:ahLst/>
            <a:rect l="l" t="t" r="r" b="b"/>
            <a:pathLst>
              <a:path w="96" h="739">
                <a:moveTo>
                  <a:pt x="0" y="0"/>
                </a:moveTo>
                <a:lnTo>
                  <a:pt x="96" y="739"/>
                </a:lnTo>
              </a:path>
            </a:pathLst>
          </a:custGeom>
          <a:noFill/>
          <a:ln w="414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2"/>
          <p:cNvSpPr/>
          <p:nvPr/>
        </p:nvSpPr>
        <p:spPr>
          <a:xfrm>
            <a:off x="5364000" y="2879640"/>
            <a:ext cx="685800" cy="1341360"/>
          </a:xfrm>
          <a:custGeom>
            <a:avLst/>
            <a:gdLst/>
            <a:ahLst/>
            <a:rect l="l" t="t" r="r" b="b"/>
            <a:pathLst>
              <a:path w="432" h="845">
                <a:moveTo>
                  <a:pt x="0" y="845"/>
                </a:moveTo>
                <a:lnTo>
                  <a:pt x="432" y="0"/>
                </a:lnTo>
              </a:path>
            </a:pathLst>
          </a:custGeom>
          <a:noFill/>
          <a:ln w="414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3"/>
          <p:cNvSpPr/>
          <p:nvPr/>
        </p:nvSpPr>
        <p:spPr>
          <a:xfrm>
            <a:off x="4054320" y="4221000"/>
            <a:ext cx="90720" cy="747720"/>
          </a:xfrm>
          <a:custGeom>
            <a:avLst/>
            <a:gdLst/>
            <a:ahLst/>
            <a:rect l="l" t="t" r="r" b="b"/>
            <a:pathLst>
              <a:path w="57" h="471">
                <a:moveTo>
                  <a:pt x="0" y="0"/>
                </a:moveTo>
                <a:lnTo>
                  <a:pt x="57" y="471"/>
                </a:lnTo>
              </a:path>
            </a:pathLst>
          </a:custGeom>
          <a:noFill/>
          <a:ln w="41400">
            <a:solidFill>
              <a:srgbClr val="8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4"/>
          <p:cNvSpPr/>
          <p:nvPr/>
        </p:nvSpPr>
        <p:spPr>
          <a:xfrm>
            <a:off x="4983120" y="4237200"/>
            <a:ext cx="380880" cy="669600"/>
          </a:xfrm>
          <a:custGeom>
            <a:avLst/>
            <a:gdLst/>
            <a:ahLst/>
            <a:rect l="l" t="t" r="r" b="b"/>
            <a:pathLst>
              <a:path w="240" h="422">
                <a:moveTo>
                  <a:pt x="0" y="422"/>
                </a:moveTo>
                <a:lnTo>
                  <a:pt x="240" y="0"/>
                </a:lnTo>
              </a:path>
            </a:pathLst>
          </a:custGeom>
          <a:noFill/>
          <a:ln w="41400">
            <a:solidFill>
              <a:srgbClr val="8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5"/>
          <p:cNvSpPr/>
          <p:nvPr/>
        </p:nvSpPr>
        <p:spPr>
          <a:xfrm>
            <a:off x="4297320" y="4952880"/>
            <a:ext cx="671400" cy="1235160"/>
          </a:xfrm>
          <a:custGeom>
            <a:avLst/>
            <a:gdLst/>
            <a:ahLst/>
            <a:rect l="l" t="t" r="r" b="b"/>
            <a:pathLst>
              <a:path w="423" h="778">
                <a:moveTo>
                  <a:pt x="423" y="0"/>
                </a:moveTo>
                <a:lnTo>
                  <a:pt x="0" y="778"/>
                </a:lnTo>
              </a:path>
            </a:pathLst>
          </a:custGeom>
          <a:noFill/>
          <a:ln w="414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6"/>
          <p:cNvSpPr/>
          <p:nvPr/>
        </p:nvSpPr>
        <p:spPr>
          <a:xfrm>
            <a:off x="4038480" y="4191120"/>
            <a:ext cx="1341720" cy="15840"/>
          </a:xfrm>
          <a:custGeom>
            <a:avLst/>
            <a:gdLst/>
            <a:ahLst/>
            <a:rect l="l" t="t" r="r" b="b"/>
            <a:pathLst>
              <a:path w="845" h="10">
                <a:moveTo>
                  <a:pt x="0" y="0"/>
                </a:moveTo>
                <a:lnTo>
                  <a:pt x="845" y="10"/>
                </a:lnTo>
              </a:path>
            </a:pathLst>
          </a:custGeom>
          <a:noFill/>
          <a:ln w="414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342180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6014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385344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3494880" y="37893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437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6"/>
          <p:cNvSpPr/>
          <p:nvPr/>
        </p:nvSpPr>
        <p:spPr>
          <a:xfrm>
            <a:off x="324000" y="189000"/>
            <a:ext cx="2520720" cy="1562040"/>
          </a:xfrm>
          <a:prstGeom prst="irregularSeal1">
            <a:avLst/>
          </a:prstGeom>
          <a:solidFill>
            <a:srgbClr val="ffe5f8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987640" y="33336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релә:∆АВС,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∈ AB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 ∈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, DE = 5;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Д/АД = 2/3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барга: ВС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rcRect l="0" t="9122" r="0" b="0"/>
          <a:stretch/>
        </p:blipFill>
        <p:spPr>
          <a:xfrm>
            <a:off x="3419640" y="2320920"/>
            <a:ext cx="4321080" cy="36543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7095240" y="18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500" spc="-1" strike="noStrike">
                <a:solidFill>
                  <a:srgbClr val="6b7d72"/>
                </a:solidFill>
                <a:latin typeface="Arial"/>
                <a:ea typeface="Arial"/>
              </a:rPr>
              <a:t>МӨСТӘКЫЙЛЬ ЭШЛӘҮ ӨЧЕН: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564b3c"/>
                </a:solidFill>
                <a:latin typeface="Arial"/>
                <a:ea typeface="Times New Roman"/>
              </a:rPr>
              <a:t>Нигезләре АД һәм ВС булган АВСД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564b3c"/>
                </a:solidFill>
                <a:latin typeface="Arial"/>
                <a:ea typeface="Times New Roman"/>
              </a:rPr>
              <a:t> </a:t>
            </a:r>
            <a:r>
              <a:rPr b="1" lang="tt-RU" sz="2800" spc="-1" strike="noStrike">
                <a:solidFill>
                  <a:srgbClr val="564b3c"/>
                </a:solidFill>
                <a:latin typeface="Arial"/>
                <a:ea typeface="Times New Roman"/>
              </a:rPr>
              <a:t>трапециясе бирелгән.  Ян – якларының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564b3c"/>
                </a:solidFill>
                <a:latin typeface="Arial"/>
                <a:ea typeface="Times New Roman"/>
              </a:rPr>
              <a:t> </a:t>
            </a:r>
            <a:r>
              <a:rPr b="1" lang="tt-RU" sz="2800" spc="-1" strike="noStrike">
                <a:solidFill>
                  <a:srgbClr val="564b3c"/>
                </a:solidFill>
                <a:latin typeface="Arial"/>
                <a:ea typeface="Times New Roman"/>
              </a:rPr>
              <a:t>урталары аша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tt-RU" sz="2800" spc="-1" strike="noStrike">
                <a:solidFill>
                  <a:srgbClr val="564b3c"/>
                </a:solidFill>
                <a:latin typeface="Arial"/>
                <a:ea typeface="Times New Roman"/>
              </a:rPr>
              <a:t>яссылыгы үткәрелгән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ӏӏ АД </a:t>
            </a:r>
            <a:r>
              <a:rPr b="1" lang="tt-RU" sz="2800" spc="-1" strike="noStrike">
                <a:solidFill>
                  <a:srgbClr val="564b3c"/>
                </a:solidFill>
                <a:latin typeface="Arial"/>
                <a:ea typeface="Times New Roman"/>
              </a:rPr>
              <a:t>икәнлеген исбатларг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01:03:49Z</dcterms:created>
  <dc:creator>Марина</dc:creator>
  <dc:description/>
  <dc:language>en-US</dc:language>
  <cp:lastModifiedBy>Наил</cp:lastModifiedBy>
  <dcterms:modified xsi:type="dcterms:W3CDTF">2016-10-19T20:13:25Z</dcterms:modified>
  <cp:revision>14</cp:revision>
  <dc:subject/>
  <dc:title>Решение задач по теме «Параллельность   прямой и плоскости»</dc:title>
</cp:coreProperties>
</file>