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2E3-5504-4DA2-BD4B-A2A03BEF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339-2E20-4460-BCDE-904067AD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537-2FA4-4725-8E97-DA2F0F2E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8EC-A973-4FB4-933A-2F829DAF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E0A1C-22DD-4334-B92B-77490D04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5DA34-607D-4096-B378-04E2396C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47F3B-0BD8-4A0A-80C4-79D69B4D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21588-2057-4969-825B-F09B5F84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35C13-EFB4-4D04-82E8-6E8853AC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DFC3E-E3AA-44C8-A912-B520B462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F23A3-05A5-49F3-9577-2ADA5181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9AB-4E62-4C34-B9EC-5CBA352C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10826-5562-4C97-9AE1-1DAD8FA6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6E452-C7A7-4652-83D7-66195C1C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742CC-FB90-4B6C-97C7-79EEA604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7B35D-7C84-41EE-95C4-BE4477B7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6CE13-2450-490B-B14F-77EA5DA8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421B-8831-4FF9-A4C9-56301178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ABC-44F0-4A4B-8D66-F96A6609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CF2-071D-4E97-B30E-1B7756CB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137-B1D7-4BA8-9943-97D74234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AF8-26CE-4455-AB30-1F8EA33E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4A6-0A8B-4296-BB76-F159EAEC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1821-4608-4013-855D-78799345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9EF7-9856-49D8-8A75-02ED213F5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1209-09E2-4CEF-AD6F-22A7E7536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Segoe Print"/>
              </a:rPr>
              <a:t>Мастер-класс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Segoe Print"/>
              </a:rPr>
              <a:t>«Игрушка-дергунчик»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537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6600"/>
                </a:solidFill>
                <a:latin typeface="Tahoma"/>
              </a:rPr>
              <a:t>Педагог дополнительного образования по конструированию и моделированию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6600"/>
                </a:solidFill>
                <a:latin typeface="Tahoma"/>
              </a:rPr>
              <a:t>Боярищева Нина Валерьевн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340000" y="2276640"/>
            <a:ext cx="4608360" cy="307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0920" y="189000"/>
            <a:ext cx="8713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ahoma"/>
              </a:rPr>
              <a:t>МКДОУ «Новохоперский центр развития ребенка «Пристань детств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8. Нитью соединить между собой руки на задней стороне игрушки, другой нитью соединить ноги.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705636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9. Привязать к середине соединительных 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нитей управляющую нить, закрепить на конце управляющей нити бусину.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69850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10. Двухсторонним скотчем прикрепить с обратной стороны игрушки деревянную шпажку.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705636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11. Фломастером или гелевой ручкой подрисовать ресницы и прорисовать пальчики рук, 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нарисовать дугу-улыбку. 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69850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С дергунчиками можно играть, можно сделать их актерами домашнего театра, можно просто подарить детям, но лучше – делать эти игрушки вместе с детьми! 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Дети будут в восторге от такого занятия!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88000" y="3716280"/>
            <a:ext cx="3886200" cy="2594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39592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СПАСИБО ЗА ВНИМАНИЕ!!!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4105080" cy="2739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00720" y="2997360"/>
            <a:ext cx="4030560" cy="2690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5529240"/>
            <a:ext cx="5113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397401, Воронежская область,  г.Новохоперск, ул. Советская, 14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МКДОУ «Новохоперский центр развития ребенка «Пристань детств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5640480"/>
            <a:ext cx="39607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Тел. 8-950-769-80-7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e-mail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boyarishewa.nina@yandex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http://nsportal.ru/boyarishcheva-nina-valerevna</a:t>
            </a: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Игрушка- дергунчик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 способствует развитию у ребенка образного и логического мышления, творческих и игровых способностей, координации движений, внимания, усидчивости, мелкой моторики пальчиков, тактильных ощущений.</a:t>
            </a:r>
            <a:br>
              <a:rPr sz="1600"/>
            </a:br>
            <a:r>
              <a:rPr b="0" lang="en-US" sz="1600" spc="-1" strike="noStrike" u="sng">
                <a:solidFill>
                  <a:srgbClr val="a50021"/>
                </a:solidFill>
                <a:uFillTx/>
                <a:latin typeface="Arial"/>
              </a:rPr>
              <a:t>Нам понадобится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: цветной картон; цветная бумага; простой карандаш; фломастеры; шило; ножницы; шаблоны будущей поделки; проволока; пуговицы; клей; шнурок; шпажка; двухсторонний скотч.</a:t>
            </a:r>
            <a:endParaRPr b="0" lang="en-US" sz="1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840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. Сделать на листе бумаги эскиз дергунчика Клоуна натурального размера.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6840720" cy="45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2. Из картона – основы вырезать по шаблонам детали рук и ног Клоуна, а также туловище вместе с головой.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58920" y="2131920"/>
            <a:ext cx="662616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3. Изготовить из картона шаблоны для одежды Клоуна.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69138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4. Вырезать детали одежды по шаблонам из цветной бумаги с подходящим рисунком.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8421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. Оклеить картонные детали бумагой, чтобы получились штаны с лямками, рубашка, ботинки и перчатки. На лицо приклеить кружок телесного цвета, из белой бумаги вырезать губы, из красной – кружочек-нос, а из оранжевой – волосы. Приклеить на лицо губы и нос, а также глаза. Приклеить к голове волосы.</a:t>
            </a:r>
            <a:endParaRPr b="0" lang="en-US" sz="20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16000" y="1909800"/>
            <a:ext cx="69850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6. С помощью шила сделать отверстия 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для крепления рук и ног.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69850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7. Клипсами присоединить руки и ноги так, чтобы они располагались позади туловища.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705636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0T12:56:28Z</dcterms:created>
  <dc:creator>User</dc:creator>
  <dc:description/>
  <dc:language>en-US</dc:language>
  <cp:lastModifiedBy>User</cp:lastModifiedBy>
  <dcterms:modified xsi:type="dcterms:W3CDTF">2016-11-20T13:48:53Z</dcterms:modified>
  <cp:revision>3</cp:revision>
  <dc:subject/>
  <dc:title>Мастер-класс  «Игрушка-дергунчик»</dc:title>
</cp:coreProperties>
</file>