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9.gif" ContentType="image/gif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295-3A87-40B9-AC6F-DB7C2B71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46D-B919-4EF8-80A8-1FADE42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08D-AE7E-44EF-AB3D-46BC6B12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99F-4357-49E3-87F3-3047CC0A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0771-BED0-464B-B104-66CD67AC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DD6-76D1-46AF-B9C8-FA50FBB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F4B-98D3-4BD9-8407-8A657AA4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9DE-BD45-4680-903D-02D822A1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AC46-4918-439F-89A9-892C2A06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2996-D2D9-4BA1-96FF-215B1F9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018-7A39-4C13-8F4F-7D28A0C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F2E-8062-49EA-9719-AA4C14A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00FC-0BB8-483C-A330-983A5FC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399-59A8-498A-9E24-EBF0616D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4C22-6C6E-4000-B2B5-3E31552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147F-5C14-4F07-A690-8AA5EC16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756-0C8D-489E-8D26-814351C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6D70-01B9-4691-8853-39D94CA4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A167-E740-42C9-BEDC-DA5904D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2DA9-C856-4D9B-80F1-C1074A81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5FEB-B86F-4E1C-AF1A-BCA2937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63A0-A889-489D-9D99-61CC524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0CB-82B3-45F0-844C-FEF70FB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3347-F664-4FB3-B20F-12950ABC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6904-B2BC-404C-A561-B73ACC6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F45A-7A48-40B7-B8B2-699A382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54C1-B7D8-485A-A19B-997DABB4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37C4-D55E-4AA5-B692-D6E610F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74DB-5827-4399-8B91-19D2E0BD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CDB5-2F50-4F3D-80E2-04FC8377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6527-6870-41A1-A84D-84DFD380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9849-90C8-4928-9B76-D348B88D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A01B-B6B2-4D40-9F28-82DA5F4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CFB-DFFB-424A-8222-586F4D02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4E29-BF2A-4110-9883-17AF4E2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57DD-C033-48A5-BD2D-4551061F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ABE0-05B5-4570-BB3F-18EE60A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3F73-6910-43DD-B590-8F45701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D024-6CED-4625-927E-F5DD61B9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92810-E234-4C76-B901-95BBE25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9A4A-63E2-4162-AD81-AA921C62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3811-A727-4E60-B0CA-DF717DA1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32CE4-7190-4AC0-959C-1BEF0ECB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C8E-87B2-4DB3-B376-FD6A5DD4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0BD-E6D6-4C16-9426-2591937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3BE-3ECD-46B4-B799-AD6C6F6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B37-5CDD-44B5-9984-64DBB1D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E9B-C13A-456F-B48C-0374849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9B2C-E520-4D6C-82BB-B10884FA30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FF4-1437-464E-BB26-36622569CA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3B1-5FC3-456D-975A-5B7B92A9B3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CBB-1C72-47D8-89B0-1B13C2EABA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C:\Users\Иван\Desktop\Новый год\картинки новый год\82489392_78849071_17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Users\Иван\Desktop\95573274_4979645_f2011120303432952920580_56c35bd9ef0c.png"/>
          <p:cNvPicPr/>
          <p:nvPr/>
        </p:nvPicPr>
        <p:blipFill>
          <a:blip r:embed="rId2"/>
          <a:stretch/>
        </p:blipFill>
        <p:spPr>
          <a:xfrm>
            <a:off x="0" y="2316240"/>
            <a:ext cx="30592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C:\Users\Иван\Desktop\3d51045e15a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Иван\Desktop\merry-christmas-graphicsdesovalley-dot-com-23.gif"/>
          <p:cNvPicPr/>
          <p:nvPr/>
        </p:nvPicPr>
        <p:blipFill>
          <a:blip r:embed="rId2"/>
          <a:stretch/>
        </p:blipFill>
        <p:spPr>
          <a:xfrm rot="20353800">
            <a:off x="3303720" y="4768560"/>
            <a:ext cx="2614320" cy="185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Users\Иван\Desktop\94808431_920926_22060268_file003.gif"/>
          <p:cNvPicPr/>
          <p:nvPr/>
        </p:nvPicPr>
        <p:blipFill>
          <a:blip r:embed="rId3"/>
          <a:stretch/>
        </p:blipFill>
        <p:spPr>
          <a:xfrm rot="20303400">
            <a:off x="4962240" y="4605480"/>
            <a:ext cx="650880" cy="682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Иван\Desktop\94808431_920926_22060268_file003.gif"/>
          <p:cNvPicPr/>
          <p:nvPr/>
        </p:nvPicPr>
        <p:blipFill>
          <a:blip r:embed="rId4"/>
          <a:stretch/>
        </p:blipFill>
        <p:spPr>
          <a:xfrm rot="20303400">
            <a:off x="4819320" y="5324400"/>
            <a:ext cx="64908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Иван\Desktop\94808431_920926_22060268_file003.gif"/>
          <p:cNvPicPr/>
          <p:nvPr/>
        </p:nvPicPr>
        <p:blipFill>
          <a:blip r:embed="rId5"/>
          <a:stretch/>
        </p:blipFill>
        <p:spPr>
          <a:xfrm rot="20303400">
            <a:off x="4314600" y="4821120"/>
            <a:ext cx="650880" cy="68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C:\Users\Иван\Desktop\94300972_snezhinki.gif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32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Иван\Desktop\новый год 3б\музыка\bb245281f4be.gif"/>
          <p:cNvPicPr/>
          <p:nvPr/>
        </p:nvPicPr>
        <p:blipFill>
          <a:blip r:embed="rId2"/>
          <a:stretch/>
        </p:blipFill>
        <p:spPr>
          <a:xfrm>
            <a:off x="4525920" y="0"/>
            <a:ext cx="46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6:37:56Z</dcterms:created>
  <dc:creator>Admin</dc:creator>
  <dc:description/>
  <dc:language>en-US</dc:language>
  <cp:lastModifiedBy>MARTINA</cp:lastModifiedBy>
  <dcterms:modified xsi:type="dcterms:W3CDTF">2016-11-24T20:47:17Z</dcterms:modified>
  <cp:revision>96</cp:revision>
  <dc:subject/>
  <dc:title>Слайд 1</dc:title>
</cp:coreProperties>
</file>