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E5E-9C92-463B-9982-283FB30A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4F0-BE9F-4355-83DE-181F084D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860E1-8E17-40A6-881C-A26F99F9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5482F-F5F4-4760-90C7-38F80967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AA811-FCC3-4C01-A34C-7B23D22B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50086-BED9-43EF-A2BC-4DF31D3F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07592-D08B-4376-8DEE-F5EDF6AE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3F78E-F0E7-4AE2-AFCC-30F2D689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45954-60A7-47EC-822F-906EF840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4724A-1EE3-458A-855E-7B92DB4E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EA116-29CB-4D8E-82AD-EF9D03AC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B766A-E174-47C7-B3F0-4D626E43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4DE-0E7C-4C18-811C-009B19A3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2EC58-A6AC-4AD5-B631-D6333C0F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A6576-6020-420D-B3DD-CC307298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B07FB-E9FF-41A2-A4ED-54BCEFBD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381081-62D0-422E-8804-12833EE7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E4F45D-E341-45EE-95A3-50BF774B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965C9-9082-47C4-9BB0-89B35A32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046AB-9BA5-4FF0-9DE6-D250A233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BF892-6155-4557-A450-6FAAB3DB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F02A5-5472-40B4-AFF2-0DC04D10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38E9C5-F246-4CEE-9767-ED3CBC4E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9DF-15E1-4374-8D70-1F7C69F2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98147-A784-4BB4-AB69-676A60A9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6450F-1823-4DEB-A78F-8E3BBA3F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DF736-F89B-4E6E-B271-6B9EE3B2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9678F-ACF5-4EBC-83FB-3E40CD05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24EA9-E9B5-4798-A474-3A067A4E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7A4B5-C84C-4E0E-AC2F-375E963F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EF154-FA77-4A62-ACED-EEF079EC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5B4CA-33A0-4AA2-B4A6-0BDE1BB4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7D833-BA1B-4E8D-99F0-A5301685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7EF34-0973-4044-B35E-6B7A9531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4EC9-9887-4AB6-AC49-98F22100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6D644-979C-4793-A667-457E1FA5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A1C3F-D408-49EA-B9C5-A6D4F191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2A6E2-CEB9-4AAA-B7DF-CE63B683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E106B-EE72-4B14-9467-06175912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2778AF-8C42-40BA-8EEB-F46C6CBF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57A98-43B8-47C7-B573-13EE438F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AFC2A-4AC7-4FB0-A9E9-840C4F40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11B4FF-8C61-4E5D-8BB7-F025DE97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8B7BC-56F2-4434-91A5-CB10CE9B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D0014-177B-44E9-B105-61715B25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C93F-2571-46D5-8537-F13F3F1F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4E633-C79C-4732-B7AD-0CE2C91E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B306E-7D88-4F74-9C91-93835DE9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F24767-642B-4CA2-BAB0-A7DB638D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902EB1-009A-4D43-A517-C7C37932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2DEC0-220E-419F-BBE4-5EDEE98F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C398-02E3-4B71-8168-8C5B793A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13E8-1643-469C-BDA3-626E0401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4D66-A31D-44A0-A287-E3D0456F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4CEE-8477-4947-B6E8-60D4B09E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B7C8-C07D-4E66-8AD7-9344312C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273-6BBD-4239-8A19-E6C49918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655D-3068-4797-9B57-876F7872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CD0A-192F-428D-A9ED-10D462E6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038E-C72C-4FEE-AA4C-E4043C52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064E-A71C-4A09-B50C-BE24C9F2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266D-A96A-4902-9703-366E53C0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23936-DCA5-4987-AA9F-7DDB2DD5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215EC-F8EF-4F66-B15B-A2ABCE3A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540B6-6AD3-4D77-9515-9C7D952B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160BA-F9F8-41AC-A532-C2F5B75B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16E1D-FC73-4F25-90FE-5B4C77C2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1D9-EB39-4E85-ADB9-FF21C063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F0C66-A979-43E9-A724-381DCD80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53C07-2552-41E0-A99D-34738967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89669-5274-48EA-90A8-33D39DE3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973BB-EB4B-427F-B0EC-75C09E6C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B433B-01CF-40C1-9277-655CDDB1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92AB2-E162-43DF-91D7-CDD7DB44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3D783-4728-4E68-AA71-D16441F6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C23C0-4282-42CD-939D-0F4F2534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9F734-1D13-483B-8449-91BCCBED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BFFB1-2DC1-4E66-B6D8-1202D91B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3DB-F529-431C-8819-966F0F0D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4FF7D-DB93-4C5F-902F-7C362AE6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A55FF-891C-4475-8096-64F6B898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08DD2-DDF8-464B-80EC-7245973E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FFD23-C709-4A5B-A6F2-B5E15D9F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F031A-4A3F-4731-822E-DF1BBA4F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1CD88-A651-4B89-A307-437A7802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72712-8E05-4C4F-8C00-9D94937C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FE3CB-B76A-4C76-B76A-DF1067AF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063D1-D712-4909-8F06-9EC14BA7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F0442-1C93-4581-BD5D-E4CD2C3F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8BA-DCE5-4B7A-AF8C-7943D4A2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C39EE-9E77-44A7-A0F4-9F944ECB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87F4C-3C42-46ED-92C4-BBA923F6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585C7-E9CD-4F0C-B06F-54C44D45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DA45A-545A-42CA-B46B-3109D4D0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7F76F-20D6-4ADE-98CD-22CFD193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8F01B-E69A-444F-B261-2402AC51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AEE1C-3D12-4EF7-8F3C-1417C717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778C7-9BF9-4F18-A342-3788B7DE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250C5-4A28-4290-9A2C-A2AF0892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8FDB2-EEB7-464E-8961-015276BB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852-51B2-4BFE-947D-6FA7A759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2586C-0DD0-46FB-B4A9-EDA9F8A8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C9507-12FA-4B12-BB24-CF3F4F54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2C90E-17CF-48C7-A81F-9699C308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508D8-4408-40E3-99C6-D12F51E3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EA38A-74E5-4985-AE99-D7D73C9B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6BFCB-2E96-4973-8E02-ABB31EEA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A7526-FB39-4C0E-97D0-7ADD7976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CB666-BDC0-4CBB-8575-1B3C38FC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C497E-F539-443E-8D56-2BBE129C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C6815-84BD-4B77-85B6-F6825A1F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D5E-9BBA-4C72-8EC5-53AE940C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253ED-67CB-4111-B067-D7D3659F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A58B3-B268-416E-AB9B-749D4E89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DC9FD-085B-496A-BCAA-12AA58BC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8A72E-4C2B-4FEF-A56B-50D7FE34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DBDBF-09B2-4700-9647-B32B2544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DD943-BBC5-488A-8938-0207D48D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DED7C-6BC3-4C84-9360-611447D2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BCF84-60EA-4058-BF2B-5253E4EF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E62CC-DAD7-4522-A5B7-C594AD96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C1B07-9971-4D5E-B624-DC52D889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4F4-D029-4284-8BEA-FB2F13A3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C2625-FE90-45C7-A524-8FAA3BBC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7F79D-F2E1-4C8D-B062-6D9A9DF1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04B88-E989-4833-9DA3-45331202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1766A-23E3-4099-BC4A-3542C8A7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31978-1AAE-4F2F-805C-F1F12BAC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D0017-85B7-489F-A0F6-42095D1E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16288-6DDB-44AF-9986-2498849C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D9C8F-3BF0-4822-99E2-4A15C783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46187-35E1-48DF-8123-9794E35C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1BC2E-B378-4207-B604-01A9575C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92E-186F-478C-9711-44296526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505CC-2B2D-4E4C-8FFF-8949C064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92F56-3D45-4591-9B77-13418F74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5FDCC-015F-41DF-9B47-DA9BAE32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B01DC-DBBF-4BFA-AEB7-BEAB0E51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D7832-A061-459F-A5B1-EC5A41EF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D77FC-E48D-46E7-90D3-9B46E432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B5505-A27B-4D57-8D0D-EC86B6B1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1AE45-689B-4DE1-9568-27697C82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3BE370-AF3A-4BDE-92BE-9A70423A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86430-E5CA-4C1E-A6F0-23087074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BD0D-F8C6-462A-BC6F-CEA8A80928D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5683-9D19-4008-8425-352C052CE40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D968-D860-4F44-80A6-F8F85B93C44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FFA3-F747-4EBD-AEF3-77F7C885FCC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89BB-F317-4527-BFD1-2F590025F1B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9B8F-CD00-47DA-BF0C-A4B60181AAE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95D7-58D5-467A-B410-241DD044FD5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0278-D4C6-4D5C-9B41-5A61F546514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94EF-C68C-4484-9AF1-710F72CED06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4FC5-D955-4DC8-B42D-30F58B13554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D265-2612-45F8-8746-CE3DE07330E3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779D-FD8E-43EA-AFF5-E7B6FD2F4CA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Georgia"/>
              </a:rPr>
              <a:t>Система упражнений направленная на развитие  самостоятельности учащихся. 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школа 07_0.tmp"/>
          <p:cNvPicPr/>
          <p:nvPr/>
        </p:nvPicPr>
        <p:blipFill>
          <a:blip r:embed="rId1"/>
          <a:stretch/>
        </p:blipFill>
        <p:spPr>
          <a:xfrm>
            <a:off x="1357200" y="2643120"/>
            <a:ext cx="6500880" cy="4000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3d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14200"/>
            <a:ext cx="85345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Цель развития уровня самостоятельности учащихся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cxnSp>
        <p:nvCxnSpPr>
          <p:cNvPr id="610" name="Прямая со стрелкой 3"/>
          <p:cNvCxnSpPr/>
          <p:nvPr/>
        </p:nvCxnSpPr>
        <p:spPr>
          <a:xfrm flipH="1">
            <a:off x="1141200" y="1285920"/>
            <a:ext cx="2160" cy="12866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11" name="Прямая со стрелкой 5"/>
          <p:cNvCxnSpPr/>
          <p:nvPr/>
        </p:nvCxnSpPr>
        <p:spPr>
          <a:xfrm flipH="1">
            <a:off x="4570200" y="1500120"/>
            <a:ext cx="3600" cy="100080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12" name="Прямая со стрелкой 7"/>
          <p:cNvCxnSpPr/>
          <p:nvPr/>
        </p:nvCxnSpPr>
        <p:spPr>
          <a:xfrm flipH="1">
            <a:off x="7643520" y="1285560"/>
            <a:ext cx="2160" cy="114372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613" name="Прямоугольник 8"/>
          <p:cNvSpPr/>
          <p:nvPr/>
        </p:nvSpPr>
        <p:spPr>
          <a:xfrm>
            <a:off x="428760" y="2571840"/>
            <a:ext cx="2071440" cy="114300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Устранение  пасс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9"/>
          <p:cNvSpPr/>
          <p:nvPr/>
        </p:nvSpPr>
        <p:spPr>
          <a:xfrm>
            <a:off x="3500280" y="2500200"/>
            <a:ext cx="2357640" cy="114300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Глубина и прочность усвоения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10"/>
          <p:cNvSpPr/>
          <p:nvPr/>
        </p:nvSpPr>
        <p:spPr>
          <a:xfrm>
            <a:off x="6786720" y="2428920"/>
            <a:ext cx="1928520" cy="121428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звитие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Прямая со стрелкой 12"/>
          <p:cNvCxnSpPr/>
          <p:nvPr/>
        </p:nvCxnSpPr>
        <p:spPr>
          <a:xfrm flipH="1">
            <a:off x="2855160" y="1285920"/>
            <a:ext cx="2520" cy="28598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17" name="Прямая со стрелкой 14"/>
          <p:cNvCxnSpPr/>
          <p:nvPr/>
        </p:nvCxnSpPr>
        <p:spPr>
          <a:xfrm flipH="1">
            <a:off x="6214680" y="1285920"/>
            <a:ext cx="2160" cy="293112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18" name="Прямая со стрелкой 22"/>
          <p:cNvCxnSpPr>
            <a:stCxn id="614" idx="2"/>
          </p:cNvCxnSpPr>
          <p:nvPr/>
        </p:nvCxnSpPr>
        <p:spPr>
          <a:xfrm>
            <a:off x="4678200" y="3643200"/>
            <a:ext cx="37440" cy="92952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619" name="Прямоугольник 23"/>
          <p:cNvSpPr/>
          <p:nvPr/>
        </p:nvSpPr>
        <p:spPr>
          <a:xfrm>
            <a:off x="1000080" y="4143240"/>
            <a:ext cx="2357640" cy="128592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звитие умения планировать свою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24"/>
          <p:cNvSpPr/>
          <p:nvPr/>
        </p:nvSpPr>
        <p:spPr>
          <a:xfrm>
            <a:off x="3857760" y="4572000"/>
            <a:ext cx="1643040" cy="150012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Осознание цели и смысла свое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25"/>
          <p:cNvSpPr/>
          <p:nvPr/>
        </p:nvSpPr>
        <p:spPr>
          <a:xfrm>
            <a:off x="5929200" y="4214880"/>
            <a:ext cx="2143080" cy="1285920"/>
          </a:xfrm>
          <a:prstGeom prst="rec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Радость и удовлетворение от свое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Обоснов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23" name="Object 2"/>
          <p:cNvGraphicFramePr/>
          <p:nvPr/>
        </p:nvGraphicFramePr>
        <p:xfrm>
          <a:off x="857160" y="2286000"/>
          <a:ext cx="707256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2286000"/>
                    <a:ext cx="707256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Box 3"/>
          <p:cNvSpPr/>
          <p:nvPr/>
        </p:nvSpPr>
        <p:spPr>
          <a:xfrm>
            <a:off x="857160" y="785880"/>
            <a:ext cx="764388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 первого класса учитель выполняет  руководящую роль  -  его задача побуждать ученика действ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абота строится по типу восхождения к вершине: от простого и знакомого -  к сложному и новому,  незнакомо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Для детей младшего школьного возраста наиболее привычным, знакомым и приятным  является  игровая деятельность. Опираясь на свой жизненный опыт они с легкостью  принимают те правила, которые предлагает учитель. Постепенно начинается обучение  составлению алгоритма тех или иных действий, это ведь те же правила,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ажно, чтобы ребёнок понимал суть того или иного упражнения, представлял себе итоговый результат свой деятельности.  Работают все учащиеся и упражнение предлагается одно и то же. Значит подготовительный период это  демонстрация  возможного варианта результата. В этот период учащиеся работают самостоятельно, но обязательно под наблюдением наставника. Роль наставника заключается в том, чтобы прийти на помощь в случае необходимости, направить, «подтолкнуть» к дальнейшему действию. Кроме того именно на данном этапе  учащиеся обучаются  самоконтролю. Проверка результата проводится коллективно по представленному образцу – эталону и предварительно составленному алгорит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Для проведения самостоятельной работы необходимо время. У каждого индивидуума свои  способности и возможности, поэтому  учителю важно изучить их, и на основе  наблюдений  планировать эту деятельность  и  время  его   выполнения, предлагать конкретное задание конкретному ученику  и ожидать от него конкретный результа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1"/>
          <p:cNvSpPr/>
          <p:nvPr/>
        </p:nvSpPr>
        <p:spPr>
          <a:xfrm>
            <a:off x="-136800" y="1071720"/>
            <a:ext cx="9649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Задания  упражнений должны подаваться в интересной форме и в соответствии с  содержа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овательной программы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ни должны стимулировать  повышение познавательной   и  творческой  активности, материал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спользуемые учителем  способствовать   всестороннему  развитию 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Главное и непременное условие  -  систем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истема  обеспечивающая  формирование  положительного интереса к процессу  обучения  долж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быть построена  на  основе  продуктивного диалога, активного разнообразия  мыслительной 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актической деятельности,  на  игровом действии и творческом характере, использова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ичного опыта и знаний учащихся, групповой форме  организации  работы,  вовлечении  в процес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сех органов  чувств, в  деятельностном  подходе  к  обуче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з опыта известных педагогов-новаторов  С.Н. Лысенковой, И. П. Волкова, В.Ф. Шаталова и друг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ы знаем, усвоение  новых знаний происходит более прочно именно в процессе выполн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амостоятельно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На этом основании  я постаралась  систематизировать  различные виды самостоятельной  работы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 разработала  систему  упражнений  на  уроках  русского 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Данный  предмет  выбран  не  случайно. Не  секрет,  что  именно  урок  русского  языка  вызыв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  учащихся  скуку, именно  этот  урок чаще всего  не  нравится.  Я задумалась над тем, как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будить  у  своих  учеников  интерес  к  предмету, активизировать  учебный  интерес  и  сделать та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чтобы  они  получали  удовольствие  от  процесса  обучения  и  испытывали  чувство  радости 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горд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7"/>
          <p:cNvSpPr/>
          <p:nvPr/>
        </p:nvSpPr>
        <p:spPr>
          <a:xfrm>
            <a:off x="1857240" y="642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иды самостоятельной работ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TextBox 3"/>
          <p:cNvSpPr/>
          <p:nvPr/>
        </p:nvSpPr>
        <p:spPr>
          <a:xfrm>
            <a:off x="872280" y="2143080"/>
            <a:ext cx="4323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 с раздаточным матери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ческие 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е упраж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учебной кни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о справочными материа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е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 про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цен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контрол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Организация  самостоятельной  работы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214200" y="1571760"/>
          <a:ext cx="8786880" cy="4643280"/>
        </p:xfrm>
        <a:graphic>
          <a:graphicData uri="http://schemas.openxmlformats.org/drawingml/2006/table">
            <a:tbl>
              <a:tblPr/>
              <a:tblGrid>
                <a:gridCol w="1166760"/>
                <a:gridCol w="2691000"/>
                <a:gridCol w="2214720"/>
                <a:gridCol w="2714400"/>
              </a:tblGrid>
              <a:tr h="811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Уровень самосто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ид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имеры 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1855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дготовительный-коп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дражательного характ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равнение по образц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бота с раздаточным материало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рафические работы по инстр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506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оспроизведение и обобщение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ренировочный характер 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блюдения; описания; учебные упражнения; тестовые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469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285840" y="1785960"/>
          <a:ext cx="8643960" cy="4429080"/>
        </p:xfrm>
        <a:graphic>
          <a:graphicData uri="http://schemas.openxmlformats.org/drawingml/2006/table">
            <a:tbl>
              <a:tblPr/>
              <a:tblGrid>
                <a:gridCol w="642960"/>
                <a:gridCol w="2214360"/>
                <a:gridCol w="2292480"/>
                <a:gridCol w="3494160"/>
              </a:tblGrid>
              <a:tr h="2482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именение знаний на новом уро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одуктивная деятельность, вариативность накопленных умений и навы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абота с учебной книгой; работа со спие работы по составлению инструкций и пл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1946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-4……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ворческая самосто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блемно-поисковый характер заданий; исследовательск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актические работы; сочинения; минипроекты; рецензирование; самоконт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07:34:36Z</dcterms:created>
  <dc:creator>Я</dc:creator>
  <dc:description/>
  <dc:language>en-US</dc:language>
  <cp:lastModifiedBy>каб 204</cp:lastModifiedBy>
  <cp:lastPrinted>2016-11-23T07:15:35Z</cp:lastPrinted>
  <dcterms:modified xsi:type="dcterms:W3CDTF">2016-11-23T07:17:37Z</dcterms:modified>
  <cp:revision>97</cp:revision>
  <dc:subject/>
  <dc:title>Слайд 1</dc:title>
</cp:coreProperties>
</file>