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B45-959D-43E5-8070-252B3876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216-4BAA-4AE4-BA19-9ECED812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93D6D-C46E-49B7-B44E-5C418BCB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1A2E8-EEAC-4E11-86DF-E6273CA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BDF6-D8D4-4803-9EC1-3381B09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48AE7-9CD2-4F90-8107-775911A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A5214-210A-44B6-9EEE-B5D0251A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F4958-2626-467F-92E2-949692EB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3A6E8-ED8A-427C-AC8A-6A143D61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365E-CC18-457A-ADAE-9716F5D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19FA3-BF66-41F7-A2F6-4E6FF3F4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D39FE-B6E7-49AC-BC78-C6079B6E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AD0-981D-438D-B123-1082C8C8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98001-907D-42AD-BE68-4E459404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2AF4B-4286-4676-9586-93494B3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DAC69-3E93-4379-9FD0-4B4919E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68AFC-5C64-4409-9162-862F2991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3BE50-E535-47BF-B6EC-16C78C47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842EE-4F59-42C2-963F-77D12EB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D22A6-59E1-4C56-8E79-C4291F3D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15F9-CC8F-4B8A-ACC5-8CCE7865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8484A-673A-4669-9BBB-12C3957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8467B-BE7A-43ED-8F71-6F1F41B8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5E4-F90F-4EBB-8C45-84B47BBE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4D365-7354-4C34-AD2F-20C722AD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E394-EF03-4A76-A54D-61D333D8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72BAE-3445-408D-894C-A7453A89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E5797-360F-42FD-B163-2E057F8F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86B69-9BEB-4AD3-8DF6-F888AA88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24E0B-D97A-45AE-8CCB-DEBEE313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FE338-C219-4FA7-99E4-B05D0736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F247E-EBE9-45FC-A125-BA2D8E03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C10B5-F346-480E-B3ED-6A54119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A1007-9818-48DC-91AA-19EE117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18DEE-365A-4D4B-AA94-5E45CDFC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12072-7B6C-4467-B655-272AA693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D5D06-0BA8-4252-A6C1-8F7402F3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EDCC2-99FE-42ED-831E-F4849787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5CA69-BE3A-4183-8412-6F94E750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05A9A-DE75-4432-A5D8-001BC12E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D2842-66E8-499F-8581-D76D91CE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83226-82A5-43BC-8D87-EFDC733F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57423-EE2D-43C8-A7ED-4991C54D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2D6D2-887C-4A5E-A38F-CAA5F74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95268-014F-4806-B710-D1B953C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3CA65-AA2E-4AC0-A1D5-74008D9F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5D112-51EC-4B2A-B58D-500BF98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1A434-D766-40D9-856A-FDCECB0C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E66A5-54D0-4BDC-881A-831AD8D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A1CD6-B0D9-4BF0-8C0B-E9E946F2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16B6B-E6A9-4155-A931-54BBA809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BDFB6-65E0-4850-91AA-3350B128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E5599-3D3E-43AF-A72D-180DEE75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5413D-4EDB-41E6-8877-2842B12E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68CD9-7925-4374-8F17-6AB00F85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3B651-9A6C-449B-AD0B-2E08D03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67EC8-DA69-45CE-A60D-0B0DA50E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FE901-0740-461D-9B7E-C6AF6687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7A1DF-4747-4487-9F98-FEBAD1C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8588D-7C4B-48B9-B810-ADC84D6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86238-9BC4-4A72-8574-04E4A47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F1C41-C850-4CA7-A341-39F21DC3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37363-C7E2-4D1F-BDB2-A2081D0C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CE7B0-9171-4163-8972-42DD7604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E97D2-6E15-40B7-B02B-9E5D0DD5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B01A7-79ED-423B-B995-CDDB526B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3C9BD-2D42-498C-B7BB-0E6273CC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32033-53C2-4F24-A101-347E388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2D5-0DE2-4E4F-B9E1-8E64806D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B7E6B-EDCE-417A-847D-A822332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57D18-6A90-4D64-9836-6363782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A65A5-85E1-494E-8E64-9572BF6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A8725-D23F-4FDE-8F8A-0B9BEA11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73C35-91B4-437C-9281-62FD1E2D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05BB-3245-4FBD-B155-4CF0BFDB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93ED-8B9F-4BD2-8933-72F025F4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EDBB-8109-429A-8419-E473892D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6CE7-D344-44F8-8E26-CFE15190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2D87-2EBE-4FDD-9BCA-017C6C68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C8B-655A-4BCC-8B46-BF7AA390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4200-E179-485B-8D46-323A080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E4EF-DA43-4335-A6C9-230FBF6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18FF-BB81-4F2E-926B-D807D61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7694-DC35-4C41-A4FC-10BF377C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724C-4C7C-41E8-A1E5-4104C92C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1A90-1B17-443B-A35D-AA382834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5184-AA88-40E2-88B5-1F555D44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2BD5-0B4E-4F73-ADF6-DDA73BF4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0A99-3D7F-4573-A132-FD07FFB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AB5D-EB4C-4E4E-9AB6-5374BEFF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6E8-568D-46DA-8A83-C4818212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6CAF-A30A-4A98-A7A4-AD283C2C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5AF7-4119-44AC-9629-1AC93FCD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0BC8-A2E9-42B6-8D26-354D42BF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CC2E-2DB1-41DC-A852-DDCB23E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A4BF-9CA7-4545-AEF6-B4A6175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8F84-F167-4D69-82B2-4127836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FCDD-E684-4462-B783-4E989F4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7472-A110-4CF8-BB67-884DBCF4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28DA-8658-4F12-88C5-E42E774F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43DBE-BACC-4921-9A40-CFC0E24C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B94-2F69-4D55-93D9-AB2F2CDF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85872-5711-4B55-BDAB-A1D01F88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AE662-485B-47F2-BA78-0F56BCE9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F35D3-7E6B-481C-9048-9970BB5D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661C3-FC3A-427B-BA1E-6EA8387C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17497-3D7E-4D4C-B35E-56712064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FBE58-6764-44A4-93DB-AA6B2DC2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1AE80-8FA1-4D5F-80CE-D6684C0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F251B-FAA7-4BE7-AE97-B18A83D6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6B48A-3ABA-4B80-BC1F-A495CADA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3755D-0748-4A92-8363-C5A4026E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6EA-89A8-4CFB-8CA6-C33DC4D2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EA452-98DF-4C14-BB38-BD553841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04FD2-2686-4041-9B71-9AF291FE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69EF2-BA99-4199-8CA7-30B05757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E2575-8357-4DB9-A11A-C2F6C7CA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24A8-7C32-4929-896A-48701CE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2EB54-F9FA-4C33-8552-3D4D8B62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538D-5698-4171-AB1B-CC14D75F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EC8A-10FE-4FA4-8144-9472ACC0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FB022-B8F1-444C-BCFA-F3E3676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D884-0FA5-4696-BE84-E342634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1CC-D19D-494C-A6B6-44A35E5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03D5-E1D4-4194-8D85-55278967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7A0B-E3B7-4D9F-A028-C18218E9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8534C-BADB-4612-95DC-81ADBD00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8F890-6718-466D-99BB-28BF01F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53A0C-E288-4DEC-BD59-05322845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E747-E886-4B27-B42B-6A8E7436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8DD6D-DCE9-4F0E-A7A0-2D0870F2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D54B-2BF3-4ED4-B7B1-E6C0C773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25941-D39C-4E6D-9EC8-4C960A24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FBD7-CD35-4BC3-A210-3550346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083-4E3D-4226-AD46-1721CCA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29E7-93D5-4377-83D9-E6CE0C8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7311D-A1B2-4459-BCEB-E2EA253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CF0D-8348-4CBD-9663-E10A1B18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16E8-744E-48DB-B7DC-8BEB0677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BB4D-FFB2-436E-AC6A-511583F1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F900E-8233-40F0-8C58-04E12C62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0B19-1D36-41DF-98EA-18B0E875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EA55C-F536-484C-A860-88D816A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48BB6-8421-4789-BC02-D8762D65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09B18-5BC8-408C-9E25-DC3F5D3E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7E9-B159-4EBD-A5C1-C500017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E9273-D09F-479F-A3E1-F49ACC65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E3BDA-1445-490A-BEDB-45C6985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EF78A-70C8-4F9D-BF99-82CBB75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9E0B-88F1-45AA-BD1F-34467E9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56421-E1BB-43E4-8543-A05488D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A2872-6205-47D5-BA2D-287E329A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E7ECF-0F16-4C4F-9F0E-B28383F4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1F2FC-F46B-4E9A-98A8-BAE563D9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182F3-8621-4D66-A4A0-27EED9D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22041-A267-4831-947A-69CC4AF4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77E-0895-481D-AAC9-30B64BE4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F0F7-03BF-45CE-91DB-9B7EE1417E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2A56-3852-4D0E-98F3-1BC7ABE33F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79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DE64-D42A-4CA7-BF0A-D277B1F933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24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1F6-40F9-44D3-9C38-6F0585D0A6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038-58D1-46C8-932D-FD6E47EE78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5ED5-FAC0-4BD7-B037-C6ED16EFEC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8698-210B-457D-B10D-F0DA73688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0FB-1A14-47F7-9450-7FF72FA3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05F6-E873-466C-80CD-C2BDDCCF0B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2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83C4-E54D-44FC-B62F-FC2E44C23E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0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0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87DD-21E0-4D8C-B891-F32FAA8AD7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F1B8-DB64-4465-B3B5-3FD9E7C3AB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лавянская мифолог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История славянско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1767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Верования славян уходят корнями в воззрения древних индоевропейцев, благодаря чему во взглядах древних славян мы находим множество общих черт с мифологическими системами Индии, древних германцев, кельтов, греков и римля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284720" y="4149720"/>
            <a:ext cx="449424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Язычество древних славян просуществовало до Х века, когда в 988 году князь Владимир Святославич принял решение о крещении своей земли. Однако и после этого многие черты народной мифологии сохранялись в обрядах, поверьях, сказках, загадках и других произведениях народного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лавянские божест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1263600" cy="172728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1209600" cy="201312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3"/>
          <a:stretch/>
        </p:blipFill>
        <p:spPr>
          <a:xfrm>
            <a:off x="6118200" y="1274760"/>
            <a:ext cx="1282680" cy="179388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4"/>
          <a:stretch/>
        </p:blipFill>
        <p:spPr>
          <a:xfrm>
            <a:off x="684360" y="3933720"/>
            <a:ext cx="1390680" cy="19465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5"/>
          <a:stretch/>
        </p:blipFill>
        <p:spPr>
          <a:xfrm>
            <a:off x="3546360" y="3789360"/>
            <a:ext cx="1546200" cy="244800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6"/>
          <a:stretch/>
        </p:blipFill>
        <p:spPr>
          <a:xfrm>
            <a:off x="6372360" y="3789360"/>
            <a:ext cx="1346040" cy="220680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684360" y="306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f25a"/>
                </a:solidFill>
                <a:uFillTx/>
                <a:latin typeface="Arial"/>
                <a:hlinkClick r:id="rId7" action="ppaction://hlinksldjump"/>
              </a:rPr>
              <a:t>Сва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059280" y="321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bf25a"/>
                </a:solidFill>
                <a:uFillTx/>
                <a:latin typeface="Arial"/>
                <a:hlinkClick r:id="rId8" action="ppaction://hlinksldjump"/>
              </a:rPr>
              <a:t>Птица </a:t>
            </a:r>
            <a:r>
              <a:rPr b="0" lang="ru-RU" sz="1800" spc="-1" strike="noStrike" u="sng">
                <a:solidFill>
                  <a:srgbClr val="ebf25a"/>
                </a:solidFill>
                <a:uFillTx/>
                <a:latin typeface="Arial"/>
                <a:hlinkClick r:id="rId9" action="ppaction://hlinksldjump"/>
              </a:rPr>
              <a:t>Гамаю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56360" y="306864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10" action="ppaction://hlinksldjump"/>
              </a:rPr>
              <a:t>Кики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26920" y="6021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11" action="ppaction://hlinksldjump"/>
              </a:rPr>
              <a:t>Ле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97512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780000" y="630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ждь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72360" y="623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аро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932360" y="1916280"/>
            <a:ext cx="3765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арог — согласно славянскому переводу хроники Иоанна Малалы — бог-кузнец, отец Даждьбога. По мнению некоторых исследователей — верховный бог восточных славян, небесный огонь. Не путать со Сварожич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368520" cy="460692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8101080" y="6165720"/>
            <a:ext cx="649080" cy="433440"/>
          </a:xfrm>
          <a:prstGeom prst="leftArrow">
            <a:avLst>
              <a:gd name="adj1" fmla="val 50000"/>
              <a:gd name="adj2" fmla="val 3743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тица Гамаю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амаю́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 мифическая райская птица в русской культуре. В произведениях книжности XVII—XIX веков это залетающая из рая безногая и бескрылая вечнолетающая при помощи хвоста птица, предвещающая своим падением смерть государственных деятелей. В XVII—XVIII веках эта птица изображалась на произведениях декоративно-прикладного искусства, пушках и знамёнах. Гамаюн попал на герб Смоленска и на производные от него симво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2333520" cy="388296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8101080" y="6165720"/>
            <a:ext cx="649080" cy="433440"/>
          </a:xfrm>
          <a:prstGeom prst="leftArrow">
            <a:avLst>
              <a:gd name="adj1" fmla="val 50000"/>
              <a:gd name="adj2" fmla="val 37438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21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Кикимора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28800" y="1599840"/>
            <a:ext cx="415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ки́м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 русский и, в меньшей степени, белорусский мифологический персонаж, преимущественно женского пола, обитающий в жилище человека и в других постройках, прядущий по ночам и приносящий вред и неприятности хозяйству и людям. Представления о кикиморе известны с XVII века, предполагается также связь её образа с более древними персонаж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одные поверья производят кикимор от умерших «неправильной» смертью (некрещёных или убитых детей, самоубийц и др.), от проклятых и похищенных нечистой силой детей. Также считалось, что кикимору могут наслать в дом недовольные строители и колдуны, подложив в него магический предмет, чаще куколку, которая затем ожи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кимору описывали как низенькую скрюченную неряшливую и безобразную старушку, длиннокосую девушку или женщину, как маленькую девочку или даже как мужика или старик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133800" cy="438480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8101080" y="6165720"/>
            <a:ext cx="649080" cy="433440"/>
          </a:xfrm>
          <a:prstGeom prst="leftArrow">
            <a:avLst>
              <a:gd name="adj1" fmla="val 50000"/>
              <a:gd name="adj2" fmla="val 374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ш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870080" y="1599840"/>
            <a:ext cx="39718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́ш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 дух-хозяин леса в мифологии восточных славян. Леший был одним из самых популярных славянских мифологических персонажей и, учитывая современный упадок мифологической традиции, сохраняет относительную популярность и сейчас. Традиционный образ лешего сложен, многогранен и расплывч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ик, в котором леший предстаёт в мифологических рассказах, указывает на его потустороннюю природу и связь с лесом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9" name="" descr="Leshy (1906).jpg"/>
          <p:cNvPicPr/>
          <p:nvPr/>
        </p:nvPicPr>
        <p:blipFill>
          <a:blip r:embed="rId1"/>
          <a:stretch/>
        </p:blipFill>
        <p:spPr>
          <a:xfrm>
            <a:off x="539640" y="1700280"/>
            <a:ext cx="3765600" cy="31813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8101080" y="6165720"/>
            <a:ext cx="649080" cy="433440"/>
          </a:xfrm>
          <a:prstGeom prst="leftArrow">
            <a:avLst>
              <a:gd name="adj1" fmla="val 50000"/>
              <a:gd name="adj2" fmla="val 3743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аждьбо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937040" y="1599840"/>
            <a:ext cx="3749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жьбо́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один из главных богов в восточнославянской мифологии, бог плодородия и солнечного с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3130560" cy="495288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8101080" y="6165720"/>
            <a:ext cx="649080" cy="433440"/>
          </a:xfrm>
          <a:prstGeom prst="leftArrow">
            <a:avLst>
              <a:gd name="adj1" fmla="val 50000"/>
              <a:gd name="adj2" fmla="val 374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370400" y="472680"/>
            <a:ext cx="4316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ора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284720" y="1828800"/>
            <a:ext cx="4402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Морана или Мара, Морена, в славянской мифологии могучее и грозное божество, богиня Зимы и Смерти, жена Кощея и дочь Лады, сестра Живы и Лели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632040" cy="595332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8101080" y="6165720"/>
            <a:ext cx="649080" cy="433440"/>
          </a:xfrm>
          <a:prstGeom prst="leftArrow">
            <a:avLst>
              <a:gd name="adj1" fmla="val 50000"/>
              <a:gd name="adj2" fmla="val 3743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4T18:12:38Z</dcterms:created>
  <dc:creator>Kari</dc:creator>
  <dc:description/>
  <dc:language>en-US</dc:language>
  <cp:lastModifiedBy>Kari</cp:lastModifiedBy>
  <dcterms:modified xsi:type="dcterms:W3CDTF">2016-11-24T18:48:42Z</dcterms:modified>
  <cp:revision>3</cp:revision>
  <dc:subject/>
  <dc:title>Славянская мифология </dc:title>
</cp:coreProperties>
</file>