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37.png" ContentType="image/png"/>
  <Override PartName="/ppt/media/image40.wmf" ContentType="image/x-wmf"/>
  <Override PartName="/ppt/media/image39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47.png" ContentType="image/png"/>
  <Override PartName="/ppt/media/image7.wmf" ContentType="image/x-wmf"/>
  <Override PartName="/ppt/media/image36.png" ContentType="image/png"/>
  <Override PartName="/ppt/media/image48.png" ContentType="image/png"/>
  <Override PartName="/ppt/media/image8.wmf" ContentType="image/x-wmf"/>
  <Override PartName="/ppt/media/image35.png" ContentType="image/png"/>
  <Override PartName="/ppt/media/image3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9.wmf" ContentType="image/x-wmf"/>
  <Override PartName="/ppt/media/image14.png" ContentType="image/png"/>
  <Override PartName="/ppt/media/image4.wmf" ContentType="image/x-wmf"/>
  <Override PartName="/ppt/media/image34.wmf" ContentType="image/x-wmf"/>
  <Override PartName="/ppt/media/image13.wmf" ContentType="image/x-wmf"/>
  <Override PartName="/ppt/media/image12.wmf" ContentType="image/x-wmf"/>
  <Override PartName="/ppt/media/image6.wmf" ContentType="image/x-wmf"/>
  <Override PartName="/ppt/media/image2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0F3-93F5-4903-BD37-4E8AB6A6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548-D2A2-4DF0-836B-0C662F95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DB9-7441-49E8-92C0-2B859C73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79C-9A3D-4BC8-A57C-61F7B08E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35DF-A106-4124-982F-9CE2713D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709A-99B8-4EF7-8255-D91D31A4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D1E6-65D9-473A-9CDB-B902B3FE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B2EE-8337-48E7-855A-4B419FFC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39DA-832D-4509-B3F6-2E4ABEB8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72DE-2900-4704-B29F-3FF543E5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562B-8ED9-4912-ADA7-5E667023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E7D-9583-4F6A-B6D5-EDB872D5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61E1-410B-4825-ACA7-66F15884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56BE-B9AD-4F98-A01B-8627FC92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8C18-B3E9-4A02-89E0-566E5FFF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EEBD-1211-465B-BB19-3151F20F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C35C-7CD7-482B-BD28-955D546C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1EF-AA25-4554-A7BE-1380CB38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B03-B41B-4ABD-8FA4-C84BA58D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82D-2A12-44CB-9B12-700E1131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C47-0F8C-45C0-A66F-6E6C1009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944-25DE-49FB-8C04-94DF5D18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AED-D331-44E8-A7C8-C761BCE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CE1-254E-46AA-BA55-30AED205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5BE5-AB76-4B13-BFE3-43A5E99491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3D5E-D177-411D-8F08-3621042186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12.wmf"/><Relationship Id="rId11" Type="http://schemas.openxmlformats.org/officeDocument/2006/relationships/slide" Target="slide3.xml"/><Relationship Id="rId12" Type="http://schemas.openxmlformats.org/officeDocument/2006/relationships/slide" Target="slide2.xml"/><Relationship Id="rId13" Type="http://schemas.openxmlformats.org/officeDocument/2006/relationships/image" Target="../media/image28.wmf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12.wmf"/><Relationship Id="rId8" Type="http://schemas.openxmlformats.org/officeDocument/2006/relationships/slide" Target="slide12.xml"/><Relationship Id="rId9" Type="http://schemas.openxmlformats.org/officeDocument/2006/relationships/slide" Target="slide2.xml"/><Relationship Id="rId10" Type="http://schemas.openxmlformats.org/officeDocument/2006/relationships/image" Target="../media/image32.wmf"/><Relationship Id="rId11" Type="http://schemas.openxmlformats.org/officeDocument/2006/relationships/image" Target="../media/image33.png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0.wmf"/><Relationship Id="rId6" Type="http://schemas.openxmlformats.org/officeDocument/2006/relationships/image" Target="../media/image12.wmf"/><Relationship Id="rId7" Type="http://schemas.openxmlformats.org/officeDocument/2006/relationships/package" Target="../embeddings/oleObject1.docx"/><Relationship Id="rId8" Type="http://schemas.openxmlformats.org/officeDocument/2006/relationships/image" Target="../media/image41.wmf"/><Relationship Id="rId9" Type="http://schemas.openxmlformats.org/officeDocument/2006/relationships/image" Target="../media/image27.wmf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package" Target="../embeddings/oleObject2.docx"/><Relationship Id="rId14" Type="http://schemas.openxmlformats.org/officeDocument/2006/relationships/image" Target="../media/image45.wmf"/><Relationship Id="rId15" Type="http://schemas.openxmlformats.org/officeDocument/2006/relationships/package" Target="../embeddings/oleObject3.docx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package" Target="../embeddings/oleObject1.docx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slide" Target="slide3.xml"/><Relationship Id="rId15" Type="http://schemas.openxmlformats.org/officeDocument/2006/relationships/slide" Target="slide10.xml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c66"/>
                </a:solidFill>
                <a:latin typeface="Comic Sans MS"/>
              </a:rPr>
              <a:t>Зачетный урок</a:t>
            </a:r>
            <a:br>
              <a:rPr sz="8000"/>
            </a:br>
            <a:r>
              <a:rPr b="0" lang="ru-RU" sz="4000" spc="-1" strike="noStrike">
                <a:solidFill>
                  <a:srgbClr val="ffcc66"/>
                </a:solidFill>
                <a:latin typeface="Comic Sans MS"/>
              </a:rPr>
              <a:t>Тема: «Спирты, альдегиды, фенолы»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omic Sans MS"/>
              </a:rPr>
              <a:t>Цель: Обобщение знаний по основным классам кислородосодержащих органических соеди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486400"/>
            <a:ext cx="2438280" cy="838080"/>
          </a:xfrm>
          <a:custGeom>
            <a:avLst/>
            <a:gdLst>
              <a:gd name="textAreaLeft" fmla="*/ 735480 w 2438280"/>
              <a:gd name="textAreaRight" fmla="*/ 1702800 w 2438280"/>
              <a:gd name="textAreaTop" fmla="*/ 252720 h 838080"/>
              <a:gd name="textAreaBottom" fmla="*/ 5853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763" y="11328"/>
                </a:lnTo>
                <a:lnTo>
                  <a:pt x="198" y="12861"/>
                </a:lnTo>
                <a:lnTo>
                  <a:pt x="4975" y="12470"/>
                </a:lnTo>
                <a:lnTo>
                  <a:pt x="786" y="14846"/>
                </a:lnTo>
                <a:lnTo>
                  <a:pt x="5449" y="13645"/>
                </a:lnTo>
                <a:lnTo>
                  <a:pt x="1742" y="16682"/>
                </a:lnTo>
                <a:lnTo>
                  <a:pt x="6090" y="14614"/>
                </a:lnTo>
                <a:lnTo>
                  <a:pt x="3163" y="18437"/>
                </a:lnTo>
                <a:lnTo>
                  <a:pt x="6905" y="15442"/>
                </a:lnTo>
                <a:lnTo>
                  <a:pt x="4761" y="19754"/>
                </a:lnTo>
                <a:lnTo>
                  <a:pt x="7862" y="16100"/>
                </a:lnTo>
                <a:lnTo>
                  <a:pt x="6580" y="20741"/>
                </a:lnTo>
                <a:lnTo>
                  <a:pt x="9028" y="16595"/>
                </a:lnTo>
                <a:lnTo>
                  <a:pt x="8555" y="21364"/>
                </a:lnTo>
                <a:lnTo>
                  <a:pt x="10167" y="16827"/>
                </a:lnTo>
                <a:lnTo>
                  <a:pt x="10800" y="21600"/>
                </a:lnTo>
                <a:lnTo>
                  <a:pt x="11328" y="16837"/>
                </a:lnTo>
                <a:lnTo>
                  <a:pt x="12861" y="21402"/>
                </a:lnTo>
                <a:lnTo>
                  <a:pt x="12470" y="16625"/>
                </a:lnTo>
                <a:lnTo>
                  <a:pt x="14846" y="20814"/>
                </a:lnTo>
                <a:lnTo>
                  <a:pt x="13645" y="16151"/>
                </a:lnTo>
                <a:lnTo>
                  <a:pt x="16682" y="19858"/>
                </a:lnTo>
                <a:lnTo>
                  <a:pt x="14614" y="15510"/>
                </a:lnTo>
                <a:lnTo>
                  <a:pt x="18437" y="18437"/>
                </a:lnTo>
                <a:lnTo>
                  <a:pt x="15442" y="14695"/>
                </a:lnTo>
                <a:lnTo>
                  <a:pt x="19754" y="16839"/>
                </a:lnTo>
                <a:lnTo>
                  <a:pt x="16100" y="13738"/>
                </a:lnTo>
                <a:lnTo>
                  <a:pt x="20741" y="15020"/>
                </a:lnTo>
                <a:lnTo>
                  <a:pt x="16595" y="12572"/>
                </a:lnTo>
                <a:lnTo>
                  <a:pt x="21364" y="13045"/>
                </a:lnTo>
                <a:lnTo>
                  <a:pt x="16827" y="11433"/>
                </a:lnTo>
                <a:lnTo>
                  <a:pt x="21600" y="10800"/>
                </a:lnTo>
                <a:lnTo>
                  <a:pt x="16837" y="10272"/>
                </a:lnTo>
                <a:lnTo>
                  <a:pt x="21402" y="8739"/>
                </a:lnTo>
                <a:lnTo>
                  <a:pt x="16625" y="9130"/>
                </a:lnTo>
                <a:lnTo>
                  <a:pt x="20814" y="6754"/>
                </a:lnTo>
                <a:lnTo>
                  <a:pt x="16151" y="7955"/>
                </a:lnTo>
                <a:lnTo>
                  <a:pt x="19858" y="4918"/>
                </a:lnTo>
                <a:lnTo>
                  <a:pt x="15510" y="6986"/>
                </a:lnTo>
                <a:lnTo>
                  <a:pt x="18437" y="3163"/>
                </a:lnTo>
                <a:lnTo>
                  <a:pt x="14695" y="6158"/>
                </a:lnTo>
                <a:lnTo>
                  <a:pt x="16839" y="1846"/>
                </a:lnTo>
                <a:lnTo>
                  <a:pt x="13738" y="5500"/>
                </a:lnTo>
                <a:lnTo>
                  <a:pt x="15020" y="859"/>
                </a:lnTo>
                <a:lnTo>
                  <a:pt x="12572" y="5005"/>
                </a:lnTo>
                <a:lnTo>
                  <a:pt x="13045" y="236"/>
                </a:lnTo>
                <a:lnTo>
                  <a:pt x="11433" y="4773"/>
                </a:lnTo>
                <a:lnTo>
                  <a:pt x="10800" y="0"/>
                </a:lnTo>
                <a:lnTo>
                  <a:pt x="10272" y="4763"/>
                </a:lnTo>
                <a:lnTo>
                  <a:pt x="8739" y="198"/>
                </a:lnTo>
                <a:lnTo>
                  <a:pt x="9130" y="4975"/>
                </a:lnTo>
                <a:lnTo>
                  <a:pt x="6754" y="786"/>
                </a:lnTo>
                <a:lnTo>
                  <a:pt x="7955" y="5449"/>
                </a:lnTo>
                <a:lnTo>
                  <a:pt x="4918" y="1742"/>
                </a:lnTo>
                <a:lnTo>
                  <a:pt x="6986" y="6090"/>
                </a:lnTo>
                <a:lnTo>
                  <a:pt x="3163" y="3163"/>
                </a:lnTo>
                <a:lnTo>
                  <a:pt x="6158" y="6905"/>
                </a:lnTo>
                <a:lnTo>
                  <a:pt x="1846" y="4761"/>
                </a:lnTo>
                <a:lnTo>
                  <a:pt x="5500" y="7862"/>
                </a:lnTo>
                <a:lnTo>
                  <a:pt x="859" y="6580"/>
                </a:lnTo>
                <a:lnTo>
                  <a:pt x="5005" y="9028"/>
                </a:lnTo>
                <a:lnTo>
                  <a:pt x="236" y="8555"/>
                </a:lnTo>
                <a:lnTo>
                  <a:pt x="4773" y="1016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mic Sans MS"/>
              </a:rPr>
              <a:t>Ста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9080" y="9907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560" y="990720"/>
            <a:ext cx="0" cy="50292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760" y="60199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838440" cy="331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98520" y="1295280"/>
            <a:ext cx="1828800" cy="671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670120" y="914400"/>
            <a:ext cx="1521000" cy="968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330960" y="984240"/>
            <a:ext cx="2660760" cy="996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04920" y="2655720"/>
            <a:ext cx="2133360" cy="1230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1828800" y="2603520"/>
            <a:ext cx="2666880" cy="1739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0" y="2095560"/>
            <a:ext cx="2556000" cy="1028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038480"/>
            <a:ext cx="2209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09080" y="966960"/>
            <a:ext cx="0" cy="5057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9840" y="2948040"/>
            <a:ext cx="2673360" cy="1471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533520" y="2438280"/>
            <a:ext cx="1668240" cy="1019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4341960" y="1136520"/>
            <a:ext cx="1982520" cy="749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1371600" y="1980720"/>
            <a:ext cx="152280" cy="228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981080"/>
            <a:ext cx="152640" cy="228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Хим.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685800" cy="380880"/>
          </a:xfrm>
          <a:prstGeom prst="rightArrow">
            <a:avLst>
              <a:gd name="adj1" fmla="val 100000"/>
              <a:gd name="adj2" fmla="val 18005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>
            <a:hlinkClick r:id="rId12" action="ppaction://hlinksldjump"/>
          </p:cNvPr>
          <p:cNvSpPr/>
          <p:nvPr/>
        </p:nvSpPr>
        <p:spPr>
          <a:xfrm>
            <a:off x="7467480" y="6248520"/>
            <a:ext cx="685800" cy="380880"/>
          </a:xfrm>
          <a:prstGeom prst="leftArrow">
            <a:avLst>
              <a:gd name="adj1" fmla="val 68333"/>
              <a:gd name="adj2" fmla="val 18005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733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4260960" y="2360520"/>
            <a:ext cx="1606320" cy="4345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-76320" y="3809880"/>
            <a:ext cx="23925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080" y="9907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560" y="990720"/>
            <a:ext cx="0" cy="50292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60" y="60199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838440" cy="331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8520" y="1295280"/>
            <a:ext cx="1828800" cy="671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670120" y="914400"/>
            <a:ext cx="1521000" cy="968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330960" y="984240"/>
            <a:ext cx="2660760" cy="996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-152280" y="2095560"/>
            <a:ext cx="2590560" cy="77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09080" y="966960"/>
            <a:ext cx="0" cy="5057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457200" y="2743200"/>
            <a:ext cx="2819520" cy="1666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4341960" y="1136520"/>
            <a:ext cx="1982520" cy="749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V="1">
            <a:off x="1219320" y="1980720"/>
            <a:ext cx="152280" cy="228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981080"/>
            <a:ext cx="152280" cy="228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Хим.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6248520"/>
            <a:ext cx="685800" cy="380880"/>
          </a:xfrm>
          <a:prstGeom prst="rightArrow">
            <a:avLst>
              <a:gd name="adj1" fmla="val 100000"/>
              <a:gd name="adj2" fmla="val 18005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>
            <a:hlinkClick r:id="rId9" action="ppaction://hlinksldjump"/>
          </p:cNvPr>
          <p:cNvSpPr/>
          <p:nvPr/>
        </p:nvSpPr>
        <p:spPr>
          <a:xfrm>
            <a:off x="7467480" y="6248520"/>
            <a:ext cx="685800" cy="380880"/>
          </a:xfrm>
          <a:prstGeom prst="leftArrow">
            <a:avLst>
              <a:gd name="adj1" fmla="val 68333"/>
              <a:gd name="adj2" fmla="val 18005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0"/>
          <a:stretch/>
        </p:blipFill>
        <p:spPr>
          <a:xfrm>
            <a:off x="4243320" y="1905120"/>
            <a:ext cx="1817640" cy="4095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2263680" y="2438280"/>
            <a:ext cx="1851120" cy="2133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2"/>
          <a:stretch/>
        </p:blipFill>
        <p:spPr>
          <a:xfrm>
            <a:off x="-228600" y="3657600"/>
            <a:ext cx="2571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фенол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2362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6858000" cy="2590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143000" y="3962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41040 w 457200"/>
              <a:gd name="textAreaRight" fmla="*/ 416160 w 457200"/>
              <a:gd name="textAreaTop" fmla="*/ 41040 h 304920"/>
              <a:gd name="textAreaBottom" fmla="*/ 2638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450" y="2925"/>
                </a:lnTo>
                <a:lnTo>
                  <a:pt x="2925" y="292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450" y="18675"/>
                </a:lnTo>
                <a:lnTo>
                  <a:pt x="29450" y="292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29450" y="1867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32375" h="21600">
                <a:moveTo>
                  <a:pt x="10317" y="4930"/>
                </a:moveTo>
                <a:lnTo>
                  <a:pt x="22057" y="10800"/>
                </a:lnTo>
                <a:lnTo>
                  <a:pt x="10317" y="166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фенол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41040 w 457200"/>
              <a:gd name="textAreaRight" fmla="*/ 416160 w 457200"/>
              <a:gd name="textAreaTop" fmla="*/ 41040 h 304920"/>
              <a:gd name="textAreaBottom" fmla="*/ 2638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450" y="2925"/>
                </a:lnTo>
                <a:lnTo>
                  <a:pt x="2925" y="292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450" y="18675"/>
                </a:lnTo>
                <a:lnTo>
                  <a:pt x="29450" y="292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29450" y="1867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32375" h="21600">
                <a:moveTo>
                  <a:pt x="10317" y="4930"/>
                </a:moveTo>
                <a:lnTo>
                  <a:pt x="22057" y="10800"/>
                </a:lnTo>
                <a:lnTo>
                  <a:pt x="10317" y="166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фенол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6934320" cy="2209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693432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38862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67480" y="6019920"/>
            <a:ext cx="533520" cy="304560"/>
          </a:xfrm>
          <a:custGeom>
            <a:avLst/>
            <a:gdLst>
              <a:gd name="textAreaLeft" fmla="*/ 53640 w 533520"/>
              <a:gd name="textAreaRight" fmla="*/ 479880 w 533520"/>
              <a:gd name="textAreaTop" fmla="*/ 53640 h 304560"/>
              <a:gd name="textAreaBottom" fmla="*/ 2509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3994" y="3825"/>
                </a:lnTo>
                <a:lnTo>
                  <a:pt x="3825" y="3825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3994" y="17775"/>
                </a:lnTo>
                <a:lnTo>
                  <a:pt x="33994" y="3825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33994" y="17775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  <a:path fill="darken" w="37819" h="21600">
                <a:moveTo>
                  <a:pt x="16313" y="10800"/>
                </a:moveTo>
                <a:lnTo>
                  <a:pt x="24109" y="5601"/>
                </a:lnTo>
                <a:lnTo>
                  <a:pt x="24109" y="15999"/>
                </a:lnTo>
                <a:close/>
              </a:path>
              <a:path fill="darken" w="37819" h="21600">
                <a:moveTo>
                  <a:pt x="13711" y="5601"/>
                </a:moveTo>
                <a:lnTo>
                  <a:pt x="14944" y="5601"/>
                </a:lnTo>
                <a:lnTo>
                  <a:pt x="14944" y="15999"/>
                </a:lnTo>
                <a:lnTo>
                  <a:pt x="13711" y="1599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5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990720"/>
            <a:ext cx="9067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40" y="990720"/>
            <a:ext cx="0" cy="50292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019920"/>
            <a:ext cx="90676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2240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0384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8000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905120"/>
            <a:ext cx="9067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50800" y="990720"/>
            <a:ext cx="838440" cy="331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11240" y="1295280"/>
            <a:ext cx="1828800" cy="671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2382840" y="914400"/>
            <a:ext cx="1521000" cy="968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043680" y="984240"/>
            <a:ext cx="2660760" cy="996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-282600" y="2014560"/>
            <a:ext cx="2540160" cy="1054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4114800"/>
            <a:ext cx="19051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074160" y="990720"/>
            <a:ext cx="0" cy="5057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4054320" y="1136520"/>
            <a:ext cx="1982880" cy="7495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26580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Хим.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3935520"/>
          <a:ext cx="2152800" cy="20606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935520"/>
                    <a:ext cx="215280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7467480" y="6248520"/>
            <a:ext cx="685800" cy="380880"/>
          </a:xfrm>
          <a:prstGeom prst="leftArrow">
            <a:avLst>
              <a:gd name="adj1" fmla="val 68333"/>
              <a:gd name="adj2" fmla="val 18005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9"/>
          <a:stretch/>
        </p:blipFill>
        <p:spPr>
          <a:xfrm>
            <a:off x="380880" y="1989000"/>
            <a:ext cx="1668600" cy="1019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0"/>
          <a:stretch/>
        </p:blipFill>
        <p:spPr>
          <a:xfrm>
            <a:off x="380880" y="2565360"/>
            <a:ext cx="1067040" cy="658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1"/>
          <a:stretch/>
        </p:blipFill>
        <p:spPr>
          <a:xfrm>
            <a:off x="2039760" y="2286000"/>
            <a:ext cx="1752840" cy="14540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74840" y="1916280"/>
            <a:ext cx="152280" cy="228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04920" y="1915920"/>
            <a:ext cx="152280" cy="228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endshow"/>
          </p:cNvPr>
          <p:cNvSpPr/>
          <p:nvPr/>
        </p:nvSpPr>
        <p:spPr>
          <a:xfrm>
            <a:off x="8305920" y="6248520"/>
            <a:ext cx="609480" cy="380880"/>
          </a:xfrm>
          <a:custGeom>
            <a:avLst/>
            <a:gdLst>
              <a:gd name="textAreaLeft" fmla="*/ 95040 w 609480"/>
              <a:gd name="textAreaRight" fmla="*/ 51444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29152" y="5400"/>
                </a:lnTo>
                <a:lnTo>
                  <a:pt x="5400" y="5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29152" y="16200"/>
                </a:lnTo>
                <a:lnTo>
                  <a:pt x="29152" y="5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9152" y="16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2"/>
          <a:stretch/>
        </p:blipFill>
        <p:spPr>
          <a:xfrm>
            <a:off x="179280" y="3298680"/>
            <a:ext cx="914400" cy="5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3851280" y="2060640"/>
          <a:ext cx="1725480" cy="17812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51280" y="2060640"/>
                    <a:ext cx="17254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042920" y="3716280"/>
          <a:ext cx="1076400" cy="68256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3716280"/>
                    <a:ext cx="10764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альдегид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41040 w 457200"/>
              <a:gd name="textAreaRight" fmla="*/ 416160 w 457200"/>
              <a:gd name="textAreaTop" fmla="*/ 41040 h 304920"/>
              <a:gd name="textAreaBottom" fmla="*/ 2638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450" y="2925"/>
                </a:lnTo>
                <a:lnTo>
                  <a:pt x="2925" y="292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450" y="18675"/>
                </a:lnTo>
                <a:lnTo>
                  <a:pt x="29450" y="292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29450" y="1867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32375" h="21600">
                <a:moveTo>
                  <a:pt x="10317" y="4930"/>
                </a:moveTo>
                <a:lnTo>
                  <a:pt x="22057" y="10800"/>
                </a:lnTo>
                <a:lnTo>
                  <a:pt x="10317" y="166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альдегид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7010640" cy="1986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467480" y="6019920"/>
            <a:ext cx="533520" cy="304560"/>
          </a:xfrm>
          <a:custGeom>
            <a:avLst/>
            <a:gdLst>
              <a:gd name="textAreaLeft" fmla="*/ 53640 w 533520"/>
              <a:gd name="textAreaRight" fmla="*/ 479880 w 533520"/>
              <a:gd name="textAreaTop" fmla="*/ 53640 h 304560"/>
              <a:gd name="textAreaBottom" fmla="*/ 2509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3994" y="3825"/>
                </a:lnTo>
                <a:lnTo>
                  <a:pt x="3825" y="3825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3994" y="17775"/>
                </a:lnTo>
                <a:lnTo>
                  <a:pt x="33994" y="3825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33994" y="17775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  <a:path fill="darken" w="37819" h="21600">
                <a:moveTo>
                  <a:pt x="16313" y="10800"/>
                </a:moveTo>
                <a:lnTo>
                  <a:pt x="24109" y="5601"/>
                </a:lnTo>
                <a:lnTo>
                  <a:pt x="24109" y="15999"/>
                </a:lnTo>
                <a:close/>
              </a:path>
              <a:path fill="darken" w="37819" h="21600">
                <a:moveTo>
                  <a:pt x="13711" y="5601"/>
                </a:moveTo>
                <a:lnTo>
                  <a:pt x="14944" y="5601"/>
                </a:lnTo>
                <a:lnTo>
                  <a:pt x="14944" y="15999"/>
                </a:lnTo>
                <a:lnTo>
                  <a:pt x="13711" y="1599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640" y="990720"/>
            <a:ext cx="0" cy="50292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240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990720"/>
            <a:ext cx="0" cy="50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38080" cy="33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3600" y="1295280"/>
            <a:ext cx="1828800" cy="671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365200" y="914400"/>
            <a:ext cx="1521000" cy="96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26040" y="984240"/>
            <a:ext cx="2660760" cy="996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80880" y="2711520"/>
            <a:ext cx="1470240" cy="86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905120" y="1905120"/>
            <a:ext cx="2422440" cy="207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3809880" y="2205000"/>
            <a:ext cx="2438640" cy="2171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-299880" y="2138400"/>
            <a:ext cx="2539800" cy="1054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640" y="3962520"/>
            <a:ext cx="1904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6360" y="990720"/>
            <a:ext cx="0" cy="50576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228600" y="3059280"/>
            <a:ext cx="2514600" cy="82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57200" y="2486160"/>
          <a:ext cx="1668600" cy="10191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" y="2486160"/>
                    <a:ext cx="16686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H="1">
            <a:off x="3200040" y="2801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28018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247968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84520" y="297828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2158920" y="3581280"/>
            <a:ext cx="1955880" cy="198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19520" y="4511520"/>
            <a:ext cx="0" cy="212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3360" y="43020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48120" y="44953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4037040" y="1136520"/>
            <a:ext cx="1982880" cy="749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222880" y="225108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99120" y="342900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99120" y="283680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066680" y="1980720"/>
            <a:ext cx="152640" cy="228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1981080"/>
            <a:ext cx="152280" cy="228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7957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01800" y="4502160"/>
            <a:ext cx="0" cy="212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Хим.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5" action="ppaction://hlinksldjump"/>
          </p:cNvPr>
          <p:cNvSpPr/>
          <p:nvPr/>
        </p:nvSpPr>
        <p:spPr>
          <a:xfrm>
            <a:off x="8077320" y="6248520"/>
            <a:ext cx="685800" cy="380880"/>
          </a:xfrm>
          <a:prstGeom prst="rightArrow">
            <a:avLst>
              <a:gd name="adj1" fmla="val 100000"/>
              <a:gd name="adj2" fmla="val 18005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-228600" y="3809880"/>
            <a:ext cx="239220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спирт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7391520" cy="2514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39625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41040 w 457200"/>
              <a:gd name="textAreaRight" fmla="*/ 416160 w 457200"/>
              <a:gd name="textAreaTop" fmla="*/ 41040 h 304920"/>
              <a:gd name="textAreaBottom" fmla="*/ 2638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450" y="2925"/>
                </a:lnTo>
                <a:lnTo>
                  <a:pt x="2925" y="292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450" y="18675"/>
                </a:lnTo>
                <a:lnTo>
                  <a:pt x="29450" y="292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29450" y="1867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32375" h="21600">
                <a:moveTo>
                  <a:pt x="10317" y="4930"/>
                </a:moveTo>
                <a:lnTo>
                  <a:pt x="22057" y="10800"/>
                </a:lnTo>
                <a:lnTo>
                  <a:pt x="10317" y="166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спирт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9480" y="4267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41040 w 457200"/>
              <a:gd name="textAreaRight" fmla="*/ 416160 w 457200"/>
              <a:gd name="textAreaTop" fmla="*/ 41040 h 304920"/>
              <a:gd name="textAreaBottom" fmla="*/ 2638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450" y="2925"/>
                </a:lnTo>
                <a:lnTo>
                  <a:pt x="2925" y="292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450" y="18675"/>
                </a:lnTo>
                <a:lnTo>
                  <a:pt x="29450" y="292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29450" y="1867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32375" h="21600">
                <a:moveTo>
                  <a:pt x="10317" y="4930"/>
                </a:moveTo>
                <a:lnTo>
                  <a:pt x="22057" y="10800"/>
                </a:lnTo>
                <a:lnTo>
                  <a:pt x="10317" y="166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спирт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066680" y="3276720"/>
            <a:ext cx="7010640" cy="1805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66680" y="33526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41040 w 457200"/>
              <a:gd name="textAreaRight" fmla="*/ 416160 w 457200"/>
              <a:gd name="textAreaTop" fmla="*/ 41040 h 304920"/>
              <a:gd name="textAreaBottom" fmla="*/ 2638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450" y="2925"/>
                </a:lnTo>
                <a:lnTo>
                  <a:pt x="2925" y="292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450" y="18675"/>
                </a:lnTo>
                <a:lnTo>
                  <a:pt x="29450" y="292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29450" y="1867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32375" h="21600">
                <a:moveTo>
                  <a:pt x="10317" y="4930"/>
                </a:moveTo>
                <a:lnTo>
                  <a:pt x="22057" y="10800"/>
                </a:lnTo>
                <a:lnTo>
                  <a:pt x="10317" y="166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спирт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41040 w 457200"/>
              <a:gd name="textAreaRight" fmla="*/ 416160 w 457200"/>
              <a:gd name="textAreaTop" fmla="*/ 41040 h 304920"/>
              <a:gd name="textAreaBottom" fmla="*/ 2638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450" y="2925"/>
                </a:lnTo>
                <a:lnTo>
                  <a:pt x="2925" y="292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450" y="18675"/>
                </a:lnTo>
                <a:lnTo>
                  <a:pt x="29450" y="292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29450" y="1867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32375" h="21600">
                <a:moveTo>
                  <a:pt x="10317" y="4930"/>
                </a:moveTo>
                <a:lnTo>
                  <a:pt x="22057" y="10800"/>
                </a:lnTo>
                <a:lnTo>
                  <a:pt x="10317" y="166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спирт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2336760"/>
            <a:ext cx="7620120" cy="37591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41040 w 457200"/>
              <a:gd name="textAreaRight" fmla="*/ 416160 w 457200"/>
              <a:gd name="textAreaTop" fmla="*/ 41040 h 304920"/>
              <a:gd name="textAreaBottom" fmla="*/ 2638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450" y="2925"/>
                </a:lnTo>
                <a:lnTo>
                  <a:pt x="2925" y="292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450" y="18675"/>
                </a:lnTo>
                <a:lnTo>
                  <a:pt x="29450" y="292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29450" y="1867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32375" h="21600">
                <a:moveTo>
                  <a:pt x="10317" y="4930"/>
                </a:moveTo>
                <a:lnTo>
                  <a:pt x="22057" y="10800"/>
                </a:lnTo>
                <a:lnTo>
                  <a:pt x="10317" y="166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спирт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435780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457200" cy="304920"/>
          </a:xfrm>
          <a:custGeom>
            <a:avLst/>
            <a:gdLst>
              <a:gd name="textAreaLeft" fmla="*/ 41040 w 457200"/>
              <a:gd name="textAreaRight" fmla="*/ 416160 w 457200"/>
              <a:gd name="textAreaTop" fmla="*/ 41040 h 304920"/>
              <a:gd name="textAreaBottom" fmla="*/ 2638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450" y="2925"/>
                </a:lnTo>
                <a:lnTo>
                  <a:pt x="2925" y="292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450" y="18675"/>
                </a:lnTo>
                <a:lnTo>
                  <a:pt x="29450" y="292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29450" y="1867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32375" h="21600">
                <a:moveTo>
                  <a:pt x="10317" y="4930"/>
                </a:moveTo>
                <a:lnTo>
                  <a:pt x="22057" y="10800"/>
                </a:lnTo>
                <a:lnTo>
                  <a:pt x="10317" y="166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Comic Sans MS"/>
              </a:rPr>
              <a:t>Химические свойства спиртов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0800" y="2438280"/>
            <a:ext cx="8001000" cy="281952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457200" cy="304560"/>
          </a:xfrm>
          <a:custGeom>
            <a:avLst/>
            <a:gdLst>
              <a:gd name="textAreaLeft" fmla="*/ 55440 w 457200"/>
              <a:gd name="textAreaRight" fmla="*/ 401760 w 457200"/>
              <a:gd name="textAreaTop" fmla="*/ 55440 h 304560"/>
              <a:gd name="textAreaBottom" fmla="*/ 249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28475" y="3938"/>
                </a:lnTo>
                <a:lnTo>
                  <a:pt x="3938" y="3938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28475" y="17662"/>
                </a:lnTo>
                <a:lnTo>
                  <a:pt x="28475" y="3938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3938" y="17662"/>
                </a:lnTo>
                <a:lnTo>
                  <a:pt x="28475" y="17662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3938" y="3938"/>
                </a:lnTo>
                <a:lnTo>
                  <a:pt x="3938" y="17662"/>
                </a:lnTo>
                <a:close/>
              </a:path>
              <a:path fill="darken" w="32413" h="21600">
                <a:moveTo>
                  <a:pt x="11092" y="10800"/>
                </a:moveTo>
                <a:lnTo>
                  <a:pt x="21321" y="5685"/>
                </a:lnTo>
                <a:lnTo>
                  <a:pt x="21321" y="1591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7467480" y="6019920"/>
            <a:ext cx="533520" cy="304560"/>
          </a:xfrm>
          <a:custGeom>
            <a:avLst/>
            <a:gdLst>
              <a:gd name="textAreaLeft" fmla="*/ 53640 w 533520"/>
              <a:gd name="textAreaRight" fmla="*/ 479880 w 533520"/>
              <a:gd name="textAreaTop" fmla="*/ 53640 h 304560"/>
              <a:gd name="textAreaBottom" fmla="*/ 2509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3994" y="3825"/>
                </a:lnTo>
                <a:lnTo>
                  <a:pt x="3825" y="3825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3994" y="17775"/>
                </a:lnTo>
                <a:lnTo>
                  <a:pt x="33994" y="3825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33994" y="17775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  <a:path fill="darken" w="37819" h="21600">
                <a:moveTo>
                  <a:pt x="16313" y="10800"/>
                </a:moveTo>
                <a:lnTo>
                  <a:pt x="24109" y="5601"/>
                </a:lnTo>
                <a:lnTo>
                  <a:pt x="24109" y="15999"/>
                </a:lnTo>
                <a:close/>
              </a:path>
              <a:path fill="darken" w="37819" h="21600">
                <a:moveTo>
                  <a:pt x="13711" y="5601"/>
                </a:moveTo>
                <a:lnTo>
                  <a:pt x="14944" y="5601"/>
                </a:lnTo>
                <a:lnTo>
                  <a:pt x="14944" y="15999"/>
                </a:lnTo>
                <a:lnTo>
                  <a:pt x="13711" y="1599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41:21Z</dcterms:created>
  <dc:creator>Astor</dc:creator>
  <dc:description/>
  <dc:language>en-US</dc:language>
  <cp:lastModifiedBy>Максим</cp:lastModifiedBy>
  <cp:lastPrinted>2001-02-06T10:10:00Z</cp:lastPrinted>
  <dcterms:modified xsi:type="dcterms:W3CDTF">2004-03-04T07:30:37Z</dcterms:modified>
  <cp:revision>20</cp:revision>
  <dc:subject/>
  <dc:title>Зачетный урок Тема: «Углеводороды»    Цель: Обобщение знаний по основным классам углеводородов </dc:title>
</cp:coreProperties>
</file>