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F0E5E-AA35-4197-A139-E0D73E315F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249C5-C77A-4CC8-B9B6-B92DD7CBD2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0A801-7F44-4A41-8A5A-77C56F99D9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925AA-7710-41E1-9C37-7F136A0A50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7B419-B85F-4F02-B58F-949E287856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AFFD9-F435-42E5-9A60-DD093BF2B4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1DB67-874B-4316-ABD7-76B88DA524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14B-65C4-4C01-92B6-1DE7B1D4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948-CAEB-425A-A6C5-3737A7A4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7B9-9EAE-4B78-A454-C5FB598F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2E9-F515-41CA-BAF1-C3D011B4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147-A3BA-4935-BD2A-7B81575B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6B4-B4CF-4217-AED2-398C8190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809-D47E-4D24-A8DD-7742040E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FD7-C6D8-4F6E-997F-ED84E97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E29-B880-4895-B5E0-D35BB73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641-D790-447F-9BB3-AB455D4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58E-C9B7-4AF2-834D-21E2B7B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D20-E5B0-4C40-BEDD-D256BB0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3561B5-B732-47D4-B7EC-8D504D4F99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7"/>
          <p:cNvSpPr/>
          <p:nvPr/>
        </p:nvSpPr>
        <p:spPr>
          <a:xfrm>
            <a:off x="2135160" y="351000"/>
            <a:ext cx="5999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2"/>
          <a:stretch/>
        </p:blipFill>
        <p:spPr>
          <a:xfrm>
            <a:off x="0" y="2065320"/>
            <a:ext cx="857268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"/>
          <p:cNvPicPr/>
          <p:nvPr/>
        </p:nvPicPr>
        <p:blipFill>
          <a:blip r:embed="rId3"/>
          <a:stretch/>
        </p:blipFill>
        <p:spPr>
          <a:xfrm>
            <a:off x="254160" y="3605040"/>
            <a:ext cx="8929440" cy="15321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"/>
          <p:cNvPicPr/>
          <p:nvPr/>
        </p:nvPicPr>
        <p:blipFill>
          <a:blip r:embed="rId4"/>
          <a:stretch/>
        </p:blipFill>
        <p:spPr>
          <a:xfrm>
            <a:off x="1325520" y="5494320"/>
            <a:ext cx="4286160" cy="571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396720" y="5494320"/>
            <a:ext cx="1428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02200" y="493560"/>
            <a:ext cx="7409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ка графического диктан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39640" y="1351080"/>
            <a:ext cx="184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139480"/>
            <a:ext cx="10080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73160"/>
                <a:tab algn="l" pos="190440"/>
                <a:tab algn="l" pos="2811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: ^_ _ _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 ^ _ ^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85840" y="422280"/>
            <a:ext cx="776556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ценив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рафического диктан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646920" y="2565360"/>
            <a:ext cx="81432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7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“+”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6-5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“+”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-3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“+”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-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 и менее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“+”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-   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554760" y="565200"/>
            <a:ext cx="35668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 u="sng">
                <a:solidFill>
                  <a:srgbClr val="0070c0"/>
                </a:solidFill>
                <a:uFillTx/>
                <a:latin typeface="Arial"/>
              </a:rPr>
              <a:t>Цель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96720" y="1636560"/>
            <a:ext cx="87156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учиться сравнивать обыкновенную 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сятичную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621000" y="3780000"/>
            <a:ext cx="3573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 u="sng">
                <a:solidFill>
                  <a:srgbClr val="0070c0"/>
                </a:solidFill>
                <a:uFillTx/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12720" y="4923000"/>
            <a:ext cx="868176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равнение обыкновенн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роби и десятично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611280" y="422280"/>
            <a:ext cx="946944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800" spc="-1" strike="noStrike">
                <a:solidFill>
                  <a:srgbClr val="0070c0"/>
                </a:solidFill>
                <a:latin typeface="Arial"/>
              </a:rPr>
              <a:t>Итоги урока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Arial"/>
              </a:rPr>
              <a:t>18-20  баллов  -   «</a:t>
            </a:r>
            <a:r>
              <a:rPr b="0" lang="ru-RU" sz="6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ru-RU" sz="6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Arial"/>
              </a:rPr>
              <a:t>15-17 баллов   -   «</a:t>
            </a:r>
            <a:r>
              <a:rPr b="0" lang="ru-RU" sz="68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0" lang="ru-RU" sz="6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Arial"/>
              </a:rPr>
              <a:t>10-14 баллов   -   «</a:t>
            </a:r>
            <a:r>
              <a:rPr b="0" lang="ru-RU" sz="68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0" lang="ru-RU" sz="6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Arial"/>
              </a:rPr>
              <a:t>Менее 10 баллов -«</a:t>
            </a:r>
            <a:r>
              <a:rPr b="0" lang="ru-RU" sz="6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6800" spc="-1" strike="noStrike">
                <a:solidFill>
                  <a:srgbClr val="000000"/>
                </a:solidFill>
                <a:latin typeface="Arial"/>
              </a:rPr>
              <a:t>»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754200" y="493560"/>
            <a:ext cx="821520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учебнику №157,158,147,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I уровень трудности «4»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свою задачу по те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 десятичных дробей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II уровень трудности «5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0 задача -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039680" y="4780080"/>
            <a:ext cx="66438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>Antonova</dc:creator>
  <dc:description/>
  <dc:language>en-US</dc:language>
  <cp:lastModifiedBy>1</cp:lastModifiedBy>
  <dcterms:modified xsi:type="dcterms:W3CDTF">2016-07-25T10:39:41Z</dcterms:modified>
  <cp:revision>77</cp:revision>
  <dc:subject/>
  <dc:title>Слайд 1</dc:title>
</cp:coreProperties>
</file>