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6.gif" ContentType="image/gif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13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5.jpeg" ContentType="image/jpeg"/>
  <Override PartName="/ppt/media/image32.jpeg" ContentType="image/jpeg"/>
  <Override PartName="/ppt/media/image6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FCF-584F-4EB7-9784-BFA0D0ED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D81-B503-4EE1-ADCD-8B61E73A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B695-1191-44A7-A1D6-0BC379C1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E5A-E641-4BCB-A4D7-3287724E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F96-4C84-4F15-98DE-0F4C3C9D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F144-5044-4842-AAFA-82EC24B0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2B0-3FD9-4E10-941A-8FA65DC0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BDB-CBA9-472D-9BEE-41EA86C0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AAA-274E-4C49-913C-B8870ABD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AB7-9C0A-4099-9AC0-50C10374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763-D1C9-41E5-BC76-E002DDE0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376-6136-4CAE-9FE2-FDCDA960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69A6-8E48-4CE2-954C-36FD78E5DB4C}" type="slidenum">
              <a:rPr b="1" i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6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user\Desktop\МАМА\Эльвира\ФОТО\Рисунки\Рисунки 2\Рисунки 2\Фоны\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-1143000"/>
            <a:ext cx="9144000" cy="9144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Users\user\Desktop\Новая папка\post-122-1289150403.jpg"/>
          <p:cNvPicPr/>
          <p:nvPr/>
        </p:nvPicPr>
        <p:blipFill>
          <a:blip r:embed="rId2"/>
          <a:stretch/>
        </p:blipFill>
        <p:spPr>
          <a:xfrm>
            <a:off x="3200400" y="685800"/>
            <a:ext cx="5638680" cy="58071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43" name="Прямоугольник 4"/>
          <p:cNvSpPr/>
          <p:nvPr/>
        </p:nvSpPr>
        <p:spPr>
          <a:xfrm>
            <a:off x="228600" y="533520"/>
            <a:ext cx="2819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«Куклы могут все или почти ВСЕ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Они творят чудеса!»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user\Desktop\МАМА\Эльвира\ФОТО\Рисунки\Рисунки 2\Рисунки 2\Фоны\20.jpg"/>
          <p:cNvPicPr/>
          <p:nvPr/>
        </p:nvPicPr>
        <p:blipFill>
          <a:blip r:embed="rId1"/>
          <a:stretch/>
        </p:blipFill>
        <p:spPr>
          <a:xfrm>
            <a:off x="-152280" y="-152280"/>
            <a:ext cx="9448560" cy="7162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E:\кукольный\P3270613.JPG"/>
          <p:cNvPicPr/>
          <p:nvPr/>
        </p:nvPicPr>
        <p:blipFill>
          <a:blip r:embed="rId2"/>
          <a:stretch/>
        </p:blipFill>
        <p:spPr>
          <a:xfrm>
            <a:off x="6054840" y="3962520"/>
            <a:ext cx="3089160" cy="2398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E:\кукольный\P3270615.JPG"/>
          <p:cNvPicPr/>
          <p:nvPr/>
        </p:nvPicPr>
        <p:blipFill>
          <a:blip r:embed="rId3"/>
          <a:stretch/>
        </p:blipFill>
        <p:spPr>
          <a:xfrm>
            <a:off x="4648320" y="1066680"/>
            <a:ext cx="3352680" cy="285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user\Desktop\Новая папка\_350.jpg"/>
          <p:cNvPicPr/>
          <p:nvPr/>
        </p:nvPicPr>
        <p:blipFill>
          <a:blip r:embed="rId4"/>
          <a:stretch/>
        </p:blipFill>
        <p:spPr>
          <a:xfrm>
            <a:off x="0" y="2819520"/>
            <a:ext cx="463068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304920" y="250200"/>
            <a:ext cx="3657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Глаза.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6092"/>
                </a:solidFill>
                <a:latin typeface="Arial"/>
                <a:ea typeface="Times New Roman"/>
              </a:rPr>
              <a:t>Глазки на ложке можно нарисовать, наклеить готовые бегающие глазки или сделать аппликацией.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6" descr="C:\Users\user\Desktop\МАМА\Эльвира\ФОТО\Рисунки\Рисунки 2\Рисунки 2\Фоны\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-1143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228600" y="304920"/>
            <a:ext cx="86104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способу управления –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уклы  делятся на два вида: 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066680" y="1523880"/>
            <a:ext cx="2133720" cy="685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верховые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5486400" y="1447920"/>
            <a:ext cx="1981080" cy="685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напольные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 flipH="1">
            <a:off x="1676160" y="2362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304920" y="25909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куклы, которыми управляют из-за ширмы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Перчаточные и тростевые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6858000" y="2286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5334120" y="289548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Напольные – работают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на полу – на глазах у детей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8" name="Picture 3" descr="C:\Users\user\Desktop\Новая папка\16298a590a.jpg"/>
          <p:cNvPicPr/>
          <p:nvPr/>
        </p:nvPicPr>
        <p:blipFill>
          <a:blip r:embed="rId2"/>
          <a:stretch/>
        </p:blipFill>
        <p:spPr>
          <a:xfrm>
            <a:off x="0" y="3581280"/>
            <a:ext cx="3429000" cy="219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Users\user\Desktop\Новая папка\teatr.jpg"/>
          <p:cNvPicPr/>
          <p:nvPr/>
        </p:nvPicPr>
        <p:blipFill>
          <a:blip r:embed="rId3"/>
          <a:stretch/>
        </p:blipFill>
        <p:spPr>
          <a:xfrm>
            <a:off x="1905120" y="5000760"/>
            <a:ext cx="1960560" cy="185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Users\user\Desktop\Новая папка\22.jpeg"/>
          <p:cNvPicPr/>
          <p:nvPr/>
        </p:nvPicPr>
        <p:blipFill>
          <a:blip r:embed="rId4"/>
          <a:stretch/>
        </p:blipFill>
        <p:spPr>
          <a:xfrm>
            <a:off x="3505320" y="3962520"/>
            <a:ext cx="1981080" cy="1757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user\Desktop\Новая папка\mikki.jpg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7543800" y="3657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user\Desktop\Новая папка\pshela.jpg"/>
          <p:cNvPicPr/>
          <p:nvPr/>
        </p:nvPicPr>
        <p:blipFill>
          <a:blip r:embed="rId6">
            <a:lum bright="20000"/>
          </a:blip>
          <a:stretch/>
        </p:blipFill>
        <p:spPr>
          <a:xfrm>
            <a:off x="6324480" y="4114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Users\user\Desktop\Новая папка\krosh.jpg"/>
          <p:cNvPicPr/>
          <p:nvPr/>
        </p:nvPicPr>
        <p:blipFill>
          <a:blip r:embed="rId7">
            <a:lum bright="24000"/>
          </a:blip>
          <a:stretch/>
        </p:blipFill>
        <p:spPr>
          <a:xfrm>
            <a:off x="5334120" y="5257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C:\Users\user\Desktop\МАМА\Эльвира\ФОТО\Рисунки\Рисунки 2\Рисунки 2\Фоны\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0" y="228600"/>
            <a:ext cx="89154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чинать знакомить детей 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ожно с 1 мл. группы 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альчиковые игры </a:t>
            </a:r>
            <a:r>
              <a:rPr b="1" i="1" lang="ru-RU" sz="2800" spc="-1" strike="noStrike">
                <a:solidFill>
                  <a:srgbClr val="376092"/>
                </a:solidFill>
                <a:latin typeface="Arial"/>
              </a:rPr>
              <a:t>представляют замечательную возможность поиграть вместе с ребенком.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гры с пальчиковыми </a:t>
            </a:r>
            <a:r>
              <a:rPr b="1" i="1" lang="ru-RU" sz="2800" spc="-1" strike="noStrike">
                <a:solidFill>
                  <a:srgbClr val="376092"/>
                </a:solidFill>
                <a:latin typeface="Arial"/>
              </a:rPr>
              <a:t>куклами помогают малышу лучше управлять движениям и  собственных пальцев.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грая </a:t>
            </a:r>
            <a:r>
              <a:rPr b="1" i="1" lang="ru-RU" sz="2800" spc="-1" strike="noStrike">
                <a:solidFill>
                  <a:srgbClr val="376092"/>
                </a:solidFill>
                <a:latin typeface="Arial"/>
              </a:rPr>
              <a:t>вместе со взрослыми, ребенок овладевает ценными навыками общения, разыгрывает различные ситуации с куклами которые ведут себя как люди,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</a:rPr>
              <a:t>развивая воображение ребенка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6" name="Picture 2" descr="E:\кукольный\P3270605.JPG"/>
          <p:cNvPicPr/>
          <p:nvPr/>
        </p:nvPicPr>
        <p:blipFill>
          <a:blip r:embed="rId2"/>
          <a:stretch/>
        </p:blipFill>
        <p:spPr>
          <a:xfrm rot="21094800">
            <a:off x="214200" y="5266800"/>
            <a:ext cx="1543320" cy="1486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E:\кукольный\P3270606.JPG"/>
          <p:cNvPicPr/>
          <p:nvPr/>
        </p:nvPicPr>
        <p:blipFill>
          <a:blip r:embed="rId3"/>
          <a:stretch/>
        </p:blipFill>
        <p:spPr>
          <a:xfrm rot="732600">
            <a:off x="7338600" y="5022360"/>
            <a:ext cx="1646280" cy="1679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C:\Users\user\Desktop\МАМА\Эльвира\ФОТО\Рисунки\Рисунки 2\Рисунки 2\Фоны\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228600" y="1902600"/>
            <a:ext cx="8534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Побуждать интерес к театрально-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игровой деятельности, поощрять 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участие детей в этом виде 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деятельности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Обучать ориентироваться в 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групповой комнате и в зале.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Формировать умение и передавать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мимикой , жестом, движения,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основные эмоции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1066680" y="2286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сновные задачи организации театральной деятельности 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 1 мл.группе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3"/>
          <p:cNvSpPr/>
          <p:nvPr/>
        </p:nvSpPr>
        <p:spPr>
          <a:xfrm>
            <a:off x="533520" y="22860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оспитатель и старшие </a:t>
            </a: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дошкольники- показывают малышам небольшие спектакли, используя для этой цели – различны виды театра: театр картинок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( фланелеграф)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2" name="Picture 2" descr="C:\Users\user\Desktop\Новая папка\цв\бабка.gif"/>
          <p:cNvPicPr/>
          <p:nvPr/>
        </p:nvPicPr>
        <p:blipFill>
          <a:blip r:embed="rId1"/>
          <a:stretch/>
        </p:blipFill>
        <p:spPr>
          <a:xfrm>
            <a:off x="3809880" y="3505320"/>
            <a:ext cx="1841760" cy="293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user\Desktop\Новая папка\цв\внучка.gif"/>
          <p:cNvPicPr/>
          <p:nvPr/>
        </p:nvPicPr>
        <p:blipFill>
          <a:blip r:embed="rId2"/>
          <a:stretch/>
        </p:blipFill>
        <p:spPr>
          <a:xfrm>
            <a:off x="5791320" y="3505320"/>
            <a:ext cx="1523880" cy="2385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Users\user\Desktop\Новая папка\цв\дед.gif"/>
          <p:cNvPicPr/>
          <p:nvPr/>
        </p:nvPicPr>
        <p:blipFill>
          <a:blip r:embed="rId3"/>
          <a:stretch/>
        </p:blipFill>
        <p:spPr>
          <a:xfrm>
            <a:off x="1828800" y="3352680"/>
            <a:ext cx="1847880" cy="3152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Users\user\Desktop\Новая папка\цв\жучка.gif"/>
          <p:cNvPicPr/>
          <p:nvPr/>
        </p:nvPicPr>
        <p:blipFill>
          <a:blip r:embed="rId4"/>
          <a:stretch/>
        </p:blipFill>
        <p:spPr>
          <a:xfrm>
            <a:off x="6934320" y="5334120"/>
            <a:ext cx="1085760" cy="106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Users\user\Desktop\Новая папка\цв\кошка.gif"/>
          <p:cNvPicPr/>
          <p:nvPr/>
        </p:nvPicPr>
        <p:blipFill>
          <a:blip r:embed="rId5"/>
          <a:stretch/>
        </p:blipFill>
        <p:spPr>
          <a:xfrm>
            <a:off x="7710480" y="4876920"/>
            <a:ext cx="1433520" cy="954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:\Users\user\Desktop\Новая папка\цв\мышь.gif"/>
          <p:cNvPicPr/>
          <p:nvPr/>
        </p:nvPicPr>
        <p:blipFill>
          <a:blip r:embed="rId6"/>
          <a:stretch/>
        </p:blipFill>
        <p:spPr>
          <a:xfrm>
            <a:off x="8305920" y="5791320"/>
            <a:ext cx="590400" cy="814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C:\Users\user\Desktop\Новая папка\цв\репка.gif"/>
          <p:cNvPicPr/>
          <p:nvPr/>
        </p:nvPicPr>
        <p:blipFill>
          <a:blip r:embed="rId7"/>
          <a:stretch/>
        </p:blipFill>
        <p:spPr>
          <a:xfrm>
            <a:off x="0" y="3505320"/>
            <a:ext cx="1771560" cy="3044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C:\Users\user\Desktop\МАМА\Эльвира\ФОТО\Рисунки\Рисунки 2\Рисунки 2\Фоны\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80010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3"/>
          <p:cNvSpPr/>
          <p:nvPr/>
        </p:nvSpPr>
        <p:spPr>
          <a:xfrm>
            <a:off x="380880" y="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ля детей  2 мл. группы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76092"/>
                </a:solidFill>
                <a:latin typeface="Arial"/>
              </a:rPr>
              <a:t>самый простой и доступный театр - это театр кукол на столе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грушки </a:t>
            </a:r>
            <a:r>
              <a:rPr b="1" i="1" lang="ru-RU" sz="2400" spc="-1" strike="noStrike">
                <a:solidFill>
                  <a:srgbClr val="376092"/>
                </a:solidFill>
                <a:latin typeface="Arial"/>
              </a:rPr>
              <a:t>для него можно сшить  из кусочков: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Arial"/>
              </a:rPr>
              <a:t>                 </a:t>
            </a:r>
            <a:r>
              <a:rPr b="1" i="1" lang="ru-RU" sz="2400" spc="-1" strike="noStrike" u="sng">
                <a:solidFill>
                  <a:srgbClr val="376092"/>
                </a:solidFill>
                <a:uFillTx/>
                <a:latin typeface="Arial"/>
              </a:rPr>
              <a:t>ткани, 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76092"/>
                </a:solidFill>
                <a:uFillTx/>
                <a:latin typeface="Arial"/>
              </a:rPr>
              <a:t>меха, 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76092"/>
                </a:solidFill>
                <a:uFillTx/>
                <a:latin typeface="Arial"/>
              </a:rPr>
              <a:t>кожи, 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76092"/>
                </a:solidFill>
                <a:uFillTx/>
                <a:latin typeface="Arial"/>
              </a:rPr>
              <a:t>поролона-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Arial"/>
              </a:rPr>
              <a:t>они не должны быть большими.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Arial"/>
              </a:rPr>
              <a:t>При изготовлении необходимо учитывать соотношение игрушек по размеру ( кошка должна быть выше мышки)  и фактура  ( всех кукол для одного спектакля шьют из одного материала.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1" name="Picture 2" descr="E:\кукольный\P3270611.JPG"/>
          <p:cNvPicPr/>
          <p:nvPr/>
        </p:nvPicPr>
        <p:blipFill>
          <a:blip r:embed="rId2"/>
          <a:stretch/>
        </p:blipFill>
        <p:spPr>
          <a:xfrm>
            <a:off x="7378560" y="502920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E:\кукольный\P3270612.JPG"/>
          <p:cNvPicPr/>
          <p:nvPr/>
        </p:nvPicPr>
        <p:blipFill>
          <a:blip r:embed="rId3"/>
          <a:stretch/>
        </p:blipFill>
        <p:spPr>
          <a:xfrm>
            <a:off x="0" y="5106960"/>
            <a:ext cx="1467000" cy="1751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E:\кукольный\P3270609.JPG"/>
          <p:cNvPicPr/>
          <p:nvPr/>
        </p:nvPicPr>
        <p:blipFill>
          <a:blip r:embed="rId4"/>
          <a:stretch/>
        </p:blipFill>
        <p:spPr>
          <a:xfrm>
            <a:off x="7313760" y="1523880"/>
            <a:ext cx="1830240" cy="1797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E:\кукольный\P3270608.JPG"/>
          <p:cNvPicPr/>
          <p:nvPr/>
        </p:nvPicPr>
        <p:blipFill>
          <a:blip r:embed="rId5"/>
          <a:stretch/>
        </p:blipFill>
        <p:spPr>
          <a:xfrm>
            <a:off x="3200400" y="5072040"/>
            <a:ext cx="236232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C:\Users\user\Desktop\МАМА\Эльвира\ФОТО\Рисунки\Рисунки 2\Рисунки 2\Фоны\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8001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304920" y="180720"/>
            <a:ext cx="71625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В средней группе </a:t>
            </a:r>
            <a:r>
              <a:rPr b="1" i="1" lang="ru-RU" sz="2400" spc="-1" strike="noStrike">
                <a:solidFill>
                  <a:srgbClr val="376092"/>
                </a:solidFill>
                <a:latin typeface="Arial"/>
                <a:ea typeface="Times New Roman"/>
              </a:rPr>
              <a:t>– переходим- к 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Arial"/>
                <a:ea typeface="Times New Roman"/>
              </a:rPr>
              <a:t>более   сложному театру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Arial"/>
                <a:ea typeface="Times New Roman"/>
              </a:rPr>
              <a:t>Знакомим детей с театральной ширмой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Arial"/>
                <a:ea typeface="Times New Roman"/>
              </a:rPr>
              <a:t>и с верховыми куклами. 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Arial"/>
                <a:ea typeface="Times New Roman"/>
              </a:rPr>
              <a:t>Но прежде , чем дети начнут работать за ширмой надо дать поиграть с игрушкой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7" name="Picture 6" descr="Фото017"/>
          <p:cNvPicPr/>
          <p:nvPr/>
        </p:nvPicPr>
        <p:blipFill>
          <a:blip r:embed="rId2"/>
          <a:stretch/>
        </p:blipFill>
        <p:spPr>
          <a:xfrm>
            <a:off x="533520" y="3352680"/>
            <a:ext cx="4419360" cy="3265560"/>
          </a:xfrm>
          <a:prstGeom prst="rect">
            <a:avLst/>
          </a:prstGeom>
          <a:ln w="9360">
            <a:solidFill>
              <a:srgbClr val="060119"/>
            </a:solidFill>
            <a:miter/>
          </a:ln>
        </p:spPr>
      </p:pic>
      <p:sp>
        <p:nvSpPr>
          <p:cNvPr id="118" name="Прямоугольник 5"/>
          <p:cNvSpPr/>
          <p:nvPr/>
        </p:nvSpPr>
        <p:spPr>
          <a:xfrm>
            <a:off x="5410080" y="3657600"/>
            <a:ext cx="32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Помочь, детям освоить приемы кукловождения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9" name="Picture 3" descr="C:\Users\user\Desktop\Новая папка\кукольный\кукла.JPG"/>
          <p:cNvPicPr/>
          <p:nvPr/>
        </p:nvPicPr>
        <p:blipFill>
          <a:blip r:embed="rId3"/>
          <a:stretch/>
        </p:blipFill>
        <p:spPr>
          <a:xfrm>
            <a:off x="6858000" y="0"/>
            <a:ext cx="228600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C:\Users\user\Desktop\МАМА\Эльвира\ФОТО\Рисунки\Рисунки 2\Рисунки 2\Фоны\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-1143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4"/>
          <p:cNvSpPr/>
          <p:nvPr/>
        </p:nvSpPr>
        <p:spPr>
          <a:xfrm>
            <a:off x="533520" y="228600"/>
            <a:ext cx="7696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В старшей группе </a:t>
            </a: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следует знакомить детей с марионетками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Марионетками называют кукол , которыми управляют чаще всего с помощью нитей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Такие куклы приводятся в движении с помощью ваги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( т.е деревянной крестовиной)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Воспитывать устойчивый интерес к театрально- игровой деятельности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Подводить детей к созданию выразительного игрового 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  <a:ea typeface="Times New Roman"/>
              </a:rPr>
              <a:t>образа в этюдах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C:\Users\user\Desktop\МАМА\Эльвира\ФОТО\Рисунки\Рисунки 2\Рисунки 2\Фоны\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3"/>
          <p:cNvSpPr/>
          <p:nvPr/>
        </p:nvSpPr>
        <p:spPr>
          <a:xfrm>
            <a:off x="0" y="152388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Расширять представление детей об окружающем мире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Пополнять и активизировать словарь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Поддерживать инициативу в импровизации</a:t>
            </a: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Закреплять представления детей о различных видах театров, уметь различать их и называть 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Совершенствовать умение связно и выразительно пересказывать 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762120" y="22860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сновные задачи организации театральной деятельности  в старшей и подготовительной группе 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C:\Users\user\Desktop\МАМА\Эльвира\ФОТО\Рисунки\Рисунки 2\Рисунки 2\Фоны\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-838080"/>
            <a:ext cx="9144000" cy="8839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"/>
          <p:cNvSpPr/>
          <p:nvPr/>
        </p:nvSpPr>
        <p:spPr>
          <a:xfrm>
            <a:off x="380880" y="304920"/>
            <a:ext cx="8077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</a:rPr>
              <a:t>Так же подойдут «исполнители» , вылепленные из глины  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</a:rPr>
              <a:t>по типу  дымковской игрушки, а также деревянные , изготовленные по типу Богородском игрушки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914400" y="38098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</a:rPr>
              <a:t>Интересные куклы можно изготовить из бумажных конусов, коробочек различной высоты.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:\Users\user\Desktop\МАМА\Эльвира\ФОТО\Рисунки\Рисунки 2\Рисунки 2\Фоны\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-1143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8"/>
          <p:cNvSpPr/>
          <p:nvPr/>
        </p:nvSpPr>
        <p:spPr>
          <a:xfrm>
            <a:off x="2819520" y="1600200"/>
            <a:ext cx="3581280" cy="4343400"/>
          </a:xfrm>
          <a:prstGeom prst="verticalScroll">
            <a:avLst>
              <a:gd name="adj" fmla="val 12500"/>
            </a:avLst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Последовательно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знакомить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детей всех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озрастных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групп с различными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идами театра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( кукольный,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драматический,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оперный,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балет,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музыкальные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комедии)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-228600" y="1447920"/>
            <a:ext cx="3733920" cy="4267080"/>
          </a:xfrm>
          <a:prstGeom prst="verticalScroll">
            <a:avLst>
              <a:gd name="adj" fmla="val 12500"/>
            </a:avLst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Поэтапное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освоение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детьми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различных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идов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творчества 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по возрастным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группам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85800" y="3808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Times New Roman"/>
              </a:rPr>
              <a:t>Основные задачи 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5715000" y="1523880"/>
            <a:ext cx="3657600" cy="4267440"/>
          </a:xfrm>
          <a:prstGeom prst="verticalScroll">
            <a:avLst>
              <a:gd name="adj" fmla="val 12500"/>
            </a:avLst>
          </a:prstGeom>
          <a:solidFill>
            <a:srgbClr val="d1b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Совершенствование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артистических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навыков 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детей в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плане переживания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и воплощения образа.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Моделирование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навыков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социального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поведения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 заданных условиях.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C:\Users\user\Desktop\МАМА\Эльвира\ФОТО\Рисунки\Рисунки 2\Рисунки 2\Фоны\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-1143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1295280" y="990720"/>
            <a:ext cx="6705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СПАСИБО ЗА ВНИМАНИЕ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0" name="Picture 4" descr="C:\Users\user\Desktop\МАМА\Эльвира\ФОТО\Рисунки\ладони.jpeg"/>
          <p:cNvPicPr/>
          <p:nvPr/>
        </p:nvPicPr>
        <p:blipFill>
          <a:blip r:embed="rId2"/>
          <a:stretch/>
        </p:blipFill>
        <p:spPr>
          <a:xfrm>
            <a:off x="3200400" y="2514600"/>
            <a:ext cx="308628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:\Users\user\Desktop\МАМА\Эльвира\ФОТО\Рисунки\Рисунки 2\Рисунки 2\Фоны\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-1143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380880" y="685800"/>
            <a:ext cx="8229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иды театра в детском саду 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•    </a:t>
            </a: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настольный театр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 •    </a:t>
            </a: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книжка-театр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 •    </a:t>
            </a: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театр пяти пальцев    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 •    </a:t>
            </a: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театр масок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 •    </a:t>
            </a: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театр ручных теней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 •    </a:t>
            </a: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пальчиковый теневой театр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 •    </a:t>
            </a: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театр «живых» теней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магнитный театр 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user\Desktop\МАМА\Эльвира\ФОТО\Рисунки\Рисунки 2\Рисунки 2\Фоны\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-1143000"/>
            <a:ext cx="9144000" cy="800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E:\кукольный\P3270610.JPG"/>
          <p:cNvPicPr/>
          <p:nvPr/>
        </p:nvPicPr>
        <p:blipFill>
          <a:blip r:embed="rId2"/>
          <a:stretch/>
        </p:blipFill>
        <p:spPr>
          <a:xfrm>
            <a:off x="7315200" y="54864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304920" y="228600"/>
            <a:ext cx="88390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Формы организации 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еатрализованной деятельности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6092"/>
                </a:solidFill>
                <a:latin typeface="Arial"/>
              </a:rPr>
              <a:t>Выбирая материал для инсценировки, нужно отталкиваться от возрастных возможностей, знаний и умений детей, обогащать их жизненный опыт, побуждать интерес к новым знаниям, расширять творческий потенциал: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1. Совместная театрализованная </a:t>
            </a:r>
            <a:r>
              <a:rPr b="1" i="1" lang="ru-RU" sz="2000" spc="-1" strike="noStrike">
                <a:solidFill>
                  <a:srgbClr val="376092"/>
                </a:solidFill>
                <a:latin typeface="Arial"/>
              </a:rPr>
              <a:t>деятельность взрослых и детей, театральное занятие, театрализованная игра на праздниках и развлечениях.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2. Самостоятельная </a:t>
            </a:r>
            <a:r>
              <a:rPr b="1" i="1" lang="ru-RU" sz="2000" spc="-1" strike="noStrike">
                <a:solidFill>
                  <a:srgbClr val="376092"/>
                </a:solidFill>
                <a:latin typeface="Arial"/>
              </a:rPr>
              <a:t>театрально-художественная деятельность, театрализованные игра в повседневной жизни.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3. Мини-игры</a:t>
            </a:r>
            <a:r>
              <a:rPr b="1" i="1" lang="ru-RU" sz="2000" spc="-1" strike="noStrike">
                <a:solidFill>
                  <a:srgbClr val="376092"/>
                </a:solidFill>
                <a:latin typeface="Arial"/>
              </a:rPr>
              <a:t> на других занятиях, театрализованные игры-спектакли, посещение детьми театров совместно с родителями, мини-сценки с куклами в ходе изучения регионального компонента с детьми, привлечение главной куклы - Петрушки в решение познавательных 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6092"/>
                </a:solidFill>
                <a:latin typeface="Arial"/>
              </a:rPr>
              <a:t>задач.</a:t>
            </a: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C:\Users\user\Desktop\МАМА\Эльвира\ФОТО\Рисунки\Рисунки 2\Рисунки 2\Фоны\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-1143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304920" y="53352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533520" y="-59400"/>
            <a:ext cx="81532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рганизация уголка театрализованной деятельности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В группах </a:t>
            </a:r>
            <a:r>
              <a:rPr b="1" i="1" lang="ru-RU" sz="2400" spc="-1" strike="noStrike">
                <a:solidFill>
                  <a:srgbClr val="376092"/>
                </a:solidFill>
                <a:latin typeface="Arial"/>
                <a:ea typeface="Times New Roman"/>
              </a:rPr>
              <a:t>детского сада организованы уголки для театрализованных представлений, спектаклей. В них отводится место для режиссёрских игр с пальчиковым, настольным театром.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76092"/>
                </a:solidFill>
                <a:latin typeface="Arial"/>
                <a:ea typeface="Times New Roman"/>
              </a:rPr>
              <a:t>В уголке располагаются: 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Arial"/>
                <a:ea typeface="Times New Roman"/>
              </a:rPr>
              <a:t>- различные виды театров: бибабо, настольный, театр на фланелеграфе и др.;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Arial"/>
                <a:ea typeface="Times New Roman"/>
              </a:rPr>
              <a:t>- реквизит для разыгрывания сценок и спектаклей: набор кукол, ширмы для кукольного театра, костюмы, элементы костюмов, маски;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Arial"/>
                <a:ea typeface="Times New Roman"/>
              </a:rPr>
              <a:t>- атрибуты для различных игровых позиций: театральный реквизит,  декорации, сценарии, книги, образцы музыкальных произведений, афиши, касса, билеты, карандаши, краски, клей, виды бумаги, природный материал.</a:t>
            </a:r>
            <a:endParaRPr b="1" i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C:\Users\user\Desktop\МАМА\Эльвира\ФОТО\Рисунки\Рисунки 2\Рисунки 2\Фоны\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-914400"/>
            <a:ext cx="9144000" cy="89154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304920" y="53352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380880" y="-20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сновные направления 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работы с детьми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28600" y="1060560"/>
            <a:ext cx="8458200" cy="55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Театральная игра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Задачи: </a:t>
            </a:r>
            <a:r>
              <a:rPr b="1" i="1" lang="ru-RU" sz="1400" spc="-1" strike="noStrike">
                <a:solidFill>
                  <a:srgbClr val="376092"/>
                </a:solidFill>
                <a:latin typeface="Arial"/>
                <a:ea typeface="Times New Roman"/>
              </a:rPr>
              <a:t>Учить детей ориентироваться в пространстве, равномерно размещаться по площадке, строить диалог с партнёром на заданную тему. Развивать способность произвольно напрягать и расслаблять отдельные группы мышц,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тву. </a:t>
            </a: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Ритмопластика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Задачи: </a:t>
            </a:r>
            <a:r>
              <a:rPr b="1" i="1" lang="ru-RU" sz="1400" spc="-1" strike="noStrike">
                <a:solidFill>
                  <a:srgbClr val="376092"/>
                </a:solidFill>
                <a:latin typeface="Arial"/>
                <a:ea typeface="Times New Roman"/>
              </a:rPr>
              <a:t>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Культура и техника речи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Задачи: </a:t>
            </a:r>
            <a:r>
              <a:rPr b="1" i="1" lang="ru-RU" sz="1400" spc="-1" strike="noStrike">
                <a:solidFill>
                  <a:srgbClr val="376092"/>
                </a:solidFill>
                <a:latin typeface="Arial"/>
                <a:ea typeface="Times New Roman"/>
              </a:rPr>
              <a:t>Развивать речевое дыхание и правильною артикуляцию, чёткую дикцию, разнообразную интонацию логику речи; учить сочинять небольшие рассказы и сказки, подбирать простейшие рифмы; произносить скороговорки и стихи, пополнять словарный запас.</a:t>
            </a: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Основы театральной культуры 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Задачи: </a:t>
            </a:r>
            <a:r>
              <a:rPr b="1" i="1" lang="ru-RU" sz="1400" spc="-1" strike="noStrike">
                <a:solidFill>
                  <a:srgbClr val="376092"/>
                </a:solidFill>
                <a:latin typeface="Arial"/>
                <a:ea typeface="Times New Roman"/>
              </a:rPr>
              <a:t>Познакомить детей с театральной терминологией, с основными видами театрального искусства, воспитывать культуру поведения в театре.</a:t>
            </a: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Работа над спектаклем</a:t>
            </a:r>
            <a:endParaRPr b="1" i="1" lang="en-US" sz="1600" spc="-1" strike="noStrike">
              <a:solidFill>
                <a:srgbClr val="8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Задачи:</a:t>
            </a:r>
            <a:r>
              <a:rPr b="1" i="1" lang="ru-RU" sz="1400" spc="-1" strike="noStrike">
                <a:solidFill>
                  <a:srgbClr val="376092"/>
                </a:solidFill>
                <a:latin typeface="Arial"/>
                <a:ea typeface="Times New Roman"/>
              </a:rPr>
              <a:t> Учить сочинять этюды по сказкам; развивать навыки действий с воображаемыми предметами; развивать умение пользоваться интонациями, выражающими разнообразные эмоциональные состояния (грустно, радостно, сердито, удивленно, восхищённо, жалобно и т.д.).</a:t>
            </a: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user\Desktop\МАМА\Эльвира\ФОТО\Рисунки\Рисунки 2\Рисунки 2\Фоны\20.jpg"/>
          <p:cNvPicPr/>
          <p:nvPr/>
        </p:nvPicPr>
        <p:blipFill>
          <a:blip r:embed="rId1"/>
          <a:stretch/>
        </p:blipFill>
        <p:spPr>
          <a:xfrm>
            <a:off x="-152280" y="-152280"/>
            <a:ext cx="9448560" cy="7162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user\Desktop\Новая папка\23.jpeg"/>
          <p:cNvPicPr/>
          <p:nvPr/>
        </p:nvPicPr>
        <p:blipFill>
          <a:blip r:embed="rId2"/>
          <a:stretch/>
        </p:blipFill>
        <p:spPr>
          <a:xfrm>
            <a:off x="0" y="228600"/>
            <a:ext cx="2362320" cy="2585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user\Desktop\Новая папка\22.jpeg"/>
          <p:cNvPicPr/>
          <p:nvPr/>
        </p:nvPicPr>
        <p:blipFill>
          <a:blip r:embed="rId3"/>
          <a:stretch/>
        </p:blipFill>
        <p:spPr>
          <a:xfrm>
            <a:off x="3581280" y="1676520"/>
            <a:ext cx="2210040" cy="1958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user\Desktop\Новая папка\i.jpeg"/>
          <p:cNvPicPr/>
          <p:nvPr/>
        </p:nvPicPr>
        <p:blipFill>
          <a:blip r:embed="rId4"/>
          <a:stretch/>
        </p:blipFill>
        <p:spPr>
          <a:xfrm>
            <a:off x="3352680" y="41148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user\Desktop\Новая папка\x_e3d98583.jpg"/>
          <p:cNvPicPr/>
          <p:nvPr/>
        </p:nvPicPr>
        <p:blipFill>
          <a:blip r:embed="rId5"/>
          <a:stretch/>
        </p:blipFill>
        <p:spPr>
          <a:xfrm>
            <a:off x="6553080" y="380880"/>
            <a:ext cx="2433600" cy="2438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user\Desktop\Новая папка\teatr.jpg"/>
          <p:cNvPicPr/>
          <p:nvPr/>
        </p:nvPicPr>
        <p:blipFill>
          <a:blip r:embed="rId6"/>
          <a:stretch/>
        </p:blipFill>
        <p:spPr>
          <a:xfrm>
            <a:off x="5943600" y="3352680"/>
            <a:ext cx="2763720" cy="26193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8"/>
          <p:cNvSpPr/>
          <p:nvPr/>
        </p:nvSpPr>
        <p:spPr>
          <a:xfrm>
            <a:off x="175248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уклы для театра</a:t>
            </a:r>
            <a:endParaRPr b="1" i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8" name="Picture 3" descr="E:\кукольный\матрешка.JPG"/>
          <p:cNvPicPr/>
          <p:nvPr/>
        </p:nvPicPr>
        <p:blipFill>
          <a:blip r:embed="rId7"/>
          <a:stretch/>
        </p:blipFill>
        <p:spPr>
          <a:xfrm>
            <a:off x="0" y="2743200"/>
            <a:ext cx="2057400" cy="2344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E:\кукольный\кукла.JPG"/>
          <p:cNvPicPr/>
          <p:nvPr/>
        </p:nvPicPr>
        <p:blipFill>
          <a:blip r:embed="rId8"/>
          <a:stretch/>
        </p:blipFill>
        <p:spPr>
          <a:xfrm>
            <a:off x="1066680" y="4343400"/>
            <a:ext cx="2133720" cy="2205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user\Desktop\МАМА\Эльвира\ФОТО\Рисунки\Рисунки 2\Рисунки 2\Фоны\20.jpg"/>
          <p:cNvPicPr/>
          <p:nvPr/>
        </p:nvPicPr>
        <p:blipFill>
          <a:blip r:embed="rId1"/>
          <a:stretch/>
        </p:blipFill>
        <p:spPr>
          <a:xfrm>
            <a:off x="-152280" y="-152280"/>
            <a:ext cx="9448560" cy="716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user\Desktop\МАМА\Эльвира\ФОТО\Рисунки\1277997233_pal3_-shablony-dlya-igr.jpg"/>
          <p:cNvPicPr/>
          <p:nvPr/>
        </p:nvPicPr>
        <p:blipFill>
          <a:blip r:embed="rId2"/>
          <a:stretch/>
        </p:blipFill>
        <p:spPr>
          <a:xfrm>
            <a:off x="2438280" y="380880"/>
            <a:ext cx="4505400" cy="6158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user\Desktop\МАМА\Эльвира\ФОТО\Рисунки\Рисунки 2\Рисунки 2\Фоны\20.jpg"/>
          <p:cNvPicPr/>
          <p:nvPr/>
        </p:nvPicPr>
        <p:blipFill>
          <a:blip r:embed="rId1"/>
          <a:stretch/>
        </p:blipFill>
        <p:spPr>
          <a:xfrm>
            <a:off x="-152280" y="-152280"/>
            <a:ext cx="9448560" cy="71625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3"/>
          <p:cNvSpPr/>
          <p:nvPr/>
        </p:nvSpPr>
        <p:spPr>
          <a:xfrm>
            <a:off x="1676520" y="22860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Arial"/>
              </a:rPr>
              <a:t>Забавных настольных актеров – можно связать крючком  или на спицах</a:t>
            </a:r>
            <a:endParaRPr b="1" i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4" name="Picture 4" descr="C:\Users\user\Desktop\Новая папка\22.jpeg"/>
          <p:cNvPicPr/>
          <p:nvPr/>
        </p:nvPicPr>
        <p:blipFill>
          <a:blip r:embed="rId2"/>
          <a:stretch/>
        </p:blipFill>
        <p:spPr>
          <a:xfrm>
            <a:off x="2209680" y="2057400"/>
            <a:ext cx="4905360" cy="434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Пользователь Windows</cp:lastModifiedBy>
  <dcterms:modified xsi:type="dcterms:W3CDTF">2012-03-29T15:04:13Z</dcterms:modified>
  <cp:revision>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