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27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1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47.png" ContentType="image/png"/>
  <Override PartName="/ppt/media/image12.png" ContentType="image/png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11D-A83F-4FFC-8D88-E9CB907E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968-941D-4064-BBF1-BC64B653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997-3FEF-4049-8A03-40C793C3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989-6765-49AA-B9E5-D6D20F65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D784-80D9-4481-8F6F-F19B197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FFD9-FE0F-4993-BB74-ACDD052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6FA1-4936-4EB7-B2A6-89315C0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009-94FF-4B76-A1C0-69D5A1B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172-957A-4E48-88D2-46B0334B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111F-3BC9-48AA-B304-C5B070A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EBB7-15A2-4CCD-A8D1-561A2AB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532-1815-41D6-A0E2-6CF9512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9DA-D8FA-4623-89B8-41002B6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6EB-358F-4CCA-B926-24AC565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86E0-1475-41C5-8DF3-D2700CDC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B465-2360-40B1-B8D1-A7F5028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FDD3-1619-48AF-98A2-9EA8F697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5CC-90AF-4069-AA42-FCDE0ADF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6D8-5DBB-4B79-B8C9-014C0E39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DE0-8491-4720-8997-C311AD4A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604-BB26-468E-A271-2A5D4D6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E27-C16A-4F7A-886F-392590D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4F0-5DAD-46A3-AAB0-D967AB97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DFB-1F9C-438C-A1E9-218E9BC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8FC-598D-404D-B3C9-F3EDF849A7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CC6-A3DB-4D5E-A540-67E8C64191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32.wmf"/><Relationship Id="rId11" Type="http://schemas.openxmlformats.org/officeDocument/2006/relationships/image" Target="../media/image33.png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35.wmf"/><Relationship Id="rId7" Type="http://schemas.openxmlformats.org/officeDocument/2006/relationships/image" Target="../media/image30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66"/>
                </a:solidFill>
                <a:latin typeface="Comic Sans MS"/>
              </a:rPr>
              <a:t>Зачетный урок</a:t>
            </a:r>
            <a:br>
              <a:rPr sz="8000"/>
            </a:br>
            <a:r>
              <a:rPr b="0" lang="ru-RU" sz="4000" spc="-1" strike="noStrike">
                <a:solidFill>
                  <a:srgbClr val="ffcc66"/>
                </a:solidFill>
                <a:latin typeface="Comic Sans MS"/>
              </a:rPr>
              <a:t>Тема: «Углеводороды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Цель: Обобщение знаний по основным классам углеводор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733920" y="1523880"/>
            <a:ext cx="1828800" cy="67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477120" y="1371600"/>
            <a:ext cx="1752480" cy="67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7080" y="4038480"/>
            <a:ext cx="269244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23720" y="2664000"/>
            <a:ext cx="1374840" cy="156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981080" y="2743200"/>
            <a:ext cx="2803680" cy="327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809880" y="2362320"/>
            <a:ext cx="1852560" cy="153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-228600" y="2362320"/>
            <a:ext cx="2362320" cy="742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038480"/>
            <a:ext cx="1905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90720" y="2361960"/>
            <a:ext cx="1522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152280" cy="152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-106200" y="2743200"/>
            <a:ext cx="216360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5638680" y="2362320"/>
            <a:ext cx="3481560" cy="312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838080" y="3657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38080" y="33526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73080" y="3564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7120" y="3564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4800"/>
            <a:ext cx="205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81280" y="1523880"/>
            <a:ext cx="1828800" cy="67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00800" y="1295280"/>
            <a:ext cx="17524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-387360" y="2433600"/>
            <a:ext cx="2751120" cy="706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320" y="2362320"/>
            <a:ext cx="8380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14400" y="2361960"/>
            <a:ext cx="0" cy="75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320" y="2361960"/>
            <a:ext cx="0" cy="75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285640"/>
            <a:ext cx="1522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599840" y="2285640"/>
            <a:ext cx="1522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-152280" y="3281400"/>
            <a:ext cx="2743200" cy="100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35812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86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0880" y="35812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58680" y="2813040"/>
            <a:ext cx="1922400" cy="692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5486400" y="2362320"/>
            <a:ext cx="3581280" cy="2604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2133720" y="2666880"/>
            <a:ext cx="2452680" cy="16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3505320" y="2363760"/>
            <a:ext cx="2743200" cy="1220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5486400" y="4952880"/>
            <a:ext cx="358128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214200" y="4124160"/>
            <a:ext cx="2681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95680"/>
            <a:ext cx="205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733920" y="1523880"/>
            <a:ext cx="1828800" cy="677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400800" y="1295280"/>
            <a:ext cx="1752480" cy="67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-228600" y="2363760"/>
            <a:ext cx="2363760" cy="793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43000" y="2362320"/>
            <a:ext cx="152280" cy="152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90720" y="2361960"/>
            <a:ext cx="1522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-76320" y="2751120"/>
            <a:ext cx="1641600" cy="512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158760" y="3051000"/>
            <a:ext cx="2098800" cy="165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2133720" y="2673360"/>
            <a:ext cx="2286000" cy="2203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3651120" y="2363760"/>
            <a:ext cx="2116440" cy="2046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5656320" y="2362320"/>
            <a:ext cx="3429000" cy="3047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52560" y="4467240"/>
            <a:ext cx="2185920" cy="2543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380880" y="373356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18960" y="34290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7339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581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4290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86200"/>
            <a:ext cx="205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990720" y="2361960"/>
            <a:ext cx="1522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362320"/>
            <a:ext cx="152280" cy="152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228600" y="2362320"/>
            <a:ext cx="2363760" cy="793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33720" y="2590920"/>
            <a:ext cx="1746000" cy="2415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057400" cy="674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-299880" y="3138480"/>
            <a:ext cx="4795560" cy="1585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3733920" y="1523880"/>
            <a:ext cx="1828800" cy="677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400800" y="1295280"/>
            <a:ext cx="1752480" cy="673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3581280" y="2438280"/>
            <a:ext cx="297180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5715000" y="2362320"/>
            <a:ext cx="3352680" cy="2590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127080" y="4038480"/>
            <a:ext cx="2692440" cy="2743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1752480" cy="673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733920" y="1523880"/>
            <a:ext cx="182880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63868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657600"/>
            <a:ext cx="205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-304920" y="2438280"/>
            <a:ext cx="2751120" cy="689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V="1">
            <a:off x="1219320" y="2285640"/>
            <a:ext cx="1522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371240" y="2285640"/>
            <a:ext cx="1522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1066680" y="2285640"/>
            <a:ext cx="15264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14400" y="2285640"/>
            <a:ext cx="1522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0" y="2754360"/>
            <a:ext cx="2057400" cy="674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-299880" y="3122640"/>
            <a:ext cx="4338360" cy="969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2133720" y="2592360"/>
            <a:ext cx="1606320" cy="1569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127080" y="3733920"/>
            <a:ext cx="269244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5715000" y="2335320"/>
            <a:ext cx="3381480" cy="2388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3616200" y="2451240"/>
            <a:ext cx="2046240" cy="1569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32040" y="3259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2636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990720"/>
            <a:ext cx="0" cy="5410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9907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1828800" cy="671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38080" cy="33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363760" y="1217520"/>
            <a:ext cx="1522440" cy="987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733920" y="1523880"/>
            <a:ext cx="1828800" cy="677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400800" y="1295280"/>
            <a:ext cx="1752480" cy="673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4724280"/>
            <a:ext cx="205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0" y="2363760"/>
            <a:ext cx="2363760" cy="793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V="1">
            <a:off x="990720" y="2361960"/>
            <a:ext cx="1522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362320"/>
            <a:ext cx="152280" cy="152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76320" y="2743200"/>
            <a:ext cx="2057400" cy="67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-60480" y="3122640"/>
            <a:ext cx="2540160" cy="1763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456840" y="3276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5960" y="377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3276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13000" y="3751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7040" y="4343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142640" y="4343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23840" y="4809960"/>
            <a:ext cx="2681280" cy="2733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33520" y="3429000"/>
            <a:ext cx="685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2133720" y="2592360"/>
            <a:ext cx="2579400" cy="3579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581280" y="2433600"/>
            <a:ext cx="243864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5697360" y="2362320"/>
            <a:ext cx="3429000" cy="2504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3">
            <a:lum bright="12000"/>
          </a:blip>
          <a:stretch/>
        </p:blipFill>
        <p:spPr>
          <a:xfrm>
            <a:off x="5697360" y="4800600"/>
            <a:ext cx="3429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41:21Z</dcterms:created>
  <dc:creator>Astor</dc:creator>
  <dc:description/>
  <dc:language>en-US</dc:language>
  <cp:lastModifiedBy>Astor</cp:lastModifiedBy>
  <cp:lastPrinted>2001-02-06T10:10:00Z</cp:lastPrinted>
  <dcterms:modified xsi:type="dcterms:W3CDTF">2001-01-11T14:28:05Z</dcterms:modified>
  <cp:revision>15</cp:revision>
  <dc:subject/>
  <dc:title>Зачетный урок Тема: «Углеводороды»    Цель: Обобщение знаний по основным классам углеводородов </dc:title>
</cp:coreProperties>
</file>