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6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2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09F1-7503-4BFA-91B0-DCE119EAD1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638E-3805-4AFA-8098-007621637F52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AE6-6636-4AA2-B79D-4F5F797A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5B08-E479-4FA6-A0D3-97F364F0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C4150E-EDF2-4A28-9953-2C4BFDFC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4B6746-4CC6-48D6-B7DA-51602B98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FF83A0-468C-4005-8A45-7DC3AC57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998A84-024D-41E4-BB4C-61D45A5E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9987B6-52DC-4AF7-AB64-E01DB94C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385F07-CAFD-426A-8122-75068008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F982DE-2F6A-48CD-8FFC-E51F6961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00E12B-FC09-49AD-B970-923F7481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AD9DD3-9EFF-4596-BE3E-8B0B4470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460-3C07-4F6F-9757-999F590C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727-A79B-45C5-A89B-B097DE96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C8137-343E-42B2-8949-60CC37FB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0905A-3B0A-4C37-A95A-B16CD6BB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A6C40-F4BC-43AB-B0C0-AFA4F8A7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FE266-DCF9-4295-85E3-7442D5B1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D14EC-7FFC-46C2-A1D8-73666784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6B21E-03BD-4AAD-B204-5C6C6D7B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5E1C8-2B48-4313-BDBC-A2FF4531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24C-FACB-49F1-8D93-B6BA8285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51079-4EA2-468D-B3D9-65D5A242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765BC-0621-4D35-B87A-D40189E6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7345D-E37D-4744-86B3-74916A64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BA6C8-787F-455F-BCF4-4CD335C3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1C7B1-6FC8-4BA0-9A59-379E2F3D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1163D-EDD1-4CCC-84E8-F700F8AC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90422-2B76-427F-A078-E54CF4A0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50758-BDD9-4A5B-9E64-9C827121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32A14-10A9-4CF8-9256-BEAFC978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75EDF-DA4D-46F6-9A2D-CE038959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750-1127-4E43-8419-33D18F4E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FC8BE-DB23-4140-A6FC-1AE89C00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37478-5216-4C7A-AA7A-BFF3399D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70CEB-ECE3-4EF1-A645-95CB346B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B313D-9039-4736-B313-81A9662B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6D98B-BE9C-4C5B-BF97-61BC732B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E20F2-18FE-4D14-B2F2-89F8AF44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2F05C-5F4D-4545-9C4D-EA664E45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0EA1DF-1099-4AE7-8069-C14D305E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23D307-146A-4517-A05B-8BF7A441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43ABC5-5F3B-41EF-A0C2-8C6A3D8B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D10F-E539-4F79-A059-82BFC3A7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3CAF43-8612-41DC-A281-EB13022D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FCDDB7-15BB-4AD1-B467-B1976FAC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58D3C2-729B-479C-BCAF-D33A1ED4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999279-2A55-4CD5-AC67-7909FC04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A59EB8-1771-4AD0-A21A-A7C85664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30E915-FFF2-4B9A-BE3B-F3A274A9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087C71-7731-4186-864A-7103BED2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33D5E3-AA90-4896-B6C7-9FFDD426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9BE8DF-9FBC-40E7-B6EE-588623A4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BA2AD-5EF1-493C-B9A9-B431F327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B2C-019C-478E-8CF2-3E4ED77B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78267-4265-4738-9F2C-812D6828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237C6-1687-4008-89EB-984C6D40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983BA-7E69-44E1-A3FA-4E0670A9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C44F1-A6AA-43B8-AC0D-B6DE4D98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979C3-D22F-4102-8C42-D3D9CCB0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DCF29-AFF6-4D13-A751-95CFDBB0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5C1D7-3543-4605-BA2E-D6FA66EA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0C4A8-1383-4003-8767-06E359ED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0ED2F-F6CB-4AAD-A28A-9067A5FF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12368-2FC7-4A16-BAE1-2561AD66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EC3-4BFD-42C0-8055-35CE27A7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C64C5-CC6F-4B3C-8D40-11F8CFCC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40397-F22E-4620-BD5C-47975B12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BCEC9-E26B-4048-A0EC-82A2F2AA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1955A-DA4D-47F8-8846-7829F47F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9391D-41EA-458D-B275-BD914065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49291-7617-4A92-9041-E0875474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789D9-5937-42B3-8716-89540020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F927D-020E-47F4-A80D-7CA93D01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FBDB7-F02D-477A-936F-3F878172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E4C90-269C-4887-A5F8-B2E42850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8FBC-D631-4C30-BB22-EE0FBFD8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36817-6504-424B-92C6-F5D31F6C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99B4E-A8FF-42C6-8E49-B908ADD8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C5684-0935-45B4-80E1-B54A296D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04BE7-A9C7-4C32-86E3-056DB1F3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ACFFA-3A7A-4E5B-B077-B62238AA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C3BAC-D2E6-4F38-8D41-289FED02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17B06-E024-4028-B765-FA49B800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AD527-8398-4B7B-A430-5F19E204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99CD0-6FD0-4BBE-8D2E-2437B0B5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75082-323F-46ED-98C7-B94D5A4E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82C3-C12A-4AC6-84AA-20A9AFBF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1AE17-F396-443B-A0ED-27CDF15B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2B6E3-3295-41E2-9A07-5EB28556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60522-0228-4ADF-9D37-19A05FF9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1F3EB-1D05-4FDB-B0F1-0E2867A5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2970A-08C9-4E24-8001-CB54ACE6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B06F62-98CE-42FE-B9EB-08D5E84E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56A406-D800-434B-95BB-6D345CFD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35BB5B-DCDE-4455-964A-F0D0A9BE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EFFE83-A004-4C28-9CE0-9FEDBE74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E19CA6-BD56-468E-81BE-62486400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0EE-08E0-4383-8A1D-1DA63F27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F2E4ED-01D3-427A-A45A-8E87C5EF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0129EB-3AFC-44D2-97F0-5BDBACD6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0E0A02-B584-4C8B-A0C6-61A9E262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077F72-A59B-4130-B59E-0E088860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F2B921-EC5A-4C05-9E0E-141C2DA9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F8DDA9-7004-4B06-AD9B-1BC2FDA2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E31D37-DD01-4E04-9FFB-B8574FF2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082166-494F-43D2-BF69-50FD932E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A526F8-9D45-4A56-B755-A864FA48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8E973C-BF2A-45A9-880F-7EBA70EF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65D5-4853-43F5-B0CA-12961A1DA1D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88A1-576C-4504-83C8-434D3EF2E9A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FC78-5FAE-48DF-B514-6F00A997050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33A6-CBAA-4FAF-8623-AD399DC3826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6C71-74F4-4274-A42F-62808E9A9FB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6136-A146-461C-B842-8867C07E2A7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3672-1129-4103-BDCD-D22292157503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181F-7453-4239-AE45-86FADE3C878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952C-3B21-4451-9337-203293E9562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785880" y="285840"/>
            <a:ext cx="7907400" cy="18842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584080" y="2571840"/>
            <a:ext cx="6559560" cy="200952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икула  Селянинович  и Вольга Святославович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ыполнила ученица 7 класса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Шмелева Анастасия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Picture 2" descr="C:\Users\user-home\Desktop\быль.jpg"/>
          <p:cNvPicPr/>
          <p:nvPr/>
        </p:nvPicPr>
        <p:blipFill>
          <a:blip r:embed="rId2"/>
          <a:stretch/>
        </p:blipFill>
        <p:spPr>
          <a:xfrm>
            <a:off x="0" y="3284640"/>
            <a:ext cx="5318280" cy="3573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А кто скажет, что означает существительное</a:t>
            </a:r>
            <a:r>
              <a:rPr b="0" i="1" lang="ru-RU" sz="2800" spc="-1" strike="noStrike">
                <a:solidFill>
                  <a:srgbClr val="ffffff"/>
                </a:solidFill>
                <a:latin typeface="Cambria"/>
              </a:rPr>
              <a:t> мех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 в выражении «соли три меха»?.. Сравните пары слов: </a:t>
            </a:r>
            <a:r>
              <a:rPr b="0" i="1" lang="ru-RU" sz="2800" spc="-1" strike="noStrike">
                <a:solidFill>
                  <a:srgbClr val="ffffff"/>
                </a:solidFill>
                <a:latin typeface="Cambria"/>
              </a:rPr>
              <a:t>стих – стишок, смех – смешок, мех – 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? </a:t>
            </a:r>
            <a:r>
              <a:rPr b="0" i="1" lang="ru-RU" sz="2800" spc="-1" strike="noStrike">
                <a:solidFill>
                  <a:srgbClr val="ffffff"/>
                </a:solidFill>
                <a:latin typeface="Cambria"/>
              </a:rPr>
              <a:t>(Мешок.)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 </a:t>
            </a:r>
            <a:r>
              <a:rPr b="0" i="1" lang="ru-RU" sz="2800" spc="-1" strike="noStrike">
                <a:solidFill>
                  <a:srgbClr val="ffffff"/>
                </a:solidFill>
                <a:latin typeface="Cambria"/>
              </a:rPr>
              <a:t>Мех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 – мешок из шкур животных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4" name="Содержимое 4" descr="быль2.jpg"/>
          <p:cNvPicPr/>
          <p:nvPr/>
        </p:nvPicPr>
        <p:blipFill>
          <a:blip r:embed="rId1"/>
          <a:stretch/>
        </p:blipFill>
        <p:spPr>
          <a:xfrm>
            <a:off x="4572000" y="1785960"/>
            <a:ext cx="4214880" cy="41432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4" descr=""/>
          <p:cNvPicPr/>
          <p:nvPr/>
        </p:nvPicPr>
        <p:blipFill>
          <a:blip r:embed="rId1"/>
          <a:stretch/>
        </p:blipFill>
        <p:spPr>
          <a:xfrm>
            <a:off x="1262160" y="4724280"/>
            <a:ext cx="7113600" cy="25243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549360"/>
            <a:ext cx="40384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74320" indent="-2743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Микула говорит Вольге, что в тех городах живут мужики-разбойники, они подрубят у моста </a:t>
            </a:r>
            <a:r>
              <a:rPr b="1" i="1" lang="ru-RU" sz="2400" spc="-1" strike="noStrike">
                <a:solidFill>
                  <a:srgbClr val="ffffff"/>
                </a:solidFill>
                <a:latin typeface="Cambria"/>
              </a:rPr>
              <a:t>сляги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 (длинные бревна, на которые настилается мост) – подрубят сляги и потопят князя в речке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74320" indent="-2743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сля́га́ "тонкое, длинное бревно, рычаг", арханг., слега́ – то же (Даль), слёга "тонкая, длинная жердь", донск. (Миртов),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74320" indent="-2743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7" name="Содержимое 6" descr="быль3.jpg"/>
          <p:cNvPicPr/>
          <p:nvPr/>
        </p:nvPicPr>
        <p:blipFill>
          <a:blip r:embed="rId2"/>
          <a:stretch/>
        </p:blipFill>
        <p:spPr>
          <a:xfrm>
            <a:off x="5072040" y="382680"/>
            <a:ext cx="3429000" cy="4395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333000"/>
            <a:ext cx="4038480" cy="75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Два глагола – </a:t>
            </a:r>
            <a:r>
              <a:rPr b="0" i="1" lang="ru-RU" sz="2000" spc="-1" strike="noStrike">
                <a:solidFill>
                  <a:srgbClr val="ffffff"/>
                </a:solidFill>
                <a:latin typeface="Cambria"/>
              </a:rPr>
              <a:t>пахать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 и </a:t>
            </a:r>
            <a:r>
              <a:rPr b="0" i="1" lang="ru-RU" sz="2000" spc="-1" strike="noStrike">
                <a:solidFill>
                  <a:srgbClr val="ffffff"/>
                </a:solidFill>
                <a:latin typeface="Cambria"/>
              </a:rPr>
              <a:t>орать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 в значении «взрыхлять землю» – сосуществуют в большинстве тех мест, где известен глагол </a:t>
            </a:r>
            <a:r>
              <a:rPr b="0" i="1" lang="ru-RU" sz="2000" spc="-1" strike="noStrike">
                <a:solidFill>
                  <a:srgbClr val="ffffff"/>
                </a:solidFill>
                <a:latin typeface="Cambria"/>
              </a:rPr>
              <a:t>орать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. Являются ли они синонимами?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        Как правило, под хлебные злаки землю обрабатывали два-три раза, особенно это требовалось для озимой ржи и пшеницы. Поэтому при употреблении в одном говоре обоих глаголов один из них может означать первичную вспашку, и даже процесс поднятия целины, а другой – вторичную пахоту или пахоту по третьему разу. В ряде мест глагол </a:t>
            </a:r>
            <a:r>
              <a:rPr b="0" i="1" lang="ru-RU" sz="2000" spc="-1" strike="noStrike">
                <a:solidFill>
                  <a:srgbClr val="ffffff"/>
                </a:solidFill>
                <a:latin typeface="Cambria"/>
              </a:rPr>
              <a:t>пахать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имеет значение «возделывать какую-либо определенную культуру», например: </a:t>
            </a:r>
            <a:r>
              <a:rPr b="0" i="1" lang="ru-RU" sz="2000" spc="-1" strike="noStrike">
                <a:solidFill>
                  <a:srgbClr val="ffffff"/>
                </a:solidFill>
                <a:latin typeface="Cambria"/>
              </a:rPr>
              <a:t>бывало, пахали белую свеклу, раньше лен пахали, жито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9" name="Содержимое 4" descr="ill00287.jpg"/>
          <p:cNvPicPr/>
          <p:nvPr/>
        </p:nvPicPr>
        <p:blipFill>
          <a:blip r:embed="rId1"/>
          <a:stretch/>
        </p:blipFill>
        <p:spPr>
          <a:xfrm>
            <a:off x="4500720" y="549360"/>
            <a:ext cx="4248000" cy="271944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5" descr="634913.jpg"/>
          <p:cNvPicPr/>
          <p:nvPr/>
        </p:nvPicPr>
        <p:blipFill>
          <a:blip r:embed="rId2"/>
          <a:stretch/>
        </p:blipFill>
        <p:spPr>
          <a:xfrm>
            <a:off x="4489560" y="3500280"/>
            <a:ext cx="4201920" cy="2808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6840" y="3428640"/>
            <a:ext cx="7931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        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Возможно, вы знаете, что наши предки обрабатывали землю простейшими орудиями: </a:t>
            </a: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ралом, сохой, косулей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 (один из видов сохи), </a:t>
            </a: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плугом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. И вот, оказывается, в говорах наблюдается разная сочетаемость слов: один глагол употребляется, когда речь идет об одном орудии, а другой – о другом. Так, в ряде мест </a:t>
            </a: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орут сохой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, а </a:t>
            </a: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пашут плугом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, в других же районах наоборот: </a:t>
            </a: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орут плугом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,, а </a:t>
            </a: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пашут сохой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(подобный пример находим в Словаре В. И. Даля)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2" name="Содержимое 4" descr="plough.JPG"/>
          <p:cNvPicPr/>
          <p:nvPr/>
        </p:nvPicPr>
        <p:blipFill>
          <a:blip r:embed="rId1"/>
          <a:stretch/>
        </p:blipFill>
        <p:spPr>
          <a:xfrm>
            <a:off x="684360" y="692280"/>
            <a:ext cx="4476600" cy="234000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5" descr="pic1_2.jpg"/>
          <p:cNvPicPr/>
          <p:nvPr/>
        </p:nvPicPr>
        <p:blipFill>
          <a:blip r:embed="rId2"/>
          <a:stretch/>
        </p:blipFill>
        <p:spPr>
          <a:xfrm>
            <a:off x="5292720" y="620640"/>
            <a:ext cx="3610080" cy="23655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6840" y="4436640"/>
            <a:ext cx="814716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В «Слове о полку Игореве» употреблено название пахарей – </a:t>
            </a:r>
            <a:r>
              <a:rPr b="0" i="1" lang="ru-RU" sz="2200" spc="-1" strike="noStrike">
                <a:solidFill>
                  <a:srgbClr val="ffffff"/>
                </a:solidFill>
                <a:latin typeface="Cambria"/>
              </a:rPr>
              <a:t>ратаеве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 . </a:t>
            </a:r>
            <a:r>
              <a:rPr b="0" i="1" lang="ru-RU" sz="2200" spc="-1" strike="noStrike">
                <a:solidFill>
                  <a:srgbClr val="ffffff"/>
                </a:solidFill>
                <a:latin typeface="Cambria"/>
              </a:rPr>
              <a:t>Тогда по русской земле редко ратаеве кикахуть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… [покрикивали]. Вспомним и крылатое выражение из Библии: «…и перекуют мечи свои </a:t>
            </a:r>
            <a:r>
              <a:rPr b="0" i="1" lang="ru-RU" sz="2200" spc="-1" strike="noStrike">
                <a:solidFill>
                  <a:srgbClr val="ffffff"/>
                </a:solidFill>
                <a:latin typeface="Cambria"/>
              </a:rPr>
              <a:t>на орала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, и копья свои – на серпы», т. е. на мирные крестьянские орудия, необходимые в каждом хозяйстве. 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00000" y="3644640"/>
            <a:ext cx="42544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Слово о полку Игореве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6" name="Рисунок 4" descr="ae73ede33a87.jpg"/>
          <p:cNvPicPr/>
          <p:nvPr/>
        </p:nvPicPr>
        <p:blipFill>
          <a:blip r:embed="rId1"/>
          <a:stretch/>
        </p:blipFill>
        <p:spPr>
          <a:xfrm>
            <a:off x="755640" y="404640"/>
            <a:ext cx="4416480" cy="3098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6840" y="549000"/>
            <a:ext cx="4475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Предположительно произошли от одной основы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СОХА. Общеслав. Основа та же, что в посох, сук, латышск. saka "развилка у дерева", н.-перс. šax "ветка, сук, рог" и т. д. Исходное значение — "развилка, вилы, рога" (ср. сохатый — "с рогами (олень, лось)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СОХ. Искон. Преф. производное от несохранившегося сохъ (ср. вариант ж. р. соха). Исконно — "палка с загнутым концом" (одним, а не двумя, как у сохи)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8" name="Содержимое 4" descr="1245409067_01000509.jpg"/>
          <p:cNvPicPr/>
          <p:nvPr/>
        </p:nvPicPr>
        <p:blipFill>
          <a:blip r:embed="rId1"/>
          <a:stretch/>
        </p:blipFill>
        <p:spPr>
          <a:xfrm>
            <a:off x="7093080" y="404640"/>
            <a:ext cx="1511280" cy="312120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5" descr="cd87b4e01f416cf125f31b994847ff61.jpg"/>
          <p:cNvPicPr/>
          <p:nvPr/>
        </p:nvPicPr>
        <p:blipFill>
          <a:blip r:embed="rId2"/>
          <a:stretch/>
        </p:blipFill>
        <p:spPr>
          <a:xfrm>
            <a:off x="4932360" y="3500280"/>
            <a:ext cx="3809880" cy="30196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116000" y="1645920"/>
            <a:ext cx="75708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2" name="Picture 4" descr="братина"/>
          <p:cNvPicPr/>
          <p:nvPr/>
        </p:nvPicPr>
        <p:blipFill>
          <a:blip r:embed="rId2"/>
          <a:stretch/>
        </p:blipFill>
        <p:spPr>
          <a:xfrm>
            <a:off x="1116000" y="1700280"/>
            <a:ext cx="7416720" cy="45370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5" name="Picture 4" descr="чара"/>
          <p:cNvPicPr/>
          <p:nvPr/>
        </p:nvPicPr>
        <p:blipFill>
          <a:blip r:embed="rId2"/>
          <a:stretch/>
        </p:blipFill>
        <p:spPr>
          <a:xfrm>
            <a:off x="1042920" y="1773360"/>
            <a:ext cx="6972480" cy="4680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8" name="Picture 4" descr="гусли"/>
          <p:cNvPicPr/>
          <p:nvPr/>
        </p:nvPicPr>
        <p:blipFill>
          <a:blip r:embed="rId2"/>
          <a:stretch/>
        </p:blipFill>
        <p:spPr>
          <a:xfrm>
            <a:off x="539640" y="1413000"/>
            <a:ext cx="4392720" cy="4653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гудок2"/>
          <p:cNvPicPr/>
          <p:nvPr/>
        </p:nvPicPr>
        <p:blipFill>
          <a:blip r:embed="rId3"/>
          <a:stretch/>
        </p:blipFill>
        <p:spPr>
          <a:xfrm>
            <a:off x="5003640" y="1413000"/>
            <a:ext cx="3961080" cy="4752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0" y="-212760"/>
            <a:ext cx="7858080" cy="17924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8686800" y="1646280"/>
            <a:ext cx="46080" cy="6840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52" name="Содержимое 6" descr="x_6a75085d.jpg"/>
          <p:cNvPicPr/>
          <p:nvPr/>
        </p:nvPicPr>
        <p:blipFill>
          <a:blip r:embed="rId2"/>
          <a:stretch/>
        </p:blipFill>
        <p:spPr>
          <a:xfrm>
            <a:off x="539640" y="1700280"/>
            <a:ext cx="8116920" cy="4817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6840" y="4005360"/>
            <a:ext cx="8218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Былины создавались и передавались от поколения к поколению простым трудовым народом, который на своих плечах выносил и тяготы военных подвигов, и тяжкий повседневный крестьянский труд. Через былины простые труженики пытались скрасить хотя бы в своем воображении непомерное бремя трудовых и ратных подвигов, показать величие человека труда и его превосходство над остальными. В народе любили былинных богатырей.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Содержимое 4" descr="14834298_inf_2264_tag.jpg"/>
          <p:cNvPicPr/>
          <p:nvPr/>
        </p:nvPicPr>
        <p:blipFill>
          <a:blip r:embed="rId1"/>
          <a:stretch/>
        </p:blipFill>
        <p:spPr>
          <a:xfrm>
            <a:off x="1476360" y="333360"/>
            <a:ext cx="5832360" cy="3692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620640"/>
            <a:ext cx="40384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Былины обычно воспевают </a:t>
            </a:r>
            <a:r>
              <a:rPr b="1" lang="ru-RU" sz="2600" spc="-1" strike="noStrike">
                <a:solidFill>
                  <a:srgbClr val="ffffff"/>
                </a:solidFill>
                <a:latin typeface="Cambria"/>
              </a:rPr>
              <a:t>воинские</a:t>
            </a: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      подвиги богатырей. Мы же поговорим о богатыре- пахаре, оратае Микуле Селяниновиче.                  </a:t>
            </a:r>
            <a:r>
              <a:rPr b="0" i="1" lang="ru-RU" sz="2600" spc="-1" strike="noStrike">
                <a:solidFill>
                  <a:srgbClr val="ffffff"/>
                </a:solidFill>
                <a:latin typeface="Cambria"/>
              </a:rPr>
              <a:t>Селянинович </a:t>
            </a: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– от существительного </a:t>
            </a:r>
            <a:r>
              <a:rPr b="0" i="1" lang="ru-RU" sz="2600" spc="-1" strike="noStrike">
                <a:solidFill>
                  <a:srgbClr val="ffffff"/>
                </a:solidFill>
                <a:latin typeface="Cambria"/>
              </a:rPr>
              <a:t>село</a:t>
            </a: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. Отчество, а вернее, прозвище </a:t>
            </a:r>
            <a:r>
              <a:rPr b="0" i="1" lang="ru-RU" sz="2600" spc="-1" strike="noStrike">
                <a:solidFill>
                  <a:srgbClr val="ffffff"/>
                </a:solidFill>
                <a:latin typeface="Cambria"/>
              </a:rPr>
              <a:t>Селянинович</a:t>
            </a:r>
            <a:r>
              <a:rPr b="0" lang="ru-RU" sz="2600" spc="-1" strike="noStrike">
                <a:solidFill>
                  <a:srgbClr val="ffffff"/>
                </a:solidFill>
                <a:latin typeface="Cambria"/>
              </a:rPr>
              <a:t> указывает на то, что Микула – сельский житель, крестьянин</a:t>
            </a:r>
            <a:r>
              <a:rPr b="0" i="1" lang="ru-RU" sz="26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Содержимое 4" descr="250px-Микула_Селянинович.jpg"/>
          <p:cNvPicPr/>
          <p:nvPr/>
        </p:nvPicPr>
        <p:blipFill>
          <a:blip r:embed="rId1"/>
          <a:stretch/>
        </p:blipFill>
        <p:spPr>
          <a:xfrm>
            <a:off x="4643280" y="549360"/>
            <a:ext cx="4141800" cy="5549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620640"/>
            <a:ext cx="40384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Как орет в поле оратай – посвистывает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А бороздочки он да пометывает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А пенья-коренья вывертывает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А большие-то каменья в борозду валит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У оратая кобыла соловая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Гужики у нее да шелковые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Сошка у оратая кленовая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Омешики на сошке булатные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Присошечек у сошки серебряный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А рогачик-то у сошки красна золо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Содержимое 4" descr="250px-Volga_bilibin03.jpg"/>
          <p:cNvPicPr/>
          <p:nvPr/>
        </p:nvPicPr>
        <p:blipFill>
          <a:blip r:embed="rId1"/>
          <a:stretch/>
        </p:blipFill>
        <p:spPr>
          <a:xfrm>
            <a:off x="4643280" y="549360"/>
            <a:ext cx="4138920" cy="5627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39640" y="4292280"/>
            <a:ext cx="813600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Микула </a:t>
            </a:r>
            <a:r>
              <a:rPr b="1" i="1" lang="ru-RU" sz="2400" spc="-1" strike="noStrike">
                <a:solidFill>
                  <a:srgbClr val="ffffff"/>
                </a:solidFill>
                <a:latin typeface="Cambria"/>
              </a:rPr>
              <a:t>орет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(пашет) </a:t>
            </a:r>
            <a:r>
              <a:rPr b="1" i="1" lang="ru-RU" sz="2400" spc="-1" strike="noStrike">
                <a:solidFill>
                  <a:srgbClr val="ffffff"/>
                </a:solidFill>
                <a:latin typeface="Cambria"/>
              </a:rPr>
              <a:t>сошкой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. «</a:t>
            </a:r>
            <a:r>
              <a:rPr b="1" i="1" lang="ru-RU" sz="2400" spc="-1" strike="noStrike">
                <a:solidFill>
                  <a:srgbClr val="ffffff"/>
                </a:solidFill>
                <a:latin typeface="Cambria"/>
              </a:rPr>
              <a:t>Омешики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 на сошке булатные»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65680" indent="-265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ambria"/>
              </a:rPr>
              <a:t>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mbria"/>
              </a:rPr>
              <a:t>ОМЕЖА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mbria"/>
              </a:rPr>
              <a:t>, омежь жен.,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65680" indent="-265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У сохи, которой пашет Микула, омешики </a:t>
            </a: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булатные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, то есть сделаны из самого хорошего металла, из була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Содержимое 4" descr="cd87b4e01f416cf125f31b994847ff61.jpg"/>
          <p:cNvPicPr/>
          <p:nvPr/>
        </p:nvPicPr>
        <p:blipFill>
          <a:blip r:embed="rId1"/>
          <a:stretch/>
        </p:blipFill>
        <p:spPr>
          <a:xfrm>
            <a:off x="1500120" y="642960"/>
            <a:ext cx="6072120" cy="3492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826560" y="765000"/>
            <a:ext cx="381636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Вот «при сохе» </a:t>
            </a:r>
            <a:r>
              <a:rPr b="1" i="1" lang="ru-RU" sz="2400" spc="-1" strike="noStrike">
                <a:solidFill>
                  <a:srgbClr val="ffffff"/>
                </a:solidFill>
                <a:latin typeface="Cambria"/>
              </a:rPr>
              <a:t>присошек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, лопатка для отворота земли, для того, чтобы землю «в борозду валить». «Присошечек у сошки серебряный». </a:t>
            </a:r>
            <a:r>
              <a:rPr b="1" i="1" lang="ru-RU" sz="2400" spc="-1" strike="noStrike">
                <a:solidFill>
                  <a:srgbClr val="ffffff"/>
                </a:solidFill>
                <a:latin typeface="Cambria"/>
              </a:rPr>
              <a:t>Рогачик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 – рукоятка сохи. «А рогачик-то у сошки красна золота»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Это</a:t>
            </a:r>
            <a:r>
              <a:rPr b="1" i="1" lang="ru-RU" sz="2400" spc="-1" strike="noStrike">
                <a:solidFill>
                  <a:srgbClr val="ffffff"/>
                </a:solidFill>
                <a:latin typeface="Cambria"/>
              </a:rPr>
              <a:t> обжи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, между ними находилась лошадь. На шею лошади надевали </a:t>
            </a: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хомут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, обжи привязывались к хомуту </a:t>
            </a:r>
            <a:r>
              <a:rPr b="1" i="1" lang="ru-RU" sz="2400" spc="-1" strike="noStrike">
                <a:solidFill>
                  <a:srgbClr val="ffffff"/>
                </a:solidFill>
                <a:latin typeface="Cambria"/>
              </a:rPr>
              <a:t>гужами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. «Гужики у нее да шелковые»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Содержимое 3" descr="i.jpg"/>
          <p:cNvPicPr/>
          <p:nvPr/>
        </p:nvPicPr>
        <p:blipFill>
          <a:blip r:embed="rId1"/>
          <a:stretch/>
        </p:blipFill>
        <p:spPr>
          <a:xfrm>
            <a:off x="4643280" y="1700280"/>
            <a:ext cx="4129200" cy="3539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764640"/>
            <a:ext cx="40384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«У нее» – то есть у лошади. А лошадь у Микулы </a:t>
            </a:r>
            <a:r>
              <a:rPr b="0" i="1" lang="ru-RU" sz="2200" spc="-1" strike="noStrike">
                <a:solidFill>
                  <a:srgbClr val="ffffff"/>
                </a:solidFill>
                <a:latin typeface="Cambria"/>
              </a:rPr>
              <a:t>соловая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. Смотрите в тексте: «У оратая кобыла соловая». Соловая</a:t>
            </a:r>
            <a:r>
              <a:rPr b="0" i="1" lang="ru-RU" sz="2200" spc="-1" strike="noStrike">
                <a:solidFill>
                  <a:srgbClr val="ffffff"/>
                </a:solidFill>
                <a:latin typeface="Cambria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лошадь – это лошадь такой масти: сама светло-коричневая, но хвост и грива белые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Кобыла у богатыря пахаря тоже богатырская. Если Микулина кобыла </a:t>
            </a:r>
            <a:r>
              <a:rPr b="1" i="1" lang="ru-RU" sz="2200" spc="-1" strike="noStrike">
                <a:solidFill>
                  <a:srgbClr val="ffffff"/>
                </a:solidFill>
                <a:latin typeface="Cambria"/>
              </a:rPr>
              <a:t>ступью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 идет (от глагола </a:t>
            </a:r>
            <a:r>
              <a:rPr b="0" i="1" lang="ru-RU" sz="2200" spc="-1" strike="noStrike">
                <a:solidFill>
                  <a:srgbClr val="ffffff"/>
                </a:solidFill>
                <a:latin typeface="Cambria"/>
              </a:rPr>
              <a:t>ступать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), то другим лошадям приходится уже скакать, чтобы не отстать от нее; а если она </a:t>
            </a:r>
            <a:r>
              <a:rPr b="1" i="1" lang="ru-RU" sz="2200" spc="-1" strike="noStrike">
                <a:solidFill>
                  <a:srgbClr val="ffffff"/>
                </a:solidFill>
                <a:latin typeface="Cambria"/>
              </a:rPr>
              <a:t>грудью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 пойдет, за ней уже никакому коню не угнаться. 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Содержимое 6" descr="0_4f610_3c0234c1_XL.jpg"/>
          <p:cNvPicPr/>
          <p:nvPr/>
        </p:nvPicPr>
        <p:blipFill>
          <a:blip r:embed="rId1"/>
          <a:stretch/>
        </p:blipFill>
        <p:spPr>
          <a:xfrm>
            <a:off x="5867280" y="260280"/>
            <a:ext cx="2881440" cy="257184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7" descr="0_4f610_3c0234c1_XL.jpg"/>
          <p:cNvPicPr/>
          <p:nvPr/>
        </p:nvPicPr>
        <p:blipFill>
          <a:blip r:embed="rId2"/>
          <a:stretch/>
        </p:blipFill>
        <p:spPr>
          <a:xfrm>
            <a:off x="4427640" y="2809800"/>
            <a:ext cx="4321080" cy="34718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500040" y="1785600"/>
            <a:ext cx="4038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А у оратая кудри качаются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Что не скачен ли жемчуг рассыпаются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«Скачен жемчуг», или «скаченый жемчуг» – отборный жемчуг, круглый, ровный, высшего сорта. Представьте себе: высыпали из мешочка жемчуг, и покатились жемчужные шарики по столу. «У оратая кудри... что не скачен ли жемчуг рассыпаются»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8" name="Содержимое 4" descr="getphoto.php.jpg"/>
          <p:cNvPicPr/>
          <p:nvPr/>
        </p:nvPicPr>
        <p:blipFill>
          <a:blip r:embed="rId1"/>
          <a:stretch/>
        </p:blipFill>
        <p:spPr>
          <a:xfrm>
            <a:off x="4788000" y="2349360"/>
            <a:ext cx="3024000" cy="403236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5" descr="getphoto.php.jpg"/>
          <p:cNvPicPr/>
          <p:nvPr/>
        </p:nvPicPr>
        <p:blipFill>
          <a:blip r:embed="rId2"/>
          <a:stretch/>
        </p:blipFill>
        <p:spPr>
          <a:xfrm>
            <a:off x="6440400" y="1341360"/>
            <a:ext cx="2362320" cy="19875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5" descr=""/>
          <p:cNvPicPr/>
          <p:nvPr/>
        </p:nvPicPr>
        <p:blipFill>
          <a:blip r:embed="rId1"/>
          <a:stretch/>
        </p:blipFill>
        <p:spPr>
          <a:xfrm>
            <a:off x="0" y="5016600"/>
            <a:ext cx="8229600" cy="18414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620640"/>
            <a:ext cx="40384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mbria"/>
              </a:rPr>
              <a:t>У оратая сапожки зелен сафьян: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Cambria"/>
              </a:rPr>
              <a:t>Вот шилом пяты, носы востры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Cambria"/>
              </a:rPr>
              <a:t>Вот под пяту-пяту воробей пролетит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Cambria"/>
              </a:rPr>
              <a:t>Около носа хоть яйцо прокати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У Микулы сапоги сшиты из 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сафьяна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. Сафьян – выделанная козлиная кожа, мягкая, эластичная.                САФЬЯН. Заимств. — через тюрк. посредство — из перс. яз., в котором переводится, как «крепкий, жесткий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2" name="Содержимое 4" descr="0_1e491_b323c498_XL.jpg"/>
          <p:cNvPicPr/>
          <p:nvPr/>
        </p:nvPicPr>
        <p:blipFill>
          <a:blip r:embed="rId2"/>
          <a:stretch/>
        </p:blipFill>
        <p:spPr>
          <a:xfrm>
            <a:off x="4859280" y="260280"/>
            <a:ext cx="350856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10:17:03Z</dcterms:created>
  <dc:creator>Your User Name</dc:creator>
  <dc:description/>
  <dc:language>en-US</dc:language>
  <cp:lastModifiedBy>user</cp:lastModifiedBy>
  <dcterms:modified xsi:type="dcterms:W3CDTF">2016-11-25T18:49:53Z</dcterms:modified>
  <cp:revision>28</cp:revision>
  <dc:subject/>
  <dc:title>Слайд 1</dc:title>
</cp:coreProperties>
</file>