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4.jpeg" ContentType="image/jpeg"/>
  <Override PartName="/ppt/media/image19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c1ff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310D-8A44-4F6B-A68D-3CD6AEADDC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93B1-F614-44E4-8524-2054F53EC4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A8B7-B644-4146-9EFC-D7193565DC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59D-5152-4D73-94EA-FACC4BAC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53D-78B8-49BC-8869-02C3EE51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0BA-D729-4DA9-81FF-98D16DB4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4753-849D-4074-934C-2B2CAB45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0793-E629-42E8-B4BB-E2608268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46BD-0B64-47ED-8018-A0ED8B3F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136D-196F-4DA5-A8C7-60B928F4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9BEB-2281-4563-8ECA-7D36E407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9C92-506D-4CD7-9317-53D292B0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506C-6EC7-4703-949A-EA892216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09C5-70DB-4988-A75B-A5B6E587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7F7-0E6F-4447-A5AB-CB0085E6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0A2A-0504-449C-B048-2F2E1BBA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E3CE-1C70-41ED-8EED-E6C452B3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1D51-9A91-479F-8CC9-1DD926C3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7A93-BC51-4EC0-97B3-7FEA932E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19F3-EF9C-429B-AC14-F41E3213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CAB9E-0532-46F9-AAB5-50BC712C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F06B0-238A-4E34-B92E-FC7E93AB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4800F-EF20-4E53-960C-DD5E193B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2E8B5-1F3C-4376-ADFB-DE40DEA6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F00AE-7E41-456D-AB48-A188C13E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A6C-B25B-4C6A-A2F0-4729C2EE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61801-5DF7-4EA2-98C3-09F5C1A4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E42AE-232A-4A75-B322-3765D158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77334-8E45-4CAE-91E9-B456CBFE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046A0-3DDB-4966-8824-D4B4C0A7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81545-7A02-4053-A2CF-AC85E90E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F7E52-7290-4AC0-8BE8-8EEB7934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A3B13-E3DD-4560-98A2-CBE98BA0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66201-E695-4983-B59F-516BCCBE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322F1-C093-4020-A64F-B0CCF583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04F7C-A93B-4995-AE08-2D48EC14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9253-4CE5-4371-9F5E-769EF5CA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0A8C4-465D-493B-A216-45A083F7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B8E72-978C-41AE-A843-4724962D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80321-49F5-4677-8DDA-896C83BB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092A2-A048-49B1-B393-52AC4BDE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998A7-08E8-4A1B-AE1F-D3BB92E6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0A5A0-36DF-4694-9E47-A98E11A6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1280D-0CE8-439A-805B-87F15E89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C3F0D-1455-4D61-9A96-6666ADF6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10EFE-99D2-44D1-8115-5CD78ED3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7051F-A12F-4DEB-8379-D74DC9A4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9CC-F1B0-4F90-B7D3-C43A6CED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B0F33-ACA5-42EA-81CB-A041E019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6EE24-49E4-40F7-8AB7-33790290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8A504-1F2E-4F3D-AE39-DA3B96F7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53A2A-416E-4649-8392-43494CE1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4B24D-60EE-4BFB-8C0F-D1242392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4B3C8-978F-4369-BA5D-B3B35759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638F9-31BE-4D4D-897F-C25C0291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EBEDF-BB7E-4EC5-BF98-156B6EF8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43D28-01DE-4C44-BB7D-3CBF6CEF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669F6-F194-4611-BCBF-5444D450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9DB-1B3F-4065-B6FC-CBBF146D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294BF-83CF-4808-8796-A0209B9B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09B13-D50C-4CEB-B6C4-92182180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EE368-E79F-4EF0-9DD4-26D3157A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7D5A2-CBCF-4B2C-B82B-BD9E2D3F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46959-DD14-4932-B3D8-3ACBFE15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DB3A1-3ABF-40BE-943E-30876BD3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A7750-E86F-40BA-876D-7341D4B8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CFE78-24D4-4220-94CA-82637F65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E1253-8C00-4BC0-B229-8FF70507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9EE84-C4E8-497A-97E1-F43E06CA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7A6A-90B3-418F-BF01-10EF7420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0D048-B42B-4E86-AF36-CA8F7521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7CBBC-266F-4AB4-9972-FEF894D7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AE109-125E-4B2F-B5AD-05212016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6B4AB-0E18-4260-9A28-10DEB0F8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32964-D6E7-410A-A1C5-3CC365F2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BA540-90BA-4FF2-B977-E39993A5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7CA37-FEFB-4EAA-A2D6-03F9AC6C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F9958-585B-4719-9F56-9A434703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25D4E-727E-47DB-9B45-8CCC50E1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6E38E-B0DD-492A-9799-D98954F2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934-008E-40A7-8CA9-B2E301A4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C3CF1-F858-44D4-BCB7-63D3ABC3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A9614-C823-443B-9E02-79485733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E524A-EE78-43BC-8DE2-A0B6200B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3AFEC-074A-483B-BD0F-5146C9A6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25CB5-C226-48C8-84D6-C8445B0A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33C-4EE1-48DD-8A74-F2254830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e7f4fb">
              <a:alpha val="33000"/>
            </a:srgbClr>
          </a:solidFill>
          <a:ln cap="rnd" w="3240">
            <a:solidFill>
              <a:srgbClr val="25a6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ade9ff"/>
            </a:solidFill>
            <a:miter/>
          </a:ln>
          <a:effectLst>
            <a:outerShdw dist="12600" dir="5400000" blurRad="0" rotWithShape="0">
              <a:srgbClr val="3185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c1ff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e8fb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4523-2BD0-4810-9421-444B995ED220}" type="slidenum">
              <a:rPr b="0" lang="ru-RU" sz="1200" spc="-1" strike="noStrike">
                <a:solidFill>
                  <a:srgbClr val="1e8fb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2751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e7f4fb">
              <a:alpha val="33000"/>
            </a:srgbClr>
          </a:solidFill>
          <a:ln cap="rnd" w="3240">
            <a:solidFill>
              <a:srgbClr val="25a6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ade9ff"/>
            </a:solidFill>
            <a:miter/>
          </a:ln>
          <a:effectLst>
            <a:outerShdw dist="12600" dir="5400000" blurRad="0" rotWithShape="0">
              <a:srgbClr val="3185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2751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c1ff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e8fb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B711-3E72-4782-89DB-54AF197B0CFB}" type="slidenum">
              <a:rPr b="0" lang="ru-RU" sz="1200" spc="-1" strike="noStrike">
                <a:solidFill>
                  <a:srgbClr val="1e8fb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2751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c1ff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e8fb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8159-40D7-40F4-A5BA-E7E8950636DC}" type="slidenum">
              <a:rPr b="0" lang="ru-RU" sz="1200" spc="-1" strike="noStrike">
                <a:solidFill>
                  <a:srgbClr val="1e8fb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c1ff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e8fb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1D8C-2E1E-4D6A-80A5-68DB3235068D}" type="slidenum">
              <a:rPr b="0" lang="ru-RU" sz="1200" spc="-1" strike="noStrike">
                <a:solidFill>
                  <a:srgbClr val="1e8fb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2751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c1ff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e8fb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1013-5779-4AD0-BDDA-7C36615D8110}" type="slidenum">
              <a:rPr b="0" lang="ru-RU" sz="1200" spc="-1" strike="noStrike">
                <a:solidFill>
                  <a:srgbClr val="1e8fb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c1ff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e8fb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8E65-EB9F-44DF-A26C-2C3B0A6F59FC}" type="slidenum">
              <a:rPr b="0" lang="ru-RU" sz="1200" spc="-1" strike="noStrike">
                <a:solidFill>
                  <a:srgbClr val="1e8fb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2abaea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5faac3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c1ff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e8fb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FBAF-4148-4202-B9AB-D8F6B7659E06}" type="slidenum">
              <a:rPr b="0" lang="ru-RU" sz="1200" spc="-1" strike="noStrike">
                <a:solidFill>
                  <a:srgbClr val="1e8fb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5500800" y="0"/>
            <a:ext cx="3143160" cy="26557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00120" y="20718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i="1" lang="ru-RU" sz="8800" spc="-1" strike="noStrike">
                <a:solidFill>
                  <a:srgbClr val="0084b4"/>
                </a:solidFill>
                <a:latin typeface="Corbel"/>
              </a:rPr>
              <a:t>День Матери</a:t>
            </a:r>
            <a:endParaRPr b="0" lang="en-US" sz="8800" spc="-1" strike="noStrike">
              <a:solidFill>
                <a:srgbClr val="00c1ff"/>
              </a:solidFill>
              <a:latin typeface="Corbel"/>
            </a:endParaRPr>
          </a:p>
        </p:txBody>
      </p:sp>
      <p:pic>
        <p:nvPicPr>
          <p:cNvPr id="327" name="Picture 5" descr="http://t3.gstatic.com/images?q=tbn:ANd9GcTY8DS7kgooILJZWseYIPJgz4s3LV8OCXuB9VdX5RZeAgXZdqEXG17rNR8"/>
          <p:cNvPicPr/>
          <p:nvPr/>
        </p:nvPicPr>
        <p:blipFill>
          <a:blip r:embed="rId2"/>
          <a:stretch/>
        </p:blipFill>
        <p:spPr>
          <a:xfrm>
            <a:off x="1143000" y="0"/>
            <a:ext cx="3176640" cy="2357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http://photos.lifeisphoto.ru/8/0/80183.jpg"/>
          <p:cNvPicPr/>
          <p:nvPr/>
        </p:nvPicPr>
        <p:blipFill>
          <a:blip r:embed="rId3"/>
          <a:stretch/>
        </p:blipFill>
        <p:spPr>
          <a:xfrm>
            <a:off x="1187280" y="3429000"/>
            <a:ext cx="3240360" cy="2984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мама6"/>
          <p:cNvPicPr/>
          <p:nvPr/>
        </p:nvPicPr>
        <p:blipFill>
          <a:blip r:embed="rId4"/>
          <a:stretch/>
        </p:blipFill>
        <p:spPr>
          <a:xfrm>
            <a:off x="4786200" y="3571920"/>
            <a:ext cx="3953160" cy="28098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2"/>
          <p:cNvSpPr/>
          <p:nvPr/>
        </p:nvSpPr>
        <p:spPr>
          <a:xfrm>
            <a:off x="214200" y="835560"/>
            <a:ext cx="3857760" cy="4972680"/>
          </a:xfrm>
          <a:prstGeom prst="rect">
            <a:avLst/>
          </a:prstGeom>
          <a:solidFill>
            <a:srgbClr val="93e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«  </a:t>
            </a:r>
            <a:r>
              <a:rPr b="1" i="1" lang="ru-RU" sz="2000" spc="-1" strike="noStrike">
                <a:solidFill>
                  <a:srgbClr val="002060"/>
                </a:solidFill>
                <a:latin typeface="Arial Black"/>
              </a:rPr>
              <a:t>Есть в природе знак святой и вещий,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Arial Black"/>
              </a:rPr>
              <a:t>             Ярко обозначенный в веках.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Arial Black"/>
              </a:rPr>
              <a:t>             Самая прекрасная из женщин -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Arial Black"/>
              </a:rPr>
              <a:t>             Женщина с ребенком на руках!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Arial Black"/>
              </a:rPr>
              <a:t>             Пусть ей вечно солнце рукоплещет,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Arial Black"/>
              </a:rPr>
              <a:t>             Так она и будет жить в веках,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Arial Black"/>
              </a:rPr>
              <a:t>             Самая прекрасная из женщин-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Arial Black"/>
              </a:rPr>
              <a:t>             Женщина с ребенком на руках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"/>
          <p:cNvPicPr/>
          <p:nvPr/>
        </p:nvPicPr>
        <p:blipFill>
          <a:blip r:embed="rId1"/>
          <a:stretch/>
        </p:blipFill>
        <p:spPr>
          <a:xfrm>
            <a:off x="4071960" y="500040"/>
            <a:ext cx="4856040" cy="564192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3"/>
          <p:cNvSpPr/>
          <p:nvPr/>
        </p:nvSpPr>
        <p:spPr>
          <a:xfrm>
            <a:off x="1164240" y="6286680"/>
            <a:ext cx="58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сня о женщине. Сергей Остр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8358120" cy="76010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339933"/>
                </a:solidFill>
                <a:latin typeface="Monotype Corsiva"/>
              </a:rPr>
              <a:t>День матери в России</a:t>
            </a:r>
            <a:endParaRPr b="0" lang="en-US" sz="54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143000" y="100008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5af"/>
                </a:solidFill>
                <a:latin typeface="Monotype Corsiva"/>
              </a:rPr>
              <a:t>В России День матери стали отмечать сравнительно недавно. Установленный Указом Президента Российской Федерации Б. Н. Ельцина № 120 «О Дне матери» от 30 января 1998 года, он празднуется в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последнее воскресенье ноября</a:t>
            </a:r>
            <a:r>
              <a:rPr b="1" lang="ru-RU" sz="3600" spc="-1" strike="noStrike">
                <a:solidFill>
                  <a:srgbClr val="0075af"/>
                </a:solidFill>
                <a:latin typeface="Monotype Corsiva"/>
              </a:rPr>
              <a:t>, воздавая должное материнскому труду и их бескорыстной жертве ради блага своих дете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 advTm="7000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00c1ff"/>
              </a:solidFill>
              <a:latin typeface="Corbe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-909720" y="-214200"/>
            <a:ext cx="10609200" cy="7072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00c1ff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71360" y="-360"/>
            <a:ext cx="7427880" cy="2071800"/>
          </a:xfrm>
          <a:prstGeom prst="rect">
            <a:avLst/>
          </a:prstGeom>
          <a:solidFill>
            <a:srgbClr val="c9f1ff"/>
          </a:solidFill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«Материнские руки - воплощение нежности...»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1221480" y="60008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ктор Мари Гю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4286160" y="1379520"/>
            <a:ext cx="4857840" cy="54784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00c1ff"/>
              </a:solidFill>
              <a:latin typeface="Corbe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-246240" y="0"/>
            <a:ext cx="93758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28800" y="713880"/>
            <a:ext cx="806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84b4"/>
                </a:solidFill>
                <a:latin typeface="Monotype Corsiva"/>
              </a:rPr>
              <a:t>Что может быть на свете более священным, чем имя «Мать»  для любого из нас, ребенка, подростка, юноши иль поседевшего взрослого, мать - самый родной, самый дорогой человек на свете, давший самое ценное - жизнь.</a:t>
            </a:r>
            <a:br>
              <a:rPr sz="3200"/>
            </a:br>
            <a:endParaRPr b="0" lang="en-US" sz="3200" spc="-1" strike="noStrike">
              <a:solidFill>
                <a:srgbClr val="00c1ff"/>
              </a:solidFill>
              <a:latin typeface="Corbel"/>
            </a:endParaRPr>
          </a:p>
        </p:txBody>
      </p:sp>
      <p:pic>
        <p:nvPicPr>
          <p:cNvPr id="362" name="Picture 4" descr="M:\день матери\4.jpg"/>
          <p:cNvPicPr/>
          <p:nvPr/>
        </p:nvPicPr>
        <p:blipFill>
          <a:blip r:embed="rId1"/>
          <a:stretch/>
        </p:blipFill>
        <p:spPr>
          <a:xfrm>
            <a:off x="3071880" y="2463840"/>
            <a:ext cx="2928960" cy="43941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00c1ff"/>
              </a:solidFill>
              <a:latin typeface="Corbe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-930240" y="0"/>
            <a:ext cx="10617120" cy="7072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3"/>
          <p:cNvSpPr/>
          <p:nvPr/>
        </p:nvSpPr>
        <p:spPr>
          <a:xfrm>
            <a:off x="1000080" y="214200"/>
            <a:ext cx="81439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4800" spc="-1" strike="noStrike">
                <a:solidFill>
                  <a:srgbClr val="0070c0"/>
                </a:solidFill>
                <a:latin typeface="Monotype Corsiva"/>
              </a:rPr>
              <a:t>Какими бы взрослыми, сильными, умными, красивыми мы ни стали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Monotype Corsiva"/>
              </a:rPr>
              <a:t>как бы далеко жизнь ни увела нас от родительского крова, мама всегда остается для нас мамой, а мы - ее деть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aac3"/>
                </a:solidFill>
                <a:latin typeface="Monotype Corsiva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aac3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800080"/>
                </a:solidFill>
                <a:latin typeface="Monotype Corsiva"/>
              </a:rPr>
              <a:t>Берегите  своих  матерей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:\Documents and Settings\User\Мои документы\день матери\маме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C:\Documents and Settings\User\Мои документы\день матери\с днем мамы .jpg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Прямоугольник 1"/>
          <p:cNvGrpSpPr/>
          <p:nvPr/>
        </p:nvGrpSpPr>
        <p:grpSpPr>
          <a:xfrm>
            <a:off x="981000" y="195120"/>
            <a:ext cx="8175600" cy="3316320"/>
            <a:chOff x="981000" y="195120"/>
            <a:chExt cx="8175600" cy="3316320"/>
          </a:xfrm>
        </p:grpSpPr>
        <p:pic>
          <p:nvPicPr>
            <p:cNvPr id="332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981000" y="195120"/>
              <a:ext cx="8175600" cy="33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1000080" y="214200"/>
              <a:ext cx="8143920" cy="32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2060"/>
                  </a:solidFill>
                  <a:latin typeface="Corbel"/>
                </a:rPr>
                <a:t>«Без солнца не цветут цветы, без любви нет счастья, без женщины нет любви, без матери нет ни поэта, ни героя».</a:t>
              </a:r>
              <a:br>
                <a:rPr sz="4000"/>
              </a:br>
              <a:r>
                <a:rPr b="1" i="1" lang="ru-RU" sz="4000" spc="-1" strike="noStrike">
                  <a:solidFill>
                    <a:srgbClr val="002060"/>
                  </a:solidFill>
                  <a:latin typeface="Corbel"/>
                </a:rPr>
                <a:t>/ М.Горький/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4" name="Picture 2" descr="C:\Documents and Settings\User\Мои документы\455px-Maxim_Gorky_authographed_portrait.jpg"/>
          <p:cNvPicPr/>
          <p:nvPr/>
        </p:nvPicPr>
        <p:blipFill>
          <a:blip r:embed="rId2"/>
          <a:stretch/>
        </p:blipFill>
        <p:spPr>
          <a:xfrm>
            <a:off x="5786280" y="3000240"/>
            <a:ext cx="2930760" cy="38577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http://fotohomka.ru/images/Jan/11/48e9ddcc80110fa14c32aba386e79fa8/mini_1.jpg"/>
          <p:cNvPicPr/>
          <p:nvPr/>
        </p:nvPicPr>
        <p:blipFill>
          <a:blip r:embed="rId1"/>
          <a:stretch/>
        </p:blipFill>
        <p:spPr>
          <a:xfrm>
            <a:off x="-357120" y="0"/>
            <a:ext cx="9970920" cy="74296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"/>
          <p:cNvPicPr/>
          <p:nvPr/>
        </p:nvPicPr>
        <p:blipFill>
          <a:blip r:embed="rId1"/>
          <a:stretch/>
        </p:blipFill>
        <p:spPr>
          <a:xfrm>
            <a:off x="3429000" y="22147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3"/>
          <p:cNvSpPr/>
          <p:nvPr/>
        </p:nvSpPr>
        <p:spPr>
          <a:xfrm>
            <a:off x="714240" y="357120"/>
            <a:ext cx="8429760" cy="1191240"/>
          </a:xfrm>
          <a:prstGeom prst="rect">
            <a:avLst/>
          </a:prstGeom>
          <a:solidFill>
            <a:srgbClr val="c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Будущее нации - в руках матерей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4"/>
          <p:cNvSpPr/>
          <p:nvPr/>
        </p:nvSpPr>
        <p:spPr>
          <a:xfrm>
            <a:off x="1233360" y="5500800"/>
            <a:ext cx="28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норе Бальз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C:\Documents and Settings\User\Мои документы\день матери\мама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1"/>
          <p:cNvSpPr/>
          <p:nvPr/>
        </p:nvSpPr>
        <p:spPr>
          <a:xfrm>
            <a:off x="1000080" y="285840"/>
            <a:ext cx="4500720" cy="4480920"/>
          </a:xfrm>
          <a:prstGeom prst="rect">
            <a:avLst/>
          </a:prstGeom>
          <a:solidFill>
            <a:srgbClr val="c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лово это сроду не обм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ем сокрыто жизни суще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ем – исток всего. Ему конца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таньте!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произношу 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ам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5429160" y="1857240"/>
            <a:ext cx="3448080" cy="483876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4"/>
          <p:cNvSpPr/>
          <p:nvPr/>
        </p:nvSpPr>
        <p:spPr>
          <a:xfrm>
            <a:off x="1292760" y="6000840"/>
            <a:ext cx="35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сул Гамз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C:\Documents and Settings\User\Мои документы\фото ко дню матери\мама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1"/>
          <p:cNvSpPr/>
          <p:nvPr/>
        </p:nvSpPr>
        <p:spPr>
          <a:xfrm>
            <a:off x="1000080" y="785880"/>
            <a:ext cx="7786800" cy="1068840"/>
          </a:xfrm>
          <a:prstGeom prst="rect">
            <a:avLst/>
          </a:prstGeom>
          <a:solidFill>
            <a:srgbClr val="c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ы любим сестру, и жену, и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в муках мы мать вспоминае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2"/>
          <p:cNvSpPr/>
          <p:nvPr/>
        </p:nvSpPr>
        <p:spPr>
          <a:xfrm>
            <a:off x="1514880" y="578628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. А. Нек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5072040" y="1857240"/>
            <a:ext cx="3722760" cy="45961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9:56:42Z</dcterms:created>
  <dc:creator>www.PHILka.RU</dc:creator>
  <dc:description/>
  <dc:language>en-US</dc:language>
  <cp:lastModifiedBy>Мерзаева</cp:lastModifiedBy>
  <dcterms:modified xsi:type="dcterms:W3CDTF">2016-11-22T03:45:21Z</dcterms:modified>
  <cp:revision>137</cp:revision>
  <dc:subject/>
  <dc:title>День матери</dc:title>
</cp:coreProperties>
</file>