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23CF-EFC8-4A45-A49B-18FCB76D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F84-5D2D-4AAB-8B7E-061322C5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9F7-FF91-47E2-B6C4-D18D5920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91A8-6C7A-48C8-AEAD-657752E4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EED8-EFEA-471A-ABB3-B30B81E1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E4DE-5050-4C82-BC80-2C86FB68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399E-2678-4CC9-8A34-549CEE51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3277-B8BE-4423-BF9B-4E51E69E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6358-5CCD-4352-8A0A-54A0EA1C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3145-571C-4871-AD51-34C7AF17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3268-92BB-4014-B180-8231392A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879-746E-4361-A94B-BA5860D4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27C1-81D1-4354-B5F7-F5E2DD49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FAE0-F56F-4FB9-A75B-C79B38CD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D680-DCE7-455F-B677-EE33F246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3F0D-36FA-4987-B0D6-D7BE2F1D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2FCB-586D-4200-BF62-E047CA63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14AEE-95A9-472C-8870-8AFB08E2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6A14B-97FA-4FEA-9027-2D8DAE60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9798A-94D6-4559-90E7-77E149E8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A462F-9451-4ED6-B9C7-92A65903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9F436-D6D4-4BE3-B9FC-1D8A1ADC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D5B-EBCC-4133-92E2-833ACADF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AA578-20E0-479A-B7F2-075077A1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7CC36-A99C-4F54-AA2D-D650E444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F2AA2-D7F9-4548-81D5-32200DE7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5774A-C8E1-4B4E-A608-FB3D815D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C9B28-BD4B-4079-BCDF-6D573F70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E8E82-2998-436A-9D28-6B840828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90EC9-6040-45BD-97D1-D3ED659A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40964-56DA-46D8-A95A-F1D43D68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1FC5D-3DB1-44A0-A606-147D305F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EF670-3449-40BA-855F-51A77B43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DD4D-EB47-47D5-9E5F-984476D4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C6C4A-5507-4824-AE72-86EF1B2C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B8F98-EAAA-45EE-BDA6-EAD8EE76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689C4-7092-4274-BE01-1FAAE73D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6B262-EFAA-4F73-9FD4-48322C5E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8DA65-2879-41BD-A1F0-F1B1D67D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CC640-7756-48B8-9EB5-3FBF39D2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A2C26-5E32-43F7-8512-B25694EB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02563-23C4-446E-8F4E-13ACFB8D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69D50-CF20-4990-93FF-7AED0AEB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80FC6-CD16-4311-A8E7-28F9ED7E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7E3E-A213-4A92-B334-DB55CE7D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8C25B-B1EB-4257-B5B1-7C112181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A0B50-7F1A-4BFB-93B5-1B74D852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E20F7-0300-4185-ADD3-AFBC8789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38BF6-3F07-4D4D-BDCC-B1A8B076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AD0A1-39F3-45A5-98DA-0EB3C126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A7DEF-A36F-49A8-980B-03D873F0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E61BA-0EC8-4522-917D-22734133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13C00-8B44-4A42-B2B5-4B6D5E40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36BA3-B6CA-4DAA-B4B8-100F62E4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4464A-AF45-448C-8875-315DEB82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6CE-3C4F-473E-AFEF-608ED75D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67AFE-8365-400B-B14F-D31D5D66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7C3E1-F653-42F2-AFEA-0D70B6BB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CD6B2-81EE-4FF2-B905-02C90E8D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820AE-AFFC-46CB-9DDC-671AD3FF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84746-01B3-4AFC-83EF-2B822E5A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D07C2-4D0B-4876-9D13-77E9ADF3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8123C-2E73-4D56-96A5-E1C6DC78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1281D-B802-4342-B0BA-A2B1DD07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1A900-BABE-4A8E-9DD1-EC82A455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2B703-416C-4EB8-80F7-01BA5794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8C08-8530-4645-B293-AD99D8DB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1BC0F-35E9-46FD-B3A2-05508D0D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7A1DE-A6FA-43FB-B91A-981559BF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C0048-7E6A-4D59-9E56-A9E5C124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EF2D5-4348-4372-8E72-8C63443A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5049D-2151-4236-B47D-868E9973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6E5E6-94F0-487C-B67F-58782DE2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72B16-30FE-4C56-B6FF-BF16338B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CBC8B-D14A-49C5-9C45-4BFA90E9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8E388-8D5B-47EC-8599-E80A3DDB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9E243-88F4-4480-BFC9-5D08519C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742-E325-4B04-868E-396ED37B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BB7CE-76BC-48D6-8A97-BD214376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2E29E-0415-483B-B92F-A2649CF0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F9204-490A-47B7-A9D8-3AA3AC9E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C470B-21CE-4B0E-B84C-219CFD6E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2862B-CEFC-428B-A063-7E2E0888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29E2-5331-42CC-B654-00405E44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0D8E-0394-4CCD-94C9-87DADABC21DB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B4EF-292E-4B41-9493-FAE4C637319A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1160-4669-47B6-B793-8019F52EC31B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3080-DA52-4D0D-A6D4-78D5CA424406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712D-6876-40E8-A647-A6E0E62E8AED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7785-C922-4C49-B084-468245243845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ECDE-DD39-4726-9EC5-A55D79EB8692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ГБОУ «Школа-интернат №18»</a:t>
            </a:r>
            <a:br>
              <a:rPr sz="3900"/>
            </a:br>
            <a:br>
              <a:rPr sz="3900"/>
            </a:br>
            <a:r>
              <a:rPr b="1" lang="ru-RU" sz="3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апы слухоречевой реабилитации глухих детей после кохлеарной имплантации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4285800"/>
            <a:ext cx="7407000" cy="2357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дготовила  учитель-дефектолог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ервой  квалификационной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тегории  Денисова Е. Н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язань 2016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-й этап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п развития связной речи и понимания сложных текст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дачи этого этапа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расширение общих представлений об окружающем мире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увеличение словарного запас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дальнейшее развитие грамматической систем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этап соответствует периоду развития речи у детей с нормальным слухом старше 7 лет. Этого уровня достигает только часть детей с К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57200" y="3567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</a:rPr>
              <a:t>Упражнения 4-ого этап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2" name="Picture 7" descr="img083 - копия"/>
          <p:cNvPicPr/>
          <p:nvPr/>
        </p:nvPicPr>
        <p:blipFill>
          <a:blip r:embed="rId1"/>
          <a:stretch/>
        </p:blipFill>
        <p:spPr>
          <a:xfrm>
            <a:off x="1357200" y="1214280"/>
            <a:ext cx="4533840" cy="2292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Копия img082 - копия"/>
          <p:cNvPicPr/>
          <p:nvPr/>
        </p:nvPicPr>
        <p:blipFill>
          <a:blip r:embed="rId2"/>
          <a:stretch/>
        </p:blipFill>
        <p:spPr>
          <a:xfrm>
            <a:off x="5072040" y="3500280"/>
            <a:ext cx="3757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Четыре этапа слухоречевой реабилитации ранооглохших детей после кохлеарной имплантации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600" y="1499760"/>
            <a:ext cx="666612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ставления о четырех этапах слухоречевой реабилит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нооглохших детей после кохлеарной имплантации, целях, задачах и длительности каждого этап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зволяют правильно организовать реабилитац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нтролировать ее эффективность и своевременно ее менять в соответствии с возможностями и динамикой слухового и речевого развития ребен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итерату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920"/>
            <a:ext cx="749952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лёва И. В. Учусь слушать и говорить: Методические рекомендации по развитию слухоречевого восприятия и устной речи у детей после кохлеарной имплантации на основе «слухового метода». – СПб.: КАРО, 2014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лёва И. В. «Первые шаги в мир звуков и слов» Рабочая тетрадь № 1. – СПб.: КАРО, 2014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лёва И. В. «Слушаю и говорю предложениями» Рабочая тетрадь № 2. – СПб.: КАРО, 2014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лёва И. В. «Буквы или звуки?» Рабочая тетрадь № 3. – СПб.: КАРО, 2014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лёва И. В. Кохлеарная имплантация глухих детей и взрослых. – СПб.: КАРО, 200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Arial"/>
              </a:rPr>
              <a:t>«Слуховой» метод обучения детей после кохлеарной имплантации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в последние 20 лет широкое распространение получил современный метод слухоречевой реабилитации глухих детей – кохлеарная имплантация. Этот метод позволяет ребенку слышать речь окружающих. Однако важно знать: ребенок с кохлеарным имплантом хорошо слышит, но чтобы он научился понимать речь и говорить, ему требу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летняя реабилитац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кохлеарные импланты и супермощные слуховые аппараты обеспечивают возможность слышать даже тихую речь и все звуки речи, а значит – возможность осваивать речь посредством слуха. Таким образом, технический прогресс создал базу для развит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ухового» метода обуч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м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хового метода является представление о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ёх этапах слухоречевой реабилит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нооглохших детей после кохлеарной имплантаци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499680"/>
            <a:ext cx="749952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Четыре этапа слухоречевой реабилитации ранооглохших детей после кохлеарной имплантации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356840" y="2286000"/>
            <a:ext cx="695988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й этап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ьный этап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я слухового и слухоречевого восприятия с К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-й этап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этап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я слухового и слухоречевого восприятия с К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-й этап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зыковой этап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я слухового и слухоречевого восприятия с К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-й этап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 развития связной реч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онимания сложных текст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Times New Roman"/>
              </a:rPr>
              <a:t>1-й этап</a:t>
            </a:r>
            <a:r>
              <a:rPr b="0" lang="ru-RU" sz="4300" spc="-1" strike="noStrike">
                <a:solidFill>
                  <a:srgbClr val="0070c0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285920"/>
            <a:ext cx="749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ьный этап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я слухового и слухоречевого восприятия с КИ. Его длительность — 3-12 недель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дачи этого этап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достижение параметров настройки процессора КИ, позволяющих ребенку воспринимать все звуки речи на расстоянии не менее 4 м (обычно - 6 м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вызывание у ребенка интереса к окружающим звукам, голосу человека, слушанию и анализу, действиям со звука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вызывание у ребенка интереса к своему голосу, игре с голосом, мотивации пользования голосом для обще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обучение родителей приемам вызывания у ребенка интереса к звукам и слушанию, развитию у ребенка слуха и речи в ежедневных ситуациях, игре, целенаправленных занятия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</a:rPr>
              <a:t>Упражнения 1-ого этап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Содержимое 6" descr="Копия img077.jpg"/>
          <p:cNvPicPr/>
          <p:nvPr/>
        </p:nvPicPr>
        <p:blipFill>
          <a:blip r:embed="rId1"/>
          <a:stretch/>
        </p:blipFill>
        <p:spPr>
          <a:xfrm>
            <a:off x="1571760" y="1071720"/>
            <a:ext cx="3998880" cy="2571480"/>
          </a:xfrm>
          <a:prstGeom prst="rect">
            <a:avLst/>
          </a:prstGeom>
          <a:ln w="0">
            <a:noFill/>
          </a:ln>
        </p:spPr>
      </p:pic>
      <p:pic>
        <p:nvPicPr>
          <p:cNvPr id="328" name="Содержимое 7" descr="Копия img078.jpg"/>
          <p:cNvPicPr/>
          <p:nvPr/>
        </p:nvPicPr>
        <p:blipFill>
          <a:blip r:embed="rId2"/>
          <a:stretch/>
        </p:blipFill>
        <p:spPr>
          <a:xfrm>
            <a:off x="4929120" y="3571920"/>
            <a:ext cx="364356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-й этап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213920"/>
            <a:ext cx="7499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этап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слухового/слухоречевого восприятия с КИ. Его длительность — 6-18 мес.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Задачи этого этапа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достижение оптимальных и стабильных параметров настройки процессора К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азвитие/формирование у ребенка всех мозговых процессов анализа звуков и речи как звуковых сигналов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аружение, различение, узнавание, распознавание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ховое внимание. Включает развитие произвольного и не произвольного внимания, селективного вниман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ематический слух. Это основа для развития способности узнавать и запомнить слова только на слух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ховой контроль голоса, слухоартикуляторная координация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ховая и слухоречевая память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азвитие у ребенка потребности к речевому общению и его начальных навыков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</a:rPr>
              <a:t>Упражнения 2-ого этап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2" name="Picture 13" descr="Копия img081"/>
          <p:cNvPicPr/>
          <p:nvPr/>
        </p:nvPicPr>
        <p:blipFill>
          <a:blip r:embed="rId1"/>
          <a:stretch/>
        </p:blipFill>
        <p:spPr>
          <a:xfrm>
            <a:off x="4786200" y="4143240"/>
            <a:ext cx="4210200" cy="2428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4" descr="Копия img080"/>
          <p:cNvPicPr/>
          <p:nvPr/>
        </p:nvPicPr>
        <p:blipFill>
          <a:blip r:embed="rId2"/>
          <a:stretch/>
        </p:blipFill>
        <p:spPr>
          <a:xfrm>
            <a:off x="1143000" y="1143000"/>
            <a:ext cx="3600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-й этап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214280"/>
            <a:ext cx="74995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Языковой этап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развития восприятия речи и собственной речи». Его длительность — более 5 ле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Основные задачи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реабилитации на этом  этапе связаны с развитием языковой системы: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1) развитие слухоречевой памяти и слухового внимания, увеличение скорости обработки речи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2) накопление пассивного (импрессивного) словаря параллельно с расширением представлений об окружающем мире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3) развитие грамматической системы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4) развитие понимания устной речи слухозрительно и на слух (на основе накопления словаря и развития общих представлений о мире, развития грамматической системы)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5) накопление активного (экспрессивного) словаря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6) развитие диалогической речи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7) развитие связной речи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8) совершенствование голосового контроля, звукопроизношения, интонационно-ритмических характеристик речи на основе слухового контроля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9) развитие навыков чтения и понимания прочитанного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</a:rPr>
              <a:t>Упражнения 3-ого этап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6" descr="Копия img084 - копия"/>
          <p:cNvPicPr/>
          <p:nvPr/>
        </p:nvPicPr>
        <p:blipFill>
          <a:blip r:embed="rId1"/>
          <a:stretch/>
        </p:blipFill>
        <p:spPr>
          <a:xfrm>
            <a:off x="3357720" y="1143000"/>
            <a:ext cx="3500280" cy="29718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D:\16 год работа\IMG_20160418_0002.jpg"/>
          <p:cNvPicPr/>
          <p:nvPr/>
        </p:nvPicPr>
        <p:blipFill>
          <a:blip r:embed="rId2"/>
          <a:stretch/>
        </p:blipFill>
        <p:spPr>
          <a:xfrm>
            <a:off x="1928880" y="4214880"/>
            <a:ext cx="64800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0T12:56:11Z</dcterms:created>
  <dc:creator>Елена</dc:creator>
  <dc:description/>
  <dc:language>en-US</dc:language>
  <cp:lastModifiedBy>окиии</cp:lastModifiedBy>
  <dcterms:modified xsi:type="dcterms:W3CDTF">2016-04-19T18:07:15Z</dcterms:modified>
  <cp:revision>66</cp:revision>
  <dc:subject/>
  <dc:title>Слайд 1</dc:title>
</cp:coreProperties>
</file>