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A95-F4B5-4474-AF8C-834884C7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988-5F80-40E1-AF46-1F7C7D27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D61-159E-4539-AC59-8FA406BB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908-519F-4010-885C-D70B9718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9AD3-180C-478D-B69B-3823937B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C2B9-68DC-4E3E-846A-D4C364DF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F329-F7EF-42A9-9802-E6313853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2FEC-C491-4FE3-9639-1F89F16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FB48-506D-4B65-A653-64708B61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F6A2-4744-4367-9793-C52E780C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BB9A-A30D-4D1B-8E97-48F6DD4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1F5-B9B3-48AE-BCE5-B95FC684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B455-DC0F-41A2-80C7-979F128E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2358-2D97-4781-8446-45AB0E0F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52C5-39A0-4761-83D4-2B845AB6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8283-5912-48A3-95A6-1832BCA4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9437-CDFB-4E5D-AAFD-0972927C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C663-4433-404B-B3AB-33AD4053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668F-4CFE-4931-BE17-9196A05A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C7D7-2444-446E-B447-0164951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6278D-386A-4AAE-8BB5-3290C7B5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D1259-84A3-4F0C-B85B-C6870D51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B1A-A7C6-41E4-AD13-B63A78C8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EEB7-5405-46FB-9170-A5E11DF4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DC7D-AA4F-4EFE-AAA4-C9A6297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C64B-A55C-42F7-B966-B7E09A1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57A3-F59B-4AC4-B870-040562B4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9368-88D2-426F-A2EE-580BDC84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08CC-6EA0-4FE8-B43A-A81149DA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205B-E549-4DF7-AF02-EA95EAF0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0889-8C68-473D-A65C-B5EEF3AC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5EB5-1AE3-4F4B-8E17-8E52C6BE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3845-ED3F-46AD-98DD-AEB7F88F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620-FA79-4C2D-BE37-9575E8FF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A394-9B5D-453E-9207-71D8D456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F4E92-047D-4F6C-A127-0A0EE48F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B027-CDE5-417A-9F64-8A7F695D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87165-41BE-4D91-A9BE-2D704840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6F24-EF9F-4E52-8C20-9FA67C4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926C1-579D-4DA0-84AB-8B9033E1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4F542-B0EB-472B-9BD7-91B0A04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FCE2-01F9-4F86-919C-2E634387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F794-7416-4E14-BA89-537BD5C6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71BA-944F-42A8-AE67-E3560842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854-B505-4708-96AE-AE12424F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720A3-FBCA-4717-B276-A4BC12C3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D08A7-8032-4AAE-B9DF-F1EA63F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BABCA-FFCD-4656-8E33-9AFBF612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074DC-6118-47FD-A4A9-D26BD118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B0010-F080-4C8D-A2BD-2201FE0D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F024-CBBC-4064-AD09-B20F853A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2A51-28F8-438F-BE0C-554F4E44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D43D5-99B4-42AB-944A-917E01CD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4089B-16E3-449B-866A-B2E09D32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1FBDD-E661-4CB8-A4EB-171179DD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B8E-831F-44EE-B908-B18DF545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8932-1718-4F5E-9C5D-4E6D7422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76B44-DA3F-4A7F-B520-C7387389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A85E8-E30F-49BE-85D3-6ABF17E0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8BBA-BAD7-4F4B-A88E-2057E32A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DEE6-2B3C-435D-ABDB-735367EC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21E9C-B65E-48F7-9D85-55AEDA0E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7A6B-615B-4B4A-93F6-BA849B2C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AA028-5671-4C74-94FA-B16E85DA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D74AF-4CAA-49AB-990F-7940622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1E928-42B8-45CD-B60E-73704B23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D9B-AD5F-47DE-BB0F-66FE7336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74FE-D136-48E6-B611-B58EEC12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BB29-6E20-4CAC-AD14-B3792A02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25ED3-1EB8-498D-9987-6A3FE738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CBEC4-DFE8-4C32-9983-48205EA9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11C5D-0B92-45EA-B797-84542B2B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8E3A-AF74-40E3-AA00-22D3B6CF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49703-28D7-48FD-A60B-CBA4D90C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3A1B-1B6B-4BAE-A730-90E77089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0945B-8B19-419B-813A-7632F3F6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DEA66-1CA7-479B-95F5-F9AA7308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B66-E0CB-4F3D-8913-282BC788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DB8B9-6C68-4D74-A3F9-9C74F68A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56736-0B92-42AA-98A7-558D6286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235C9-F03C-4BAD-B2C8-FDBD6613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9059-1BA9-401A-B93D-2358E7D4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7546D-222F-4F56-B3C3-5F5C28D3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83A-D137-44B2-8CF4-C18439F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6166-1CF0-4248-80F2-C1C59DD546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7751-9D67-4469-9AB8-102D6D4C45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D82-7AE3-4147-A5C0-EB5AD0FA11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6ED-87FF-4015-B064-1305581225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4593-69FD-4DE1-B19C-2032A6963D3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B2F1-6D09-421F-ACD2-76A148191A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8074-0190-4BE7-A252-69FCF43A7A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"/>
          <p:cNvSpPr/>
          <p:nvPr/>
        </p:nvSpPr>
        <p:spPr>
          <a:xfrm>
            <a:off x="1957680" y="2357280"/>
            <a:ext cx="587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f0"/>
                </a:solidFill>
                <a:latin typeface="Arial"/>
              </a:rPr>
              <a:t>Dragon passport</a:t>
            </a:r>
            <a:r>
              <a:rPr b="0" lang="en-US" sz="1800" spc="-1" strike="noStrike">
                <a:solidFill>
                  <a:srgbClr val="57231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4214880" y="4714920"/>
            <a:ext cx="1324080" cy="1428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4071960" y="214200"/>
            <a:ext cx="1428840" cy="12668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1214280" y="1214280"/>
            <a:ext cx="1428840" cy="1276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7286760" y="928800"/>
            <a:ext cx="1228680" cy="1428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5"/>
          <a:stretch/>
        </p:blipFill>
        <p:spPr>
          <a:xfrm>
            <a:off x="1214280" y="4071960"/>
            <a:ext cx="1352880" cy="1428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6"/>
          <a:stretch/>
        </p:blipFill>
        <p:spPr>
          <a:xfrm>
            <a:off x="7143840" y="37861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ragon passport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ge: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4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lour: Green and yellow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ves: in the  forest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as got:  a long tail, three  heads, small  wings, short leg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:  fly,  jump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racteristics:  funny,  kind  and beautifu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6500880" y="2214720"/>
            <a:ext cx="1876320" cy="2000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6572160" y="285840"/>
            <a:ext cx="1690920" cy="1928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3"/>
          <a:stretch/>
        </p:blipFill>
        <p:spPr>
          <a:xfrm>
            <a:off x="6429240" y="4286160"/>
            <a:ext cx="1857600" cy="16430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9"/>
          <p:cNvSpPr/>
          <p:nvPr/>
        </p:nvSpPr>
        <p:spPr>
          <a:xfrm>
            <a:off x="5857920" y="142884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0"/>
          <p:cNvSpPr/>
          <p:nvPr/>
        </p:nvSpPr>
        <p:spPr>
          <a:xfrm>
            <a:off x="5862240" y="30002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1"/>
          <p:cNvSpPr/>
          <p:nvPr/>
        </p:nvSpPr>
        <p:spPr>
          <a:xfrm>
            <a:off x="5151240" y="51436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y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ragon passport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ge:17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lour: dark blue,  orange and purp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ves: in the  garden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as got:  a long and beautiful tail, big wings, short leg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:  fly fast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racteristics: big, like butterfly and beautifu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6429240" y="2857680"/>
            <a:ext cx="1785960" cy="17143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6429240" y="492912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"/>
          <p:cNvPicPr/>
          <p:nvPr/>
        </p:nvPicPr>
        <p:blipFill>
          <a:blip r:embed="rId3"/>
          <a:stretch/>
        </p:blipFill>
        <p:spPr>
          <a:xfrm>
            <a:off x="6429240" y="857160"/>
            <a:ext cx="1928880" cy="185760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3"/>
          <p:cNvSpPr/>
          <p:nvPr/>
        </p:nvSpPr>
        <p:spPr>
          <a:xfrm>
            <a:off x="5292360" y="1571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n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4"/>
          <p:cNvSpPr/>
          <p:nvPr/>
        </p:nvSpPr>
        <p:spPr>
          <a:xfrm>
            <a:off x="5355720" y="32860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n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5"/>
          <p:cNvSpPr/>
          <p:nvPr/>
        </p:nvSpPr>
        <p:spPr>
          <a:xfrm>
            <a:off x="5149080" y="58579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1:10:23Z</dcterms:created>
  <dc:creator>Алена</dc:creator>
  <dc:description/>
  <dc:language>en-US</dc:language>
  <cp:lastModifiedBy>User</cp:lastModifiedBy>
  <dcterms:modified xsi:type="dcterms:W3CDTF">2012-02-02T15:44:52Z</dcterms:modified>
  <cp:revision>71</cp:revision>
  <dc:subject/>
  <dc:title>Слайд 1</dc:title>
</cp:coreProperties>
</file>